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3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4.jpeg" ContentType="image/jpeg"/>
  <Override PartName="/ppt/media/image25.jpeg" ContentType="image/jpeg"/>
  <Override PartName="/ppt/media/image3.jpeg" ContentType="image/jpeg"/>
  <Override PartName="/ppt/media/image24.png" ContentType="image/png"/>
  <Override PartName="/ppt/media/image18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6.png" ContentType="image/png"/>
  <Override PartName="/ppt/media/image14.jpeg" ContentType="image/jpeg"/>
  <Override PartName="/ppt/media/image2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4960" y="272880"/>
            <a:ext cx="8166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4600" y="1247400"/>
            <a:ext cx="8164440" cy="225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4600" y="3713400"/>
            <a:ext cx="8164440" cy="225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4960" y="272880"/>
            <a:ext cx="8166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4600" y="1247400"/>
            <a:ext cx="3984120" cy="225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18160" y="1247400"/>
            <a:ext cx="3984120" cy="225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34600" y="3713400"/>
            <a:ext cx="3984120" cy="225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18160" y="3713400"/>
            <a:ext cx="3984120" cy="225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34960" y="272880"/>
            <a:ext cx="8166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34600" y="1247400"/>
            <a:ext cx="2628720" cy="225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95080" y="1247400"/>
            <a:ext cx="2628720" cy="225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55560" y="1247400"/>
            <a:ext cx="2628720" cy="225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34600" y="3713400"/>
            <a:ext cx="2628720" cy="225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95080" y="3713400"/>
            <a:ext cx="2628720" cy="225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55560" y="3713400"/>
            <a:ext cx="2628720" cy="225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4960" y="272880"/>
            <a:ext cx="8166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534600" y="1247400"/>
            <a:ext cx="8164440" cy="472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38"/>
              </a:spcBef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4960" y="272880"/>
            <a:ext cx="8166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34600" y="1247400"/>
            <a:ext cx="8164440" cy="472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4960" y="272880"/>
            <a:ext cx="8166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4600" y="1247400"/>
            <a:ext cx="3984120" cy="472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18160" y="1247400"/>
            <a:ext cx="3984120" cy="472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4960" y="272880"/>
            <a:ext cx="8166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534960" y="272880"/>
            <a:ext cx="8166240" cy="32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4960" y="272880"/>
            <a:ext cx="8166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4600" y="1247400"/>
            <a:ext cx="3984120" cy="225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18160" y="1247400"/>
            <a:ext cx="3984120" cy="472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34600" y="3713400"/>
            <a:ext cx="3984120" cy="225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4960" y="272880"/>
            <a:ext cx="8166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34600" y="1247400"/>
            <a:ext cx="8164440" cy="472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38"/>
              </a:spcBef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4960" y="272880"/>
            <a:ext cx="8166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4600" y="1247400"/>
            <a:ext cx="3984120" cy="472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8160" y="1247400"/>
            <a:ext cx="3984120" cy="225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18160" y="3713400"/>
            <a:ext cx="3984120" cy="225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4960" y="272880"/>
            <a:ext cx="8166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4600" y="1247400"/>
            <a:ext cx="3984120" cy="225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18160" y="1247400"/>
            <a:ext cx="3984120" cy="225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34600" y="3713400"/>
            <a:ext cx="8164440" cy="225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4960" y="272880"/>
            <a:ext cx="8166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4600" y="1247400"/>
            <a:ext cx="8164440" cy="225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34600" y="3713400"/>
            <a:ext cx="8164440" cy="225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4960" y="272880"/>
            <a:ext cx="8166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4600" y="1247400"/>
            <a:ext cx="3984120" cy="225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18160" y="1247400"/>
            <a:ext cx="3984120" cy="225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34600" y="3713400"/>
            <a:ext cx="3984120" cy="225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18160" y="3713400"/>
            <a:ext cx="3984120" cy="225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4960" y="272880"/>
            <a:ext cx="8166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34600" y="1247400"/>
            <a:ext cx="2628720" cy="225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95080" y="1247400"/>
            <a:ext cx="2628720" cy="225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55560" y="1247400"/>
            <a:ext cx="2628720" cy="225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34600" y="3713400"/>
            <a:ext cx="2628720" cy="225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95080" y="3713400"/>
            <a:ext cx="2628720" cy="225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55560" y="3713400"/>
            <a:ext cx="2628720" cy="225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4960" y="272880"/>
            <a:ext cx="8166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4600" y="1247400"/>
            <a:ext cx="8164440" cy="472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4960" y="272880"/>
            <a:ext cx="8166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4600" y="1247400"/>
            <a:ext cx="3984120" cy="472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18160" y="1247400"/>
            <a:ext cx="3984120" cy="472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4960" y="272880"/>
            <a:ext cx="8166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34960" y="272880"/>
            <a:ext cx="8166240" cy="32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4960" y="272880"/>
            <a:ext cx="8166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34600" y="1247400"/>
            <a:ext cx="3984120" cy="225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18160" y="1247400"/>
            <a:ext cx="3984120" cy="472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34600" y="3713400"/>
            <a:ext cx="3984120" cy="225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4960" y="272880"/>
            <a:ext cx="8166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34600" y="1247400"/>
            <a:ext cx="3984120" cy="472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18160" y="1247400"/>
            <a:ext cx="3984120" cy="225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8160" y="3713400"/>
            <a:ext cx="3984120" cy="225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4960" y="272880"/>
            <a:ext cx="8166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34600" y="1247400"/>
            <a:ext cx="3984120" cy="225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8160" y="1247400"/>
            <a:ext cx="3984120" cy="225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34600" y="3713400"/>
            <a:ext cx="8164440" cy="225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4960" y="272880"/>
            <a:ext cx="8166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4600" y="1247400"/>
            <a:ext cx="8164440" cy="472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571680" indent="-324000">
              <a:spcBef>
                <a:spcPts val="1001"/>
              </a:spcBef>
              <a:spcAft>
                <a:spcPts val="1001"/>
              </a:spcAft>
              <a:buClr>
                <a:srgbClr val="0000cc"/>
              </a:buClr>
              <a:buFont typeface="Wingdings" charset="2"/>
              <a:buChar char="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028880" indent="-293760">
              <a:spcBef>
                <a:spcPts val="1001"/>
              </a:spcBef>
              <a:spcAft>
                <a:spcPts val="1001"/>
              </a:spcAft>
              <a:buClr>
                <a:srgbClr val="0000cc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3" marL="1620720" indent="-315720">
              <a:spcBef>
                <a:spcPts val="1001"/>
              </a:spcBef>
              <a:spcAft>
                <a:spcPts val="1001"/>
              </a:spcAft>
              <a:buClr>
                <a:srgbClr val="0000cc"/>
              </a:buClr>
              <a:buFont typeface="Tahom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2075040" indent="-339840">
              <a:spcBef>
                <a:spcPts val="1001"/>
              </a:spcBef>
              <a:spcAft>
                <a:spcPts val="1001"/>
              </a:spcAft>
              <a:buClr>
                <a:srgbClr val="0000cc"/>
              </a:buClr>
              <a:buFont typeface="Wingdings" charset="2"/>
              <a:buChar char="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2075040" indent="-339840">
              <a:spcBef>
                <a:spcPts val="1001"/>
              </a:spcBef>
              <a:spcAft>
                <a:spcPts val="1001"/>
              </a:spcAft>
              <a:buClr>
                <a:srgbClr val="000000"/>
              </a:buClr>
              <a:buFont typeface="Wingdings" charset="2"/>
              <a:buChar char="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2075040" indent="-339840">
              <a:spcBef>
                <a:spcPts val="1001"/>
              </a:spcBef>
              <a:spcAft>
                <a:spcPts val="1001"/>
              </a:spcAft>
              <a:buClr>
                <a:srgbClr val="000000"/>
              </a:buClr>
              <a:buFont typeface="Wingdings" charset="2"/>
              <a:buChar char="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45864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"/>
          <p:cNvSpPr/>
          <p:nvPr/>
        </p:nvSpPr>
        <p:spPr>
          <a:xfrm>
            <a:off x="4326840" y="6408720"/>
            <a:ext cx="87120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5EAE6-5C8D-40EF-8066-BC1E1C747A84}" type="slidenum">
              <a:rPr b="0" lang="en-US" sz="11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420840" y="6350040"/>
            <a:ext cx="2706480" cy="31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spcAft>
                <a:spcPts val="9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247680" indent="0" algn="ctr"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671400" indent="63720" algn="ctr">
              <a:spcBef>
                <a:spcPts val="1001"/>
              </a:spcBef>
              <a:spcAft>
                <a:spcPts val="1001"/>
              </a:spcAft>
              <a:buClr>
                <a:srgbClr val="0000cc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3" marL="1023840" indent="281160" algn="ctr">
              <a:spcBef>
                <a:spcPts val="1001"/>
              </a:spcBef>
              <a:spcAft>
                <a:spcPts val="1001"/>
              </a:spcAft>
              <a:buClr>
                <a:srgbClr val="0000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341360" indent="393840" algn="ctr">
              <a:spcBef>
                <a:spcPts val="1001"/>
              </a:spcBef>
              <a:spcAft>
                <a:spcPts val="1001"/>
              </a:spcAft>
              <a:buClr>
                <a:srgbClr val="0000cc"/>
              </a:buClr>
              <a:buFont typeface="Wingdings" charset="2"/>
              <a:buChar char="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341360" indent="393840">
              <a:spcBef>
                <a:spcPts val="40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341360" indent="393840">
              <a:spcBef>
                <a:spcPts val="40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2184480" y="4110120"/>
            <a:ext cx="490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How to Succ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"/>
          <p:cNvSpPr/>
          <p:nvPr/>
        </p:nvSpPr>
        <p:spPr>
          <a:xfrm>
            <a:off x="463680" y="6172200"/>
            <a:ext cx="8229600" cy="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"/>
          <p:cNvSpPr/>
          <p:nvPr/>
        </p:nvSpPr>
        <p:spPr>
          <a:xfrm>
            <a:off x="46656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"/>
          <p:cNvSpPr/>
          <p:nvPr/>
        </p:nvSpPr>
        <p:spPr>
          <a:xfrm>
            <a:off x="2184480" y="1525680"/>
            <a:ext cx="4902120" cy="197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cc"/>
            </a:solidFill>
            <a:miter/>
          </a:ln>
          <a:effectLst>
            <a:outerShdw dist="53966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"/>
          <p:cNvSpPr/>
          <p:nvPr/>
        </p:nvSpPr>
        <p:spPr>
          <a:xfrm>
            <a:off x="2583000" y="4929120"/>
            <a:ext cx="410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a 15 point plan…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34960" y="272880"/>
            <a:ext cx="8166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to Succ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738440" y="1338120"/>
            <a:ext cx="6960960" cy="464508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rcRect l="0" t="0" r="57928" b="0"/>
          <a:stretch/>
        </p:blipFill>
        <p:spPr>
          <a:xfrm>
            <a:off x="630360" y="1338120"/>
            <a:ext cx="4041720" cy="466092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06480" y="4092120"/>
            <a:ext cx="4602240" cy="1551240"/>
          </a:xfrm>
          <a:prstGeom prst="rect">
            <a:avLst/>
          </a:prstGeom>
          <a:solidFill>
            <a:srgbClr val="ede0a9">
              <a:alpha val="35000"/>
            </a:srgbClr>
          </a:solidFill>
          <a:ln w="9360">
            <a:solidFill>
              <a:srgbClr val="ffffff"/>
            </a:solidFill>
            <a:miter/>
          </a:ln>
        </p:spPr>
        <p:txBody>
          <a:bodyPr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Be on tim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Try to arrive few minutes early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It saves you from stress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You'll be much relaxed &amp; work better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>
            <a:off x="2752560" y="1911240"/>
            <a:ext cx="1576440" cy="238608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 rot="5400000">
            <a:off x="6412320" y="83160"/>
            <a:ext cx="128520" cy="63720"/>
          </a:xfrm>
          <a:prstGeom prst="triangle">
            <a:avLst>
              <a:gd name="adj" fmla="val 50000"/>
            </a:avLst>
          </a:prstGeom>
          <a:solidFill>
            <a:srgbClr val="82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560" bIns="-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"/>
          <p:cNvSpPr/>
          <p:nvPr/>
        </p:nvSpPr>
        <p:spPr>
          <a:xfrm>
            <a:off x="6617880" y="22320"/>
            <a:ext cx="1989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1 2 3 4 5 6 7 8 </a:t>
            </a:r>
            <a:r>
              <a:rPr b="1" lang="en-US" sz="1200" spc="-1" strike="noStrike">
                <a:solidFill>
                  <a:srgbClr val="820000"/>
                </a:solidFill>
                <a:latin typeface="Tahoma"/>
              </a:rPr>
              <a:t>9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10 11 12 13 14 15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9" name=""/>
          <p:cNvGrpSpPr/>
          <p:nvPr/>
        </p:nvGrpSpPr>
        <p:grpSpPr>
          <a:xfrm>
            <a:off x="630360" y="1531800"/>
            <a:ext cx="4781520" cy="4502160"/>
            <a:chOff x="630360" y="1531800"/>
            <a:chExt cx="4781520" cy="4502160"/>
          </a:xfrm>
        </p:grpSpPr>
        <p:sp>
          <p:nvSpPr>
            <p:cNvPr id="150" name=""/>
            <p:cNvSpPr/>
            <p:nvPr/>
          </p:nvSpPr>
          <p:spPr>
            <a:xfrm>
              <a:off x="934920" y="1836360"/>
              <a:ext cx="4476960" cy="4197600"/>
            </a:xfrm>
            <a:prstGeom prst="rect">
              <a:avLst/>
            </a:prstGeom>
            <a:solidFill>
              <a:srgbClr val="dfcb9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82640" y="1684080"/>
              <a:ext cx="4476600" cy="4197240"/>
            </a:xfrm>
            <a:prstGeom prst="rect">
              <a:avLst/>
            </a:prstGeom>
            <a:solidFill>
              <a:srgbClr val="dfcb9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30360" y="1531800"/>
              <a:ext cx="4476600" cy="4197240"/>
            </a:xfrm>
            <a:prstGeom prst="rect">
              <a:avLst/>
            </a:prstGeom>
            <a:solidFill>
              <a:srgbClr val="dfcb9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4960" y="272880"/>
            <a:ext cx="8166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to Succ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rcRect l="0" t="0" r="11600" b="0"/>
          <a:stretch/>
        </p:blipFill>
        <p:spPr>
          <a:xfrm>
            <a:off x="5402160" y="1338120"/>
            <a:ext cx="3289320" cy="4681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1214280" y="2163600"/>
            <a:ext cx="4413240" cy="2948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04560" y="4271760"/>
            <a:ext cx="4422600" cy="1174680"/>
          </a:xfrm>
          <a:prstGeom prst="rect">
            <a:avLst/>
          </a:prstGeom>
          <a:solidFill>
            <a:srgbClr val="d7d9cd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trive your best to keep a deadlin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If you cannot meet it, then apologize &amp; ask for an extens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 rot="5400000">
            <a:off x="6412320" y="83160"/>
            <a:ext cx="128520" cy="63720"/>
          </a:xfrm>
          <a:prstGeom prst="triangle">
            <a:avLst>
              <a:gd name="adj" fmla="val 50000"/>
            </a:avLst>
          </a:prstGeom>
          <a:solidFill>
            <a:srgbClr val="82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560" bIns="-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"/>
          <p:cNvSpPr/>
          <p:nvPr/>
        </p:nvSpPr>
        <p:spPr>
          <a:xfrm>
            <a:off x="6623640" y="22320"/>
            <a:ext cx="2004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1 2 3 4 5 6 7 8 9 </a:t>
            </a:r>
            <a:r>
              <a:rPr b="1" lang="en-US" sz="1200" spc="-1" strike="noStrike">
                <a:solidFill>
                  <a:srgbClr val="820000"/>
                </a:solidFill>
                <a:latin typeface="Tahoma"/>
              </a:rPr>
              <a:t>10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11 12 13 14 15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630360" y="1330200"/>
            <a:ext cx="8059680" cy="4657680"/>
          </a:xfrm>
          <a:prstGeom prst="rect">
            <a:avLst/>
          </a:prstGeom>
          <a:solidFill>
            <a:srgbClr val="f8c8ef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4960" y="272880"/>
            <a:ext cx="8166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to Succ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"/>
          <p:cNvSpPr/>
          <p:nvPr/>
        </p:nvSpPr>
        <p:spPr>
          <a:xfrm>
            <a:off x="853920" y="1873080"/>
            <a:ext cx="7324920" cy="3656160"/>
          </a:xfrm>
          <a:prstGeom prst="rect">
            <a:avLst/>
          </a:prstGeom>
          <a:noFill/>
          <a:ln w="444600">
            <a:solidFill>
              <a:srgbClr val="f8c8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4086360" y="3017880"/>
            <a:ext cx="454644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If some people are unhappy with you, it's their problem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But always strive to give your best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"/>
          <p:cNvSpPr/>
          <p:nvPr/>
        </p:nvSpPr>
        <p:spPr>
          <a:xfrm>
            <a:off x="3260880" y="2763720"/>
            <a:ext cx="3971880" cy="166680"/>
          </a:xfrm>
          <a:custGeom>
            <a:avLst/>
            <a:gdLst/>
            <a:ahLst/>
            <a:rect l="l" t="t" r="r" b="b"/>
            <a:pathLst>
              <a:path w="1973" h="88">
                <a:moveTo>
                  <a:pt x="0" y="0"/>
                </a:moveTo>
                <a:lnTo>
                  <a:pt x="1862" y="0"/>
                </a:lnTo>
                <a:lnTo>
                  <a:pt x="1973" y="88"/>
                </a:lnTo>
                <a:lnTo>
                  <a:pt x="0" y="88"/>
                </a:lnTo>
                <a:lnTo>
                  <a:pt x="0" y="0"/>
                </a:lnTo>
                <a:close/>
              </a:path>
            </a:pathLst>
          </a:custGeom>
          <a:solidFill>
            <a:srgbClr val="eca2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639720" y="2855880"/>
            <a:ext cx="3403800" cy="27226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417480" y="2489040"/>
            <a:ext cx="384804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40000"/>
                </a:solidFill>
                <a:latin typeface="Tahoma"/>
              </a:rPr>
              <a:t>Don't take things personally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"/>
          <p:cNvSpPr/>
          <p:nvPr/>
        </p:nvSpPr>
        <p:spPr>
          <a:xfrm rot="5400000">
            <a:off x="6412320" y="83160"/>
            <a:ext cx="128520" cy="63720"/>
          </a:xfrm>
          <a:prstGeom prst="triangle">
            <a:avLst>
              <a:gd name="adj" fmla="val 50000"/>
            </a:avLst>
          </a:prstGeom>
          <a:solidFill>
            <a:srgbClr val="82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560" bIns="-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"/>
          <p:cNvSpPr/>
          <p:nvPr/>
        </p:nvSpPr>
        <p:spPr>
          <a:xfrm>
            <a:off x="6623640" y="22320"/>
            <a:ext cx="2004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1 2 3 4 5 6 7 8 9 10 </a:t>
            </a:r>
            <a:r>
              <a:rPr b="1" lang="en-US" sz="1200" spc="-1" strike="noStrike">
                <a:solidFill>
                  <a:srgbClr val="820000"/>
                </a:solidFill>
                <a:latin typeface="Tahoma"/>
              </a:rPr>
              <a:t>11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12 13 14 15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34960" y="272880"/>
            <a:ext cx="8166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to Succ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1461960" y="734400"/>
            <a:ext cx="6959160" cy="5410440"/>
            <a:chOff x="1461960" y="734400"/>
            <a:chExt cx="6959160" cy="5410440"/>
          </a:xfrm>
        </p:grpSpPr>
        <p:sp>
          <p:nvSpPr>
            <p:cNvPr id="170" name=""/>
            <p:cNvSpPr/>
            <p:nvPr/>
          </p:nvSpPr>
          <p:spPr>
            <a:xfrm rot="20637000">
              <a:off x="1830960" y="1528200"/>
              <a:ext cx="6231960" cy="346896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e1e8f3">
                    <a:alpha val="0"/>
                  </a:srgbClr>
                </a:gs>
                <a:gs pos="100000">
                  <a:srgbClr val="b1c3e1"/>
                </a:gs>
              </a:gsLst>
              <a:lin ang="1183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20637000">
              <a:off x="1828800" y="1598760"/>
              <a:ext cx="6231960" cy="346896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e1e8f3">
                    <a:alpha val="0"/>
                  </a:srgbClr>
                </a:gs>
                <a:gs pos="100000">
                  <a:srgbClr val="b1c3e1"/>
                </a:gs>
              </a:gsLst>
              <a:lin ang="1183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20637000">
              <a:off x="1826640" y="1670400"/>
              <a:ext cx="6233040" cy="346752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e1e8f3">
                    <a:alpha val="0"/>
                  </a:srgbClr>
                </a:gs>
                <a:gs pos="100000">
                  <a:srgbClr val="b1c3e1"/>
                </a:gs>
              </a:gsLst>
              <a:lin ang="1183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20637000">
              <a:off x="1824480" y="1740240"/>
              <a:ext cx="6233400" cy="34678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e1e8f3">
                    <a:alpha val="0"/>
                  </a:srgbClr>
                </a:gs>
                <a:gs pos="100000">
                  <a:srgbClr val="b1c3e1"/>
                </a:gs>
              </a:gsLst>
              <a:lin ang="1183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4" name=""/>
            <p:cNvSpPr/>
            <p:nvPr/>
          </p:nvSpPr>
          <p:spPr>
            <a:xfrm rot="20637000">
              <a:off x="1821960" y="1811160"/>
              <a:ext cx="6231960" cy="346896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e1e8f3">
                    <a:alpha val="0"/>
                  </a:srgbClr>
                </a:gs>
                <a:gs pos="100000">
                  <a:srgbClr val="b1c3e1"/>
                </a:gs>
              </a:gsLst>
              <a:lin ang="1183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5" name=""/>
            <p:cNvSpPr/>
            <p:nvPr/>
          </p:nvSpPr>
          <p:spPr>
            <a:xfrm rot="20637000">
              <a:off x="1819800" y="1882800"/>
              <a:ext cx="6233040" cy="346752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e1e8f3">
                    <a:alpha val="0"/>
                  </a:srgbClr>
                </a:gs>
                <a:gs pos="100000">
                  <a:srgbClr val="b1c3e1"/>
                </a:gs>
              </a:gsLst>
              <a:lin ang="1183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623880" y="1338120"/>
            <a:ext cx="3592440" cy="481176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 txBox="1"/>
          <p:nvPr/>
        </p:nvSpPr>
        <p:spPr>
          <a:xfrm>
            <a:off x="3606480" y="2604960"/>
            <a:ext cx="4729680" cy="1113120"/>
          </a:xfrm>
          <a:prstGeom prst="rect">
            <a:avLst/>
          </a:prstGeom>
          <a:solidFill>
            <a:srgbClr val="304d7c">
              <a:alpha val="5000"/>
            </a:srgbClr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68436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20000"/>
                </a:solidFill>
                <a:latin typeface="Tahoma"/>
              </a:rPr>
              <a:t>If you must correct someone,</a:t>
            </a:r>
            <a:br>
              <a:rPr sz="1800"/>
            </a:br>
            <a:r>
              <a:rPr b="1" lang="en-US" sz="1800" spc="-1" strike="noStrike">
                <a:solidFill>
                  <a:srgbClr val="820000"/>
                </a:solidFill>
                <a:latin typeface="Tahoma"/>
              </a:rPr>
              <a:t>don't get personal about it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8436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20000"/>
                </a:solidFill>
                <a:latin typeface="Tahoma"/>
              </a:rPr>
              <a:t>Do it never in front of other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"/>
          <p:cNvSpPr/>
          <p:nvPr/>
        </p:nvSpPr>
        <p:spPr>
          <a:xfrm rot="5400000">
            <a:off x="6412320" y="83160"/>
            <a:ext cx="128520" cy="63720"/>
          </a:xfrm>
          <a:prstGeom prst="triangle">
            <a:avLst>
              <a:gd name="adj" fmla="val 50000"/>
            </a:avLst>
          </a:prstGeom>
          <a:solidFill>
            <a:srgbClr val="82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560" bIns="-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623640" y="22320"/>
            <a:ext cx="2004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1 2 3 4 5 6 7 8 9 10 11 </a:t>
            </a:r>
            <a:r>
              <a:rPr b="1" lang="en-US" sz="1200" spc="-1" strike="noStrike">
                <a:solidFill>
                  <a:srgbClr val="820000"/>
                </a:solidFill>
                <a:latin typeface="Tahoma"/>
              </a:rPr>
              <a:t>12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13 14 15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3384720" y="3673440"/>
            <a:ext cx="72720" cy="1674720"/>
          </a:xfrm>
          <a:prstGeom prst="rect">
            <a:avLst/>
          </a:prstGeom>
          <a:solidFill>
            <a:srgbClr val="c3ca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"/>
          <p:cNvSpPr/>
          <p:nvPr/>
        </p:nvSpPr>
        <p:spPr>
          <a:xfrm>
            <a:off x="4554360" y="1676520"/>
            <a:ext cx="73080" cy="3671640"/>
          </a:xfrm>
          <a:prstGeom prst="rect">
            <a:avLst/>
          </a:prstGeom>
          <a:solidFill>
            <a:srgbClr val="c3ca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319640" y="2097000"/>
            <a:ext cx="73080" cy="3251160"/>
          </a:xfrm>
          <a:prstGeom prst="rect">
            <a:avLst/>
          </a:prstGeom>
          <a:solidFill>
            <a:srgbClr val="c3ca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"/>
          <p:cNvSpPr/>
          <p:nvPr/>
        </p:nvSpPr>
        <p:spPr>
          <a:xfrm>
            <a:off x="4086360" y="2503440"/>
            <a:ext cx="72720" cy="2844720"/>
          </a:xfrm>
          <a:prstGeom prst="rect">
            <a:avLst/>
          </a:prstGeom>
          <a:solidFill>
            <a:srgbClr val="c3ca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"/>
          <p:cNvSpPr/>
          <p:nvPr/>
        </p:nvSpPr>
        <p:spPr>
          <a:xfrm>
            <a:off x="3851280" y="2900520"/>
            <a:ext cx="73080" cy="2447640"/>
          </a:xfrm>
          <a:prstGeom prst="rect">
            <a:avLst/>
          </a:prstGeom>
          <a:solidFill>
            <a:srgbClr val="c3ca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"/>
          <p:cNvSpPr/>
          <p:nvPr/>
        </p:nvSpPr>
        <p:spPr>
          <a:xfrm>
            <a:off x="3618000" y="3336840"/>
            <a:ext cx="73080" cy="2011320"/>
          </a:xfrm>
          <a:prstGeom prst="rect">
            <a:avLst/>
          </a:prstGeom>
          <a:solidFill>
            <a:srgbClr val="c3ca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4960" y="272880"/>
            <a:ext cx="8166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to Succ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4794120" y="1338120"/>
            <a:ext cx="3905280" cy="481644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622440" y="1676520"/>
            <a:ext cx="4921200" cy="3671640"/>
          </a:xfrm>
          <a:prstGeom prst="rect">
            <a:avLst/>
          </a:prstGeom>
          <a:gradFill rotWithShape="0">
            <a:gsLst>
              <a:gs pos="0">
                <a:srgbClr val="fefefe">
                  <a:alpha val="64313"/>
                </a:srgbClr>
              </a:gs>
              <a:gs pos="100000">
                <a:srgbClr val="c3ca96">
                  <a:alpha val="64313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pend some time alone everyday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What's the mission of my life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What do I want to be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nd how to go about it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3998880" y="2681280"/>
            <a:ext cx="2254320" cy="336384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 rot="5400000">
            <a:off x="6412320" y="83160"/>
            <a:ext cx="128520" cy="63720"/>
          </a:xfrm>
          <a:prstGeom prst="triangle">
            <a:avLst>
              <a:gd name="adj" fmla="val 50000"/>
            </a:avLst>
          </a:prstGeom>
          <a:solidFill>
            <a:srgbClr val="82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560" bIns="-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"/>
          <p:cNvSpPr/>
          <p:nvPr/>
        </p:nvSpPr>
        <p:spPr>
          <a:xfrm>
            <a:off x="6623640" y="22320"/>
            <a:ext cx="2004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1 2 3 4 5 6 7 8 9 10 11 12 </a:t>
            </a:r>
            <a:r>
              <a:rPr b="1" lang="en-US" sz="1200" spc="-1" strike="noStrike">
                <a:solidFill>
                  <a:srgbClr val="820000"/>
                </a:solidFill>
                <a:latin typeface="Tahoma"/>
              </a:rPr>
              <a:t>13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14 15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 flipH="1" flipV="1">
            <a:off x="5195160" y="2569320"/>
            <a:ext cx="3492360" cy="498600"/>
          </a:xfrm>
          <a:custGeom>
            <a:avLst/>
            <a:gdLst/>
            <a:ahLst/>
            <a:rect l="l" t="t" r="r" b="b"/>
            <a:pathLst>
              <a:path w="2334" h="314">
                <a:moveTo>
                  <a:pt x="2334" y="12"/>
                </a:moveTo>
                <a:lnTo>
                  <a:pt x="2334" y="314"/>
                </a:lnTo>
                <a:lnTo>
                  <a:pt x="0" y="314"/>
                </a:lnTo>
                <a:lnTo>
                  <a:pt x="0" y="210"/>
                </a:lnTo>
                <a:lnTo>
                  <a:pt x="2206" y="210"/>
                </a:lnTo>
                <a:lnTo>
                  <a:pt x="2206" y="0"/>
                </a:lnTo>
                <a:lnTo>
                  <a:pt x="2334" y="12"/>
                </a:lnTo>
                <a:close/>
              </a:path>
            </a:pathLst>
          </a:custGeom>
          <a:gradFill rotWithShape="0">
            <a:gsLst>
              <a:gs pos="0">
                <a:srgbClr val="8fb8fb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34960" y="272880"/>
            <a:ext cx="8166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to Succ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702000" y="1411920"/>
            <a:ext cx="7913880" cy="905040"/>
          </a:xfrm>
          <a:prstGeom prst="rect">
            <a:avLst/>
          </a:prstGeom>
          <a:solidFill>
            <a:srgbClr val="b3d9ff"/>
          </a:solidFill>
          <a:ln w="9360">
            <a:solidFill>
              <a:srgbClr val="000000"/>
            </a:solidFill>
            <a:miter/>
          </a:ln>
          <a:effectLst>
            <a:outerShdw dist="36147" dir="2700000" blurRad="0" rotWithShape="0">
              <a:srgbClr val="526aa0"/>
            </a:outerShdw>
          </a:effectLst>
        </p:spPr>
        <p:txBody>
          <a:bodyPr lIns="90000" rIns="90000" tIns="46800" bIns="46800" anchor="ctr">
            <a:normAutofit fontScale="98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20000"/>
                </a:solidFill>
                <a:latin typeface="Tahoma"/>
              </a:rPr>
              <a:t>As you move along Plan A of your career,</a:t>
            </a:r>
            <a:br>
              <a:rPr sz="1800"/>
            </a:br>
            <a:r>
              <a:rPr b="1" lang="en-US" sz="1800" spc="-1" strike="noStrike">
                <a:solidFill>
                  <a:srgbClr val="820000"/>
                </a:solidFill>
                <a:latin typeface="Tahoma"/>
              </a:rPr>
              <a:t>maintain a Plan B as well —</a:t>
            </a:r>
            <a:br>
              <a:rPr sz="1800"/>
            </a:br>
            <a:r>
              <a:rPr b="1" lang="en-US" sz="1800" spc="-1" strike="noStrike">
                <a:solidFill>
                  <a:srgbClr val="820000"/>
                </a:solidFill>
                <a:latin typeface="Tahoma"/>
              </a:rPr>
              <a:t>an alternative course to rel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"/>
          <p:cNvSpPr/>
          <p:nvPr/>
        </p:nvSpPr>
        <p:spPr>
          <a:xfrm>
            <a:off x="457200" y="5265720"/>
            <a:ext cx="3603600" cy="498600"/>
          </a:xfrm>
          <a:custGeom>
            <a:avLst/>
            <a:gdLst/>
            <a:ahLst/>
            <a:rect l="l" t="t" r="r" b="b"/>
            <a:pathLst>
              <a:path w="2334" h="314">
                <a:moveTo>
                  <a:pt x="2334" y="12"/>
                </a:moveTo>
                <a:lnTo>
                  <a:pt x="2334" y="314"/>
                </a:lnTo>
                <a:lnTo>
                  <a:pt x="0" y="314"/>
                </a:lnTo>
                <a:lnTo>
                  <a:pt x="0" y="210"/>
                </a:lnTo>
                <a:lnTo>
                  <a:pt x="2206" y="210"/>
                </a:lnTo>
                <a:lnTo>
                  <a:pt x="2206" y="0"/>
                </a:lnTo>
                <a:lnTo>
                  <a:pt x="2334" y="12"/>
                </a:lnTo>
                <a:close/>
              </a:path>
            </a:pathLst>
          </a:custGeom>
          <a:gradFill rotWithShape="0">
            <a:gsLst>
              <a:gs pos="0">
                <a:srgbClr val="8fb8fb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2766960" y="2793960"/>
            <a:ext cx="3733920" cy="2746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97" name=""/>
          <p:cNvSpPr/>
          <p:nvPr/>
        </p:nvSpPr>
        <p:spPr>
          <a:xfrm rot="5400000">
            <a:off x="6412320" y="83160"/>
            <a:ext cx="128520" cy="63720"/>
          </a:xfrm>
          <a:prstGeom prst="triangle">
            <a:avLst>
              <a:gd name="adj" fmla="val 50000"/>
            </a:avLst>
          </a:prstGeom>
          <a:solidFill>
            <a:srgbClr val="82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560" bIns="-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"/>
          <p:cNvSpPr/>
          <p:nvPr/>
        </p:nvSpPr>
        <p:spPr>
          <a:xfrm>
            <a:off x="6623640" y="22320"/>
            <a:ext cx="2004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1 2 3 4 5 6 7 8 9 10 11 12 13 </a:t>
            </a:r>
            <a:r>
              <a:rPr b="1" lang="en-US" sz="1200" spc="-1" strike="noStrike">
                <a:solidFill>
                  <a:srgbClr val="820000"/>
                </a:solidFill>
                <a:latin typeface="Tahoma"/>
              </a:rPr>
              <a:t>14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15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34960" y="272880"/>
            <a:ext cx="8166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to Succ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625320" y="1336680"/>
            <a:ext cx="5669280" cy="465624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5800680" y="3186000"/>
            <a:ext cx="2533680" cy="2667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30360" y="1897200"/>
            <a:ext cx="8061120" cy="1635120"/>
          </a:xfrm>
          <a:prstGeom prst="rect">
            <a:avLst/>
          </a:prstGeom>
          <a:solidFill>
            <a:srgbClr val="446e3e">
              <a:alpha val="19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lways remember that the secret of success is passion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lways think big. Spread love &amp; joy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You'll have blissful years ahe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"/>
          <p:cNvSpPr/>
          <p:nvPr/>
        </p:nvSpPr>
        <p:spPr>
          <a:xfrm rot="5400000">
            <a:off x="6412320" y="83160"/>
            <a:ext cx="128520" cy="63720"/>
          </a:xfrm>
          <a:prstGeom prst="triangle">
            <a:avLst>
              <a:gd name="adj" fmla="val 50000"/>
            </a:avLst>
          </a:prstGeom>
          <a:solidFill>
            <a:srgbClr val="82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560" bIns="-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"/>
          <p:cNvSpPr/>
          <p:nvPr/>
        </p:nvSpPr>
        <p:spPr>
          <a:xfrm>
            <a:off x="6623640" y="22320"/>
            <a:ext cx="2004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1 2 3 4 5 6 7 8 9 10 11 12 13 14 </a:t>
            </a:r>
            <a:r>
              <a:rPr b="1" lang="en-US" sz="1200" spc="-1" strike="noStrike">
                <a:solidFill>
                  <a:srgbClr val="820000"/>
                </a:solidFill>
                <a:latin typeface="Tahoma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4125960" y="1338120"/>
            <a:ext cx="4573440" cy="45738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rcRect l="0" t="0" r="98235" b="0"/>
          <a:stretch/>
        </p:blipFill>
        <p:spPr>
          <a:xfrm>
            <a:off x="639720" y="1338120"/>
            <a:ext cx="3567240" cy="45738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4960" y="272880"/>
            <a:ext cx="8166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to Succ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98040" y="1593360"/>
            <a:ext cx="3537000" cy="19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n't talk negatively about people behind their backs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Tahoma"/>
              </a:rPr>
              <a:t>If you gossip, people won't confide in you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2c4"/>
                </a:solidFill>
                <a:latin typeface="Tahoma"/>
              </a:rPr>
              <a:t>Mind your own business.</a:t>
            </a:r>
            <a:r>
              <a:rPr b="0" lang="en-US" sz="1800" spc="-1" strike="noStrike">
                <a:solidFill>
                  <a:srgbClr val="0062c4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750960" y="3938760"/>
            <a:ext cx="3433680" cy="1650960"/>
            <a:chOff x="750960" y="3938760"/>
            <a:chExt cx="3433680" cy="1650960"/>
          </a:xfrm>
        </p:grpSpPr>
        <p:sp>
          <p:nvSpPr>
            <p:cNvPr id="91" name=""/>
            <p:cNvSpPr/>
            <p:nvPr/>
          </p:nvSpPr>
          <p:spPr>
            <a:xfrm>
              <a:off x="2882880" y="3938760"/>
              <a:ext cx="1301760" cy="165096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30196"/>
                  </a:srgbClr>
                </a:gs>
                <a:gs pos="100000">
                  <a:srgbClr val="fefef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00"/>
                  </a:solidFill>
                  <a:latin typeface="Tahoma"/>
                </a:rPr>
                <a:t>gossip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pic>
          <p:nvPicPr>
            <p:cNvPr id="92" name="" descr=""/>
            <p:cNvPicPr/>
            <p:nvPr/>
          </p:nvPicPr>
          <p:blipFill>
            <a:blip r:embed="rId3"/>
            <a:stretch/>
          </p:blipFill>
          <p:spPr>
            <a:xfrm>
              <a:off x="750960" y="3938760"/>
              <a:ext cx="2131920" cy="165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750960" y="3938760"/>
              <a:ext cx="3433680" cy="1650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94" name=""/>
          <p:cNvSpPr/>
          <p:nvPr/>
        </p:nvSpPr>
        <p:spPr>
          <a:xfrm rot="5400000">
            <a:off x="6412320" y="83160"/>
            <a:ext cx="128520" cy="63720"/>
          </a:xfrm>
          <a:prstGeom prst="triangle">
            <a:avLst>
              <a:gd name="adj" fmla="val 50000"/>
            </a:avLst>
          </a:prstGeom>
          <a:solidFill>
            <a:srgbClr val="82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560" bIns="-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6617880" y="22320"/>
            <a:ext cx="1989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20000"/>
                </a:solidFill>
                <a:latin typeface="Tahoma"/>
              </a:rPr>
              <a:t>1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2 3 4 5 6 7 8 9 10 11 12 13 14 15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2990880" y="2190600"/>
            <a:ext cx="5708520" cy="380844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4960" y="272880"/>
            <a:ext cx="8166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to Succ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rcRect l="0" t="0" r="0" b="95459"/>
          <a:stretch/>
        </p:blipFill>
        <p:spPr>
          <a:xfrm>
            <a:off x="2990880" y="1406520"/>
            <a:ext cx="5708520" cy="102564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6560" y="1545840"/>
            <a:ext cx="6507360" cy="728280"/>
          </a:xfrm>
          <a:prstGeom prst="rect">
            <a:avLst/>
          </a:prstGeom>
          <a:gradFill rotWithShape="0">
            <a:gsLst>
              <a:gs pos="0">
                <a:srgbClr val="b3d9ff">
                  <a:alpha val="0"/>
                </a:srgbClr>
              </a:gs>
              <a:gs pos="100000">
                <a:srgbClr val="0062c4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e99a"/>
                </a:solidFill>
                <a:latin typeface="Tahoma"/>
              </a:rPr>
              <a:t>Try to work for someone who'll challenge your power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e99a"/>
                </a:solidFill>
                <a:latin typeface="Tahoma"/>
              </a:rPr>
              <a:t>You'll learn more in a year than 4 years of colleg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3"/>
          <a:srcRect l="12519" t="0" r="12664" b="0"/>
          <a:stretch/>
        </p:blipFill>
        <p:spPr>
          <a:xfrm>
            <a:off x="933480" y="3789360"/>
            <a:ext cx="1211400" cy="22096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4"/>
          <a:stretch/>
        </p:blipFill>
        <p:spPr>
          <a:xfrm>
            <a:off x="7176960" y="593640"/>
            <a:ext cx="1270080" cy="19051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102" name=""/>
          <p:cNvSpPr/>
          <p:nvPr/>
        </p:nvSpPr>
        <p:spPr>
          <a:xfrm rot="5400000">
            <a:off x="6412320" y="83160"/>
            <a:ext cx="128520" cy="63720"/>
          </a:xfrm>
          <a:prstGeom prst="triangle">
            <a:avLst>
              <a:gd name="adj" fmla="val 50000"/>
            </a:avLst>
          </a:prstGeom>
          <a:solidFill>
            <a:srgbClr val="82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560" bIns="-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"/>
          <p:cNvSpPr/>
          <p:nvPr/>
        </p:nvSpPr>
        <p:spPr>
          <a:xfrm>
            <a:off x="6617880" y="22320"/>
            <a:ext cx="1989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1" lang="en-US" sz="1200" spc="-1" strike="noStrike">
                <a:solidFill>
                  <a:srgbClr val="820000"/>
                </a:solidFill>
                <a:latin typeface="Tahoma"/>
              </a:rPr>
              <a:t>2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3 4 5 6 7 8 9 10 11 12 13 14 15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4960" y="272880"/>
            <a:ext cx="8166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to Succ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5756400" y="1397160"/>
            <a:ext cx="2943000" cy="44161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3659040" y="2281320"/>
            <a:ext cx="2232000" cy="33573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 txBox="1"/>
          <p:nvPr/>
        </p:nvSpPr>
        <p:spPr>
          <a:xfrm>
            <a:off x="466200" y="1573200"/>
            <a:ext cx="6263280" cy="798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cc"/>
            </a:solidFill>
            <a:miter/>
          </a:ln>
          <a:effectLst>
            <a:outerShdw dist="17819" dir="2700000" blurRad="0" rotWithShape="0">
              <a:srgbClr val="0062c4"/>
            </a:outerShdw>
          </a:effectLst>
        </p:spPr>
        <p:txBody>
          <a:bodyPr lIns="90000" rIns="90000" tIns="91440" bIns="91440"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2c4"/>
                </a:solidFill>
                <a:latin typeface="Tahoma"/>
              </a:rPr>
              <a:t>Successful bosses have good communication skill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2c4"/>
                </a:solidFill>
                <a:latin typeface="Tahoma"/>
              </a:rPr>
              <a:t>They learn from people, including their employees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"/>
          <p:cNvSpPr/>
          <p:nvPr/>
        </p:nvSpPr>
        <p:spPr>
          <a:xfrm rot="5400000">
            <a:off x="6412320" y="83160"/>
            <a:ext cx="128520" cy="63720"/>
          </a:xfrm>
          <a:prstGeom prst="triangle">
            <a:avLst>
              <a:gd name="adj" fmla="val 50000"/>
            </a:avLst>
          </a:prstGeom>
          <a:solidFill>
            <a:srgbClr val="82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560" bIns="-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6617880" y="22320"/>
            <a:ext cx="1989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1 2 </a:t>
            </a:r>
            <a:r>
              <a:rPr b="1" lang="en-US" sz="1200" spc="-1" strike="noStrike">
                <a:solidFill>
                  <a:srgbClr val="820000"/>
                </a:solidFill>
                <a:latin typeface="Tahoma"/>
              </a:rPr>
              <a:t>3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4 5 6 7 8 9 10 11 12 13 14 15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4960" y="272880"/>
            <a:ext cx="8166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to Succ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34960" y="1337760"/>
            <a:ext cx="8166240" cy="4660920"/>
          </a:xfrm>
          <a:prstGeom prst="rect">
            <a:avLst/>
          </a:prstGeom>
          <a:solidFill>
            <a:srgbClr val="b3d9ff">
              <a:alpha val="30000"/>
            </a:srgbClr>
          </a:solidFill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71897"/>
                </a:solidFill>
                <a:latin typeface="Tahoma"/>
              </a:rPr>
              <a:t>Work in such a way that makes your boss look good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71897"/>
                </a:solidFill>
                <a:latin typeface="Tahoma"/>
              </a:rPr>
              <a:t>It's not flattery.</a:t>
            </a:r>
            <a:r>
              <a:rPr b="0" lang="en-US" sz="1800" spc="-1" strike="noStrike">
                <a:solidFill>
                  <a:srgbClr val="071897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2603520" y="1941480"/>
            <a:ext cx="6095880" cy="4057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6816600" y="804960"/>
            <a:ext cx="1671840" cy="2590560"/>
          </a:xfrm>
          <a:prstGeom prst="rect">
            <a:avLst/>
          </a:prstGeom>
          <a:ln w="9360">
            <a:solidFill>
              <a:srgbClr val="0062c4"/>
            </a:solidFill>
            <a:miter/>
          </a:ln>
        </p:spPr>
      </p:pic>
      <p:sp>
        <p:nvSpPr>
          <p:cNvPr id="114" name=""/>
          <p:cNvSpPr/>
          <p:nvPr/>
        </p:nvSpPr>
        <p:spPr>
          <a:xfrm rot="5400000">
            <a:off x="6412320" y="83160"/>
            <a:ext cx="128520" cy="63720"/>
          </a:xfrm>
          <a:prstGeom prst="triangle">
            <a:avLst>
              <a:gd name="adj" fmla="val 50000"/>
            </a:avLst>
          </a:prstGeom>
          <a:solidFill>
            <a:srgbClr val="82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560" bIns="-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6617880" y="22320"/>
            <a:ext cx="1989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1 2 3 </a:t>
            </a:r>
            <a:r>
              <a:rPr b="1" lang="en-US" sz="1200" spc="-1" strike="noStrike">
                <a:solidFill>
                  <a:srgbClr val="820000"/>
                </a:solidFill>
                <a:latin typeface="Tahoma"/>
              </a:rPr>
              <a:t>4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5 6 7 8 9 10 11 12 13 14 15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4960" y="272880"/>
            <a:ext cx="8166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to Succ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2674800" y="2046240"/>
            <a:ext cx="6024600" cy="39528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39360" y="1337760"/>
            <a:ext cx="4187880" cy="1328760"/>
          </a:xfrm>
          <a:prstGeom prst="rect">
            <a:avLst/>
          </a:prstGeom>
          <a:solidFill>
            <a:srgbClr val="b3d9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rmAutofit/>
          </a:bodyPr>
          <a:p>
            <a:pPr indent="0" algn="ctr">
              <a:lnSpc>
                <a:spcPct val="90000"/>
              </a:lnSpc>
              <a:spcBef>
                <a:spcPts val="561"/>
              </a:spcBef>
              <a:spcAft>
                <a:spcPts val="56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On downsizing, the first to go are those with few friends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561"/>
              </a:spcBef>
              <a:spcAft>
                <a:spcPts val="56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Bosses prefer competent people whom they respect.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"/>
          <p:cNvSpPr/>
          <p:nvPr/>
        </p:nvSpPr>
        <p:spPr>
          <a:xfrm>
            <a:off x="939960" y="2757600"/>
            <a:ext cx="1315800" cy="3238560"/>
          </a:xfrm>
          <a:prstGeom prst="rect">
            <a:avLst/>
          </a:prstGeom>
          <a:solidFill>
            <a:srgbClr val="b3d9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"/>
          <p:cNvSpPr/>
          <p:nvPr/>
        </p:nvSpPr>
        <p:spPr>
          <a:xfrm>
            <a:off x="4594320" y="1541520"/>
            <a:ext cx="4106880" cy="266760"/>
          </a:xfrm>
          <a:prstGeom prst="rect">
            <a:avLst/>
          </a:prstGeom>
          <a:solidFill>
            <a:srgbClr val="b3d9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6412320" y="83160"/>
            <a:ext cx="128520" cy="63720"/>
          </a:xfrm>
          <a:prstGeom prst="triangle">
            <a:avLst>
              <a:gd name="adj" fmla="val 50000"/>
            </a:avLst>
          </a:prstGeom>
          <a:solidFill>
            <a:srgbClr val="82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560" bIns="-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6617880" y="22320"/>
            <a:ext cx="1989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1 2 3 4 </a:t>
            </a:r>
            <a:r>
              <a:rPr b="1" lang="en-US" sz="1200" spc="-1" strike="noStrike">
                <a:solidFill>
                  <a:srgbClr val="820000"/>
                </a:solidFill>
                <a:latin typeface="Tahoma"/>
              </a:rPr>
              <a:t>5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6 7 8 9 10 11 12 13 14 15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4960" y="272880"/>
            <a:ext cx="8166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to Succ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39720" y="1337760"/>
            <a:ext cx="8059680" cy="4660920"/>
          </a:xfrm>
          <a:prstGeom prst="rect">
            <a:avLst/>
          </a:prstGeom>
          <a:solidFill>
            <a:srgbClr val="c3efef"/>
          </a:solidFill>
          <a:ln w="9360">
            <a:solidFill>
              <a:srgbClr val="000000"/>
            </a:solidFill>
            <a:miter/>
          </a:ln>
        </p:spPr>
        <p:txBody>
          <a:bodyPr tIns="182880" anchor="t">
            <a:normAutofit/>
          </a:bodyPr>
          <a:p>
            <a:pPr indent="0" algn="ctr">
              <a:spcBef>
                <a:spcPts val="788"/>
              </a:spcBef>
              <a:spcAft>
                <a:spcPts val="7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ress for the job you want,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ot the one you hav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88"/>
              </a:spcBef>
              <a:spcAft>
                <a:spcPts val="7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Let your dress reflect professionalism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2263680" y="2744640"/>
            <a:ext cx="4753080" cy="3168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126" name=""/>
          <p:cNvGrpSpPr/>
          <p:nvPr/>
        </p:nvGrpSpPr>
        <p:grpSpPr>
          <a:xfrm>
            <a:off x="939960" y="1343160"/>
            <a:ext cx="7404120" cy="4655880"/>
            <a:chOff x="939960" y="1343160"/>
            <a:chExt cx="7404120" cy="4655880"/>
          </a:xfrm>
        </p:grpSpPr>
        <p:sp>
          <p:nvSpPr>
            <p:cNvPr id="127" name=""/>
            <p:cNvSpPr/>
            <p:nvPr/>
          </p:nvSpPr>
          <p:spPr>
            <a:xfrm>
              <a:off x="939960" y="1343160"/>
              <a:ext cx="819000" cy="4655880"/>
            </a:xfrm>
            <a:prstGeom prst="rect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288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524720" y="1343160"/>
              <a:ext cx="819360" cy="4655880"/>
            </a:xfrm>
            <a:prstGeom prst="rect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288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29" name=""/>
          <p:cNvSpPr/>
          <p:nvPr/>
        </p:nvSpPr>
        <p:spPr>
          <a:xfrm rot="5400000">
            <a:off x="6412320" y="83160"/>
            <a:ext cx="128520" cy="63720"/>
          </a:xfrm>
          <a:prstGeom prst="triangle">
            <a:avLst>
              <a:gd name="adj" fmla="val 50000"/>
            </a:avLst>
          </a:prstGeom>
          <a:solidFill>
            <a:srgbClr val="82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560" bIns="-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"/>
          <p:cNvSpPr/>
          <p:nvPr/>
        </p:nvSpPr>
        <p:spPr>
          <a:xfrm>
            <a:off x="6617880" y="22320"/>
            <a:ext cx="1989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1 2 3 4 5 </a:t>
            </a:r>
            <a:r>
              <a:rPr b="1" lang="en-US" sz="1200" spc="-1" strike="noStrike">
                <a:solidFill>
                  <a:srgbClr val="820000"/>
                </a:solidFill>
                <a:latin typeface="Tahoma"/>
              </a:rPr>
              <a:t>6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7 8 9 10 11 12 13 14 15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4960" y="272880"/>
            <a:ext cx="8166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to Succ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5591160" y="1338120"/>
            <a:ext cx="3098880" cy="46609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</p:pic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39360" y="2801880"/>
            <a:ext cx="5227560" cy="1271520"/>
          </a:xfrm>
          <a:prstGeom prst="rect">
            <a:avLst/>
          </a:prstGeom>
          <a:solidFill>
            <a:srgbClr val="ede0a9"/>
          </a:solidFill>
          <a:ln w="9360">
            <a:solidFill>
              <a:srgbClr val="000000"/>
            </a:solidFill>
            <a:miter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rmAutofit/>
          </a:bodyPr>
          <a:p>
            <a:pPr indent="0" algn="ctr">
              <a:spcBef>
                <a:spcPts val="788"/>
              </a:spcBef>
              <a:spcAft>
                <a:spcPts val="7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Tahoma"/>
              </a:rPr>
              <a:t>Workout to get in good physical shap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88"/>
              </a:spcBef>
              <a:spcAft>
                <a:spcPts val="7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Tahoma"/>
              </a:rPr>
              <a:t>Unless exceptionally skilled, the unhealthy are at a comparative disadvantag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"/>
          <p:cNvSpPr/>
          <p:nvPr/>
        </p:nvSpPr>
        <p:spPr>
          <a:xfrm rot="5400000">
            <a:off x="6412320" y="83160"/>
            <a:ext cx="128520" cy="63720"/>
          </a:xfrm>
          <a:prstGeom prst="triangle">
            <a:avLst>
              <a:gd name="adj" fmla="val 50000"/>
            </a:avLst>
          </a:prstGeom>
          <a:solidFill>
            <a:srgbClr val="82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560" bIns="-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"/>
          <p:cNvSpPr/>
          <p:nvPr/>
        </p:nvSpPr>
        <p:spPr>
          <a:xfrm>
            <a:off x="6617880" y="22320"/>
            <a:ext cx="1989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1 2 3 4 5 6 </a:t>
            </a:r>
            <a:r>
              <a:rPr b="1" lang="en-US" sz="1200" spc="-1" strike="noStrike">
                <a:solidFill>
                  <a:srgbClr val="820000"/>
                </a:solidFill>
                <a:latin typeface="Tahoma"/>
              </a:rPr>
              <a:t>7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8 9 10 11 12 13 14 15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34960" y="272880"/>
            <a:ext cx="8166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to Succ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705200" y="1338120"/>
            <a:ext cx="3996000" cy="46609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rcRect l="0" t="0" r="95719" b="0"/>
          <a:stretch/>
        </p:blipFill>
        <p:spPr>
          <a:xfrm>
            <a:off x="639720" y="1338120"/>
            <a:ext cx="4237200" cy="466092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213920" y="1932120"/>
            <a:ext cx="3435480" cy="1550880"/>
          </a:xfrm>
          <a:prstGeom prst="rect">
            <a:avLst/>
          </a:prstGeom>
          <a:solidFill>
            <a:srgbClr val="ede0a9">
              <a:alpha val="20000"/>
            </a:srgbClr>
          </a:solidFill>
          <a:ln w="9360">
            <a:solidFill>
              <a:srgbClr val="ffffff"/>
            </a:solidFill>
            <a:miter/>
          </a:ln>
        </p:spPr>
        <p:txBody>
          <a:bodyPr anchor="ctr">
            <a:normAutofit fontScale="96000"/>
          </a:bodyPr>
          <a:p>
            <a:pPr indent="0" algn="ctr">
              <a:spcBef>
                <a:spcPts val="788"/>
              </a:spcBef>
              <a:spcAft>
                <a:spcPts val="7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Personal integrity is crucial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88"/>
              </a:spcBef>
              <a:spcAft>
                <a:spcPts val="7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Tell nothing but the truth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88"/>
              </a:spcBef>
              <a:spcAft>
                <a:spcPts val="7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Bosses can forgive mistakes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but if you lie, you're gon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 rot="5400000">
            <a:off x="6412320" y="83160"/>
            <a:ext cx="128520" cy="63720"/>
          </a:xfrm>
          <a:prstGeom prst="triangle">
            <a:avLst>
              <a:gd name="adj" fmla="val 50000"/>
            </a:avLst>
          </a:prstGeom>
          <a:solidFill>
            <a:srgbClr val="82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560" bIns="-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"/>
          <p:cNvSpPr/>
          <p:nvPr/>
        </p:nvSpPr>
        <p:spPr>
          <a:xfrm>
            <a:off x="6617880" y="22320"/>
            <a:ext cx="1989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1 2 3 4 5 6 7 </a:t>
            </a:r>
            <a:r>
              <a:rPr b="1" lang="en-US" sz="1200" spc="-1" strike="noStrike">
                <a:solidFill>
                  <a:srgbClr val="820000"/>
                </a:solidFill>
                <a:latin typeface="Tahoma"/>
              </a:rPr>
              <a:t>8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9 10 11 12 13 14 15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7T22:17:24Z</dcterms:created>
  <dc:creator>Roli Agarwal</dc:creator>
  <dc:description/>
  <dc:language>en-US</dc:language>
  <cp:lastModifiedBy>Arul Dev</cp:lastModifiedBy>
  <dcterms:modified xsi:type="dcterms:W3CDTF">2005-01-28T03:41:24Z</dcterms:modified>
  <cp:revision>569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3</vt:r8>
  </property>
</Properties>
</file>