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7F1-0F03-4EC8-8631-4B5568BC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F7F-E475-46FA-A1A6-46AB200C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ACE-B34B-40F6-81B3-5BF33FE5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EDD-7EEC-41DF-9A42-D3E9FE0C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CDB-DB8A-4E81-87E1-ECD4D00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4C9-44A1-4DD9-B15D-F2BBFC7C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07E-39B2-4B01-98F8-6C5B75F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D8C-D0B1-476C-8CB6-D06C50F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79D-81D0-43CE-A087-86E6419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356-FAD7-4E83-8DF2-4D0A9D9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D38-7480-4DE2-BD9B-ADC3A05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CAA-0F18-41AD-BEF5-7A3882C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E93E-59C4-48D1-9CF6-937C9BE3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879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f you could fit the entire population of the world into a village consisting of 100 peopl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taining the proportions of all the people living on Earth, that village would cons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57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21 Eu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ope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14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erican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rth, Central and Sou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8 Af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7960" y="481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ahoma"/>
              </a:rPr>
              <a:t>AND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0"/>
            <a:ext cx="78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Work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like you don’t need the money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has ever hurt yo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Danc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watch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listen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Li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s if this was paradise on Ear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666880"/>
            <a:ext cx="822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nd this message to your friend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ypass those who are determined to see the wor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rld no matter w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n’t send it, nothing will happ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 send it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might smile while they are reading it, and that will be a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280" y="100188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ND APART FROM TH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IMPLY HAVE A NIC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3049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re would b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m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48 m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aucasian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n-Caucas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rist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on-Christians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9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terosexual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mosexual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6 people would possess 59% of the wealth and they would all come from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live in povert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illiterat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suffer from hunger and malnutritio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dy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being bor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own a computer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(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es, only on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have a university degre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480" y="-85680"/>
            <a:ext cx="7942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we looked at the world in this wa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the need for acceptance and understanding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be obvious</a:t>
            </a:r>
            <a:r>
              <a:rPr b="1" lang="pl-PL" sz="2400" spc="-1" strike="noStrike">
                <a:solidFill>
                  <a:srgbClr val="ccccff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ut, consider again the follow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602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woke up this morning in good health, you have more luck than one million people, who won’t live through the we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32200" y="-12600"/>
            <a:ext cx="899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have never experienced the horror of war, the soli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f pris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he pain of tortur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were not close to death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rvation, then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you are better off than 500 million peop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560" y="152280"/>
            <a:ext cx="841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an go to your place of worship without fea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will assault or kill you, then you are lucki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billion (that’s right) peopl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f you have a full fridge, clothes on your back, a roof over your head and a place to sleep, you are wealthier than 75% of the world’s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urrently have money in the bank, in your wallet and a few coins in your purs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you are one of 8 of the privileged few amongst the 100 people in the worl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12320" y="76320"/>
            <a:ext cx="797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If your parents are still alive and still marri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you’re a rare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someone sent you this messag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ou’re extremely lucky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ecause someone is thinking of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nd because you don’t comprise one of those 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eople who can’t rea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Shelley Birnie</cp:lastModifiedBy>
  <dcterms:modified xsi:type="dcterms:W3CDTF">2008-04-03T08:43:27Z</dcterms:modified>
  <cp:revision>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