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92D-58DA-4197-9396-E5456A6E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983-8109-4DC2-9DE9-8159777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93C-0C5C-45D8-A416-B1A3E0E1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996-7D85-43D8-AEBD-09CAD5BD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265-3326-464F-83EC-2C238B63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AD8-B997-485C-B702-CFEBD2F4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212-FDE7-4BD0-B36B-194F52F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115-EEE6-4BC2-B28D-0A92ACE3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107-398F-4843-85F3-56ACAF95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642-A6DF-4CE9-A490-ACD6220E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62C-E6E4-48D3-AE9D-13CF7ACE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496-FB85-4669-BC58-BBBC6789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08A1-EE8D-4782-9A1D-45A2FEB7C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96472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 day all the employees reached the offic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they saw a big Notice on the doo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which it was written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Yesterday the person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o has been hindering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your growth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n this company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assed away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e invite you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o join the funeral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n the room that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as been prepared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n the gym.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6491160"/>
            <a:ext cx="63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uthor Unknown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 – Presentation compiled by Corn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2205000"/>
            <a:ext cx="115236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Yesterday the person </a:t>
            </a:r>
            <a:br>
              <a:rPr sz="500"/>
            </a:b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who has been hindering </a:t>
            </a:r>
            <a:br>
              <a:rPr sz="500"/>
            </a:b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your growth </a:t>
            </a:r>
            <a:br>
              <a:rPr sz="500"/>
            </a:b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in this company </a:t>
            </a:r>
            <a:br>
              <a:rPr sz="500"/>
            </a:b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passed away. </a:t>
            </a: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We invite you </a:t>
            </a:r>
            <a:br>
              <a:rPr sz="500"/>
            </a:b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to join the funeral </a:t>
            </a:r>
            <a:br>
              <a:rPr sz="500"/>
            </a:b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in the room that </a:t>
            </a:r>
            <a:br>
              <a:rPr sz="500"/>
            </a:b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has been prepared </a:t>
            </a:r>
            <a:br>
              <a:rPr sz="500"/>
            </a:br>
            <a:r>
              <a:rPr b="1" i="1" lang="en-GB" sz="500" spc="-1" strike="noStrike">
                <a:solidFill>
                  <a:srgbClr val="000000"/>
                </a:solidFill>
                <a:latin typeface="Arial"/>
              </a:rPr>
              <a:t>in the gym.”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084640"/>
            <a:ext cx="9144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xcitement in the gym was such tha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urity agents were ordered to control the crowd within the ro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more peop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ffin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more the excitement heated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15920"/>
            <a:ext cx="8820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the beginning, they all got sad for the death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one of their colleague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after a while they started getting curious to know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at man who hindered the growth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his colleagues and the company it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907920"/>
            <a:ext cx="79200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ryone though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o is this guy who was hindering my progress?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t least he died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090960"/>
            <a:ext cx="9144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505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661000"/>
            <a:ext cx="914400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w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ide the coff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one who looked inside it could see himself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3645000"/>
            <a:ext cx="88930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was also a sign next to the mirror that sai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re is only one person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o is capable to set limits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your grow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t is YOU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21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2274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ou are the only person who can revolutionise your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ou are the only person who can influence your happiness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our realisation and your suc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ou are the only person who can help your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our life does not change, when your boss changes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 your friends change, when your parents change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 your partner changes, when your company chan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our life changes when YOU change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 you go beyond your limiting beliefs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 you realize that you are the only one responsible for your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97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3619440" cy="2800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06864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xamine yourself, watch yourself,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andle yourself well in front of other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on't be afraid of difficulties, impossibilities and loss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e a winner, build yourself and your reali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he most important relationship you can have;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s the one you have with yourself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not what happens to u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's the way we choose to handle life that makes the differ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7:05:26Z</dcterms:created>
  <dc:creator>Cornelia Herrmann</dc:creator>
  <dc:description/>
  <dc:language>en-US</dc:language>
  <cp:lastModifiedBy>Cornelia Herrmann</cp:lastModifiedBy>
  <dcterms:modified xsi:type="dcterms:W3CDTF">2008-04-17T08:57:56Z</dcterms:modified>
  <cp:revision>5</cp:revision>
  <dc:subject/>
  <dc:title>Slide 1</dc:title>
</cp:coreProperties>
</file>