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6B9-F5F4-4F02-BEED-F3F6C2EB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F1C-11E6-4163-94FD-7724ABF8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7D6-D401-4A24-9CCB-D49A5AF2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64F-5DED-4162-B812-7BCFC498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187-52DA-4DA1-8285-4049EAD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A48-62FC-49BA-96F5-EDD5134A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BC1-A283-4C00-B007-D2162490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F05-5A22-4D7C-B267-AAAECF5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468-9DD9-4E17-AA06-CC122E5C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BF3-2B2F-42C8-B8BE-5BDE9771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D93-76F4-46CF-9A40-FE3061F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7ED-EEC6-4315-AB96-C1973265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37DF-4176-4347-88A3-362F4B181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7360" y="653904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funonthenet.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54560" y="38088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have more degrees, but less common s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knowledge , but less judg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58760" y="530208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have more experts, but more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medicine, but less wel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304920"/>
            <a:ext cx="2743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latin typeface="Comic Sans MS"/>
              </a:rPr>
              <a:t>We Have--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latin typeface="Comic Sans MS"/>
              <a:ea typeface="Comic Sans MS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71800" y="2602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ve from vocabulary phrases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“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one of these days 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“ someda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’s write that letter we thought of wri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“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one of these days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260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day , every hour ,  and every minute is 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you don’t know if it will be your las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2514600"/>
            <a:ext cx="7238880" cy="28954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heck out more great forwards like this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8400960" y="5981760"/>
            <a:ext cx="438120" cy="57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286000" y="304920"/>
            <a:ext cx="4572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Thanks For Watching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4495680"/>
            <a:ext cx="6781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ww.FunOnTheNet.i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21320" y="3049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e spend too reckles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ugh too li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rive too f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et to angry too quick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ay up too 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ad too li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atch TV too m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nd pray too seld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37018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multiplied our possessions, but reduce ou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talk too much, love too little and lie too o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5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’ve learned how to make living, but not a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’ve added years to life, not life to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51320" y="4427640"/>
            <a:ext cx="3816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’ve conquered outer spa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ut not inner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’ve split the a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ut not our prejud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9680" y="163440"/>
            <a:ext cx="565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have taller buildings, but shorter temp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der freeways, but narrower view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spend more, but have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buy more, enjoy it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’ve been all the way to the moon and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have trouble crossing the street to meet our neighbo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1177920"/>
            <a:ext cx="4495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 build more computers to hold more information, to produce more cop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ut have less communi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 are long on quantit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ut less in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4832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se are the time of fast foods and slow 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ll men , and short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62520" y="304920"/>
            <a:ext cx="510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leisure and less fun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kinds of foods…. but less nutr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incomes …...but more div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ncier houses … but broken h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76320" y="15228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write more, learn less, plan more, but accomplish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’ve learn to rush, but not to wai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have higher incomes , but lower mo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3049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at’s why I propose , that as of today , you do not keep anything for special occasion , because every day you live is a special occa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4676760"/>
            <a:ext cx="46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arch for knowledge , read more , sit on your front porch and admire the view without paying attention to your nee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nd more time with your family and friends , eat your favorite foods, and visit the places you love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888080" y="4813200"/>
            <a:ext cx="41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fe is a chain of moment of enjoyment, not only about survi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your crystal goblets, do not save your best perfume, and use it every time you feel you want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 rot="10800000">
            <a:off x="0" y="5437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’s tell our families and friends how much we love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 not delay anything that adds laughter and joy to your life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6-01-25T05:24:46Z</dcterms:modified>
  <cp:revision>15</cp:revision>
  <dc:subject/>
  <dc:title>We Have</dc:title>
</cp:coreProperties>
</file>