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48488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480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58480" y="693720"/>
            <a:ext cx="4629240" cy="34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5160" y="4397040"/>
            <a:ext cx="5556240" cy="4167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6"/>
          </p:nvPr>
        </p:nvSpPr>
        <p:spPr>
          <a:xfrm>
            <a:off x="-360" y="8793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7"/>
          </p:nvPr>
        </p:nvSpPr>
        <p:spPr>
          <a:xfrm>
            <a:off x="3935160" y="8793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43B1158-4CF6-420E-8F69-ECBBCBC27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5520" y="8793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826E29-87AD-4AF0-9ECE-507313AD2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5160" y="4397040"/>
            <a:ext cx="55562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5160" y="4397040"/>
            <a:ext cx="5556240" cy="4167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alk here about how SM started this business and his vision for a product company and the telecom domain. From here I move to why we got listed (to generate funds for building our products) to the first product installed and the back to back acquisitions we have done over a period of time and talk about the generic stuff like the employee base, different offices and the nationalities which work with us.. Here I talk about we are an Indian product company who believes in working with diverse culture and nationalities and do not believe in exporting from Ind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5160" y="4397040"/>
            <a:ext cx="5556240" cy="4167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 talk about what is the difference between OSS and BSS(which is self explanatory i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5160" y="4397040"/>
            <a:ext cx="5556240" cy="4167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D0B6-5E23-4E95-B8DB-99388F82E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A44F-359A-4F19-BFA2-763E4634F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6A26-895B-47F8-8633-DFC6837F2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816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440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02816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90440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5017-F7E9-4304-8E91-B5A5C437F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27600" y="914400"/>
            <a:ext cx="3353040" cy="130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7E66-C621-4400-9C9A-802F419D6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816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40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192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02816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90440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C690-9BB8-402A-A2AD-A66079BC65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AFC11-E43F-4C58-8E66-A0241F972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822BC-6E33-4F47-94B0-FB78C9E923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507A6-53FC-4BD9-874C-57BCB0A03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14B32-E305-4B20-AB99-5350B1CB8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5DCF-F402-4AD1-8F25-DC42CD9A66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27600" y="914400"/>
            <a:ext cx="3353040" cy="130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3891D-DA7F-4FBB-879B-93A1C9EE4F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3AB1-3E95-4B6D-B6A7-EFEB60B3B4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6482-34E6-4B8E-ADBC-29E8428EE1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9191-5618-47F1-9509-A9534E1C5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F8409-32B8-4CF9-BD31-8FA0838B3D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6B2A3-9687-4CF7-BC48-EDEF3A8CE5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2816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90440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192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02816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90440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AA912-0D23-4039-85D1-5E0E2BA63D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D814-0673-4078-A0C4-97BCF73225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727600" y="914400"/>
            <a:ext cx="3353040" cy="130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2816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904400" y="426708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192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102816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1904400" y="4506120"/>
            <a:ext cx="8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FF18-1C72-46A6-9ABC-5DD39823E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27600" y="914400"/>
            <a:ext cx="3353040" cy="130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3524-F130-4B3F-A021-EF021E339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A190-56B9-45B1-B625-B54079D01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9960" y="450612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7C6E-FA88-495A-BCAC-50AB7145A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79960" y="4267080"/>
            <a:ext cx="1264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506120"/>
            <a:ext cx="25909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3ACC-FD85-42F8-AF66-E09F3EE62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tur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549840"/>
            <a:ext cx="289584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Proprietary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380880" y="6566040"/>
            <a:ext cx="457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E48-8544-4B59-A48E-9A9839094B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28440" y="1143000"/>
            <a:ext cx="7591680" cy="0"/>
          </a:xfrm>
          <a:prstGeom prst="line">
            <a:avLst/>
          </a:prstGeom>
          <a:ln w="28440">
            <a:solidFill>
              <a:srgbClr val="a028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247680" y="1219320"/>
            <a:ext cx="8515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47680" y="1219320"/>
            <a:ext cx="8515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ftr" idx="3"/>
          </p:nvPr>
        </p:nvSpPr>
        <p:spPr>
          <a:xfrm>
            <a:off x="3124080" y="6549840"/>
            <a:ext cx="289584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&lt;footer&gt;</a:t>
            </a: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Proprietary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4"/>
          </p:nvPr>
        </p:nvSpPr>
        <p:spPr>
          <a:xfrm>
            <a:off x="380880" y="6566040"/>
            <a:ext cx="457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728-6275-4F99-8F6B-CF98A7BE31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40" y="1143000"/>
            <a:ext cx="7591680" cy="0"/>
          </a:xfrm>
          <a:prstGeom prst="line">
            <a:avLst/>
          </a:prstGeom>
          <a:ln w="28440">
            <a:solidFill>
              <a:srgbClr val="a028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247680" y="1219320"/>
            <a:ext cx="8515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quartered in Bangal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oneers in the concept of ROC (Revenue operation centre) which has an integrated suite of best-in class of sol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73 Subexians globally (Products Busi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60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3 in other geographies (Local Nation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20 na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About us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lobal market leader in breakthrough Operations Support Systems and Business Support Systems (OSS/BSS) solutions empowering communications service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tions Support Syste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O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the system (or systems) that perform management, inventory, engineering, planning, and repair functions for communications service providers and thei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siness Support System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B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systems related to business operations. These are customer centric and encompass the systems designed to support business processes including billing, CRM, marketing/sales support, partner management, and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We are…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651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a01e55"/>
                </a:solidFill>
                <a:latin typeface="Arial"/>
              </a:rPr>
              <a:t>Widespread industry recognition</a:t>
            </a:r>
            <a:endParaRPr b="1" lang="en-US" sz="2800" spc="-1" strike="noStrike">
              <a:solidFill>
                <a:srgbClr val="a01e55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587840"/>
            <a:ext cx="1828800" cy="612360"/>
            <a:chOff x="990720" y="4587840"/>
            <a:chExt cx="1828800" cy="6123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990720" y="4587840"/>
              <a:ext cx="18288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rcRect l="0" t="61323" r="0" b="0"/>
            <a:stretch/>
          </p:blipFill>
          <p:spPr>
            <a:xfrm>
              <a:off x="1044000" y="4951080"/>
              <a:ext cx="17154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248520" y="4602240"/>
            <a:ext cx="99036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logoittelecom" descr=""/>
          <p:cNvPicPr/>
          <p:nvPr/>
        </p:nvPicPr>
        <p:blipFill>
          <a:blip r:embed="rId4"/>
          <a:stretch/>
        </p:blipFill>
        <p:spPr>
          <a:xfrm>
            <a:off x="7391520" y="4754520"/>
            <a:ext cx="1066680" cy="228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52320" y="5248440"/>
            <a:ext cx="2395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Best Provisioning System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038480" y="4602240"/>
            <a:ext cx="1752840" cy="609120"/>
            <a:chOff x="4038480" y="4602240"/>
            <a:chExt cx="1752840" cy="60912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4038480" y="4602240"/>
              <a:ext cx="175284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"/>
            <a:srcRect l="0" t="61323" r="0" b="0"/>
            <a:stretch/>
          </p:blipFill>
          <p:spPr>
            <a:xfrm>
              <a:off x="4089600" y="4963680"/>
              <a:ext cx="164412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3548160" y="5222880"/>
            <a:ext cx="239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Best New Product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6200640" y="3149640"/>
            <a:ext cx="1828800" cy="63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19680" y="3808440"/>
            <a:ext cx="22096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  <a:ea typeface="Arial"/>
              </a:rPr>
              <a:t>TMF Operational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  <a:ea typeface="Arial"/>
              </a:rPr>
              <a:t>Excellence Award 2003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990720" y="3218040"/>
            <a:ext cx="1600200" cy="50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200640" y="3808440"/>
            <a:ext cx="2295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  <a:ea typeface="Arial"/>
              </a:rPr>
              <a:t>Operational Excellenc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822840"/>
            <a:ext cx="1739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Customer Servic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914400" y="5943600"/>
            <a:ext cx="7315200" cy="3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4024440" y="3103560"/>
            <a:ext cx="1523880" cy="750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rcRect l="4598" t="3339" r="5134" b="66803"/>
          <a:stretch/>
        </p:blipFill>
        <p:spPr>
          <a:xfrm>
            <a:off x="4103640" y="1676520"/>
            <a:ext cx="1154160" cy="763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75120" y="2422440"/>
            <a:ext cx="173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Most Promising Company 200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213520"/>
            <a:ext cx="2438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 u="sng">
                <a:solidFill>
                  <a:srgbClr val="c1272d"/>
                </a:solidFill>
                <a:uFillTx/>
                <a:latin typeface="Arial"/>
                <a:ea typeface="Arial"/>
              </a:rPr>
              <a:t>Customer Service Excellenc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2"/>
          <a:srcRect l="0" t="8444" r="77002" b="8444"/>
          <a:stretch/>
        </p:blipFill>
        <p:spPr>
          <a:xfrm>
            <a:off x="838080" y="1643040"/>
            <a:ext cx="1752840" cy="609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9200" y="2386080"/>
            <a:ext cx="24382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Tech Fast 50 India 2007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Tech Fast 500 APAC 2006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6172200" y="1735200"/>
            <a:ext cx="2743200" cy="471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248520" y="2401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1272d"/>
                </a:solidFill>
                <a:uFillTx/>
                <a:latin typeface="Arial"/>
              </a:rPr>
              <a:t>8 most Innovative Indian Companies 200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1219320"/>
            <a:ext cx="0" cy="441936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181160"/>
            <a:ext cx="0" cy="441972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"/>
          <p:cNvSpPr/>
          <p:nvPr/>
        </p:nvSpPr>
        <p:spPr>
          <a:xfrm>
            <a:off x="190440" y="4495680"/>
            <a:ext cx="8763120" cy="0"/>
          </a:xfrm>
          <a:prstGeom prst="line">
            <a:avLst/>
          </a:prstGeom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sion &amp;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liver value to excel and l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a01e55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ness. Commitment.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90440" y="152280"/>
            <a:ext cx="6896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1e55"/>
                </a:solidFill>
                <a:latin typeface="Arial"/>
              </a:rPr>
              <a:t>Vision &amp; Values</a:t>
            </a:r>
            <a:endParaRPr b="1" lang="en-US" sz="3200" spc="-1" strike="noStrike">
              <a:solidFill>
                <a:srgbClr val="a01e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27600" y="9144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5:32:51Z</dcterms:created>
  <dc:creator>shwetha.ms</dc:creator>
  <dc:description/>
  <dc:language>en-US</dc:language>
  <cp:lastModifiedBy>bharath.kumar</cp:lastModifiedBy>
  <dcterms:modified xsi:type="dcterms:W3CDTF">2010-06-16T08:46:53Z</dcterms:modified>
  <cp:revision>190</cp:revision>
  <dc:subject/>
  <dc:title>Slide 1</dc:title>
</cp:coreProperties>
</file>