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B9B-64B3-4931-93DC-8DEF415A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152-C8FB-483D-90E2-7AF24FB4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E33-D331-4B8E-BD84-378D4C96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A61-5594-4AE2-9A8F-83482B26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A0E-EEB6-4598-9DEA-FA1D72D7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344-7892-4B32-BD1E-6BE35DCE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2C2-4EFD-43F2-920F-9D954C65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083-E2CC-4883-B854-429CCA1D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88A-EBAE-47FB-8A86-6D5E5C93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9F1-81A3-4D74-8C94-A68813DD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3F1-9CAF-4249-B9EA-A7F98C14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2AA-BB2C-41CE-A92F-CE7B326C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551D-DFA6-4393-9E7F-90E07C03A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lowjob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2480" y="2362320"/>
            <a:ext cx="5959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33cc"/>
                </a:solidFill>
                <a:latin typeface="Times New Roman"/>
              </a:rPr>
              <a:t>GOTCHA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05:24:40Z</dcterms:created>
  <dc:creator>Anja Steenkamp</dc:creator>
  <dc:description/>
  <dc:language>en-US</dc:language>
  <cp:lastModifiedBy>Anja Steenkamp</cp:lastModifiedBy>
  <dcterms:modified xsi:type="dcterms:W3CDTF">2003-02-18T05:45:26Z</dcterms:modified>
  <cp:revision>1</cp:revision>
  <dc:subject/>
  <dc:title>No Slide Title</dc:title>
</cp:coreProperties>
</file>