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BA5-75D8-485E-B717-8BAADC27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18F4-B26F-48B1-A50E-F2E22A49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lucking it out, the eagle will wait for a new beak to grow back and then it will pluck out its’ ta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BF7B-064C-4B8F-B7D1-64E67A7B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s’ new talons grow back, the eagle starts plucking its’ old-aged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E945-5DB3-43AF-A954-133AA725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fter five months, the eagle takes its’ famous renewal flight and lives for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more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8BA-A894-4EE4-A09F-98798E2E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renewal 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times, we have to retreat for awhile and start a renew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tinue taking successful flights, we sometimes need to get rid of memories, habits and other past tra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freed from past burdens, can we take advantage of the valuable outcomes from a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D94-1DEE-463D-9908-043C5235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gle has the longest life-span of its’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3CA-2B7A-44A6-AB01-CD9FB9D9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A09-4B81-4F7E-8BAA-E08B4C80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its’ 4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long and flexible talons can no longer grab prey which serve as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7120-365E-4D6E-8121-95FD8B03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long and sharp beak becomes b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B7D-BF95-4A3A-8DCD-12BD2E600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’ old-aged and heavy wings, due to their thick feathers, become stuck to its’ chest and make it difficult to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8267-1E1B-4139-9BFF-9BE30DDE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1BC-D119-4F25-B15E-F7399DE6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requires that the eagle fly to a mountain top and sit on its’ n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D4C-B3D4-4F02-885B-373E7E81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the eagle knocks its’ beak against a rock until it plucks i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B9C-5D26-44F8-BA4D-5121112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D99-3D91-484C-B11E-6A66AFC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767-7E05-4D6E-8678-4AE7FF7E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208-5C88-4A38-9EB4-751E5EFC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36A-254B-41AE-BA7E-56BF8E8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199-3045-4B9C-A4E7-EF1E5FE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A55-BF28-40C5-9EAF-3299B34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9FA-7945-41F3-A13E-F5A2B2C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DD0-E33F-4891-9BF5-DD25838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831-A403-464A-AB81-256EBE8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992-C94A-4D88-8EB0-8AD9B41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E0B-823D-40D3-B374-1D4DBE0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7B8-C263-4694-950F-BB97084747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roups.yahoo.com/group/funlobby/joi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M 3x4Bkg"/>
          <p:cNvPicPr/>
          <p:nvPr/>
        </p:nvPicPr>
        <p:blipFill>
          <a:blip r:embed="rId1"/>
          <a:stretch/>
        </p:blipFill>
        <p:spPr>
          <a:xfrm>
            <a:off x="0" y="318960"/>
            <a:ext cx="914544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story of the eagle…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p:transition spd="med" advTm="10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guia na ped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90440" y="125280"/>
            <a:ext cx="8801280" cy="1739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ter plucking it out, the eagle will wait for a new beak to grow back and then it will pluck out its’ tal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75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7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eagl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190440" y="4984920"/>
            <a:ext cx="8839440" cy="1739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ts’ new talons grow back, the eagle starts plucking its’ old-aged fea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aguia voan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4730040" y="5881680"/>
            <a:ext cx="4277520" cy="82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30 mor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1360" y="125280"/>
            <a:ext cx="8915400" cy="1739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afte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ve month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the eagle takes its’ famous flight of rebirth and lives for ...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827240" y="7786800"/>
            <a:ext cx="4446720" cy="82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30 mor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years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175"/>
                            </p:stCondLst>
                            <p:childTnLst>
                              <p:par>
                                <p:cTn id="107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600200" y="1371600"/>
            <a:ext cx="58672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times, in order to surv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to start a change process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041200" y="84240"/>
            <a:ext cx="53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change needed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09480" y="2622600"/>
            <a:ext cx="7925040" cy="82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ometimes need to get rid of old memories, habits and other past tra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914400" y="4511520"/>
            <a:ext cx="7238880" cy="82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freed from past burdens, can we take advantage of th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425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925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425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5143320"/>
            <a:ext cx="171360" cy="952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093320" y="2500200"/>
            <a:ext cx="677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Love Such PPS Mails ? Join Thi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 HERE TO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agui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50920" y="5514840"/>
            <a:ext cx="889308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agle has the longest life-span of its’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águia cabeçabran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14400"/>
            <a:ext cx="914400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t to reach this age, the  eagle must make a hard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403280" y="152280"/>
            <a:ext cx="667404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can live up to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7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aguia unh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28600" y="4965840"/>
            <a:ext cx="870912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s’ long and flexible talons can no longer grab prey which serves as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54440" y="152280"/>
            <a:ext cx="2637360" cy="7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In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s’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 40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aguia dour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52280" y="152280"/>
            <a:ext cx="883944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s’ long and sharp beak becomes b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aguia na pedr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09520" y="149400"/>
            <a:ext cx="8763120" cy="1739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s’ old-aged and heavy wings, due to their thick feathers, become stuck to its’ chest and make it difficult to f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guia neve"/>
          <p:cNvPicPr/>
          <p:nvPr/>
        </p:nvPicPr>
        <p:blipFill>
          <a:blip r:embed="rId1"/>
          <a:stretch/>
        </p:blipFill>
        <p:spPr>
          <a:xfrm>
            <a:off x="-299880" y="-85680"/>
            <a:ext cx="9743760" cy="7029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5187960"/>
            <a:ext cx="9258480" cy="1556280"/>
          </a:xfrm>
          <a:prstGeom prst="rect">
            <a:avLst/>
          </a:prstGeom>
          <a:solidFill>
            <a:srgbClr val="1f497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,  the eagle is left with only two option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 go through a painful process of change which last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50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75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guia montan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65240" y="5022720"/>
            <a:ext cx="8807400" cy="1191240"/>
          </a:xfrm>
          <a:prstGeom prst="rect">
            <a:avLst/>
          </a:prstGeom>
          <a:solidFill>
            <a:srgbClr val="1f497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ocess requires that the eagle fly to a mountain top and sit on its’ n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guia na ped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52280" y="125280"/>
            <a:ext cx="883944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re the eagle knocks its’ beak against a rock until it plucks i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75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8:27Z</dcterms:created>
  <dc:creator>Origin Brasil</dc:creator>
  <dc:description/>
  <dc:language>en-US</dc:language>
  <cp:lastModifiedBy>vineet</cp:lastModifiedBy>
  <cp:lastPrinted>2002-10-10T12:12:05Z</cp:lastPrinted>
  <dcterms:modified xsi:type="dcterms:W3CDTF">2012-06-02T06:11:27Z</dcterms:modified>
  <cp:revision>73</cp:revision>
  <dc:subject/>
  <dc:title>Slide sem título </dc:title>
</cp:coreProperties>
</file>