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EE7-E444-4790-937E-417BCCB9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E07-F7CE-4A9A-9841-7AC5FA3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6B6-15F1-4D63-8925-AFBC710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7DE-9A17-4A63-A048-FA9C4956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9A1-65F4-431D-A1D5-F91D5F06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262-7009-475A-8F94-79606689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45A-C777-4848-BCFB-827FFD2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B04B-6C8E-4010-9B83-65606E1F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3324-FDCC-4F40-B6B3-1BDD2D68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03B1-555B-4345-BE6C-425DF73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EEFC-C8D2-44BB-A650-8539B42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6C1-34D0-442E-A3BC-FA371ED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CD73-5181-4D85-ADBC-5857266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712F-ABCA-4DA8-BFBB-2F9A7F0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3A36-DFC6-4EF0-8E90-1C3EBD1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0BA-F436-44A2-872B-E6F6A651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7F7-A6F6-4A48-B51C-65CC0C0B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34C-1DA6-485E-82E3-02202B7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C19-B1E2-4C14-9465-C4B6053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3FE-5BFD-47B4-B7C5-D378363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48F-4318-4BB7-A701-88FAE27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60A-BEFD-401E-BC7F-5C5A40B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43C-BEFD-4EB5-AFEB-DBE7202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6F0-BB7A-4290-95C7-D073594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CC3F-F4AB-4AD4-B6A6-AD2ADE7E1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4633-7CC0-4E0D-B04F-84C42A16B2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523880" y="1447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pperplate Gothic Bold"/>
              </a:rPr>
              <a:t>Good Karma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31240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This is a nice reading, but short. Enjoy! This is what The Dalai Lama has to say on the millennium. All it takes is a few seconds to read and think ove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352680" y="556272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3520" y="12193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Bookman Old Style"/>
              </a:rPr>
              <a:t>I N S T R U C T I O N S   F O R   L I F 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2133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Take into account that great love and great achievements involve great risk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31240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When you lose, don’t lose the lesson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7200" y="3886200"/>
            <a:ext cx="8077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  Follow the three R’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ect for self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ect for other’s an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onsibility for all your a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4010040" y="621036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447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Remember that not getting what you want is sometimes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nderful stroke of luc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3520" y="2743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. Learn the rules so you know how to break them proper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3520" y="3581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Don’t let a little dispute injure a great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80880" y="4572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. When you realize you’ve made a mistake, take immedi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eps to correct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657600" y="571500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. Spend some time alone every d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.  Open arms to change, but don’t let go of your valu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880" y="2895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. Remember that silence is sometimes the best answ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36576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ve a good, honorable life. Then when you get older 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nk back, you’ll  be able to enjoy it a second ti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5029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. A loving atmosphere in your home is the foundation f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r lif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581280" y="594360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80880" y="12952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3. In disagreements with loved ones, deal only with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situation. Don’t bring up the pas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2666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4. Share your knowledge. It’s a way to achieve immortal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80880" y="3886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. Be gentle with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88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. Once a year, go someplace you’ve never been befo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3505320" y="5867280"/>
            <a:ext cx="513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80880" y="16765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7. Remember that the best relationship is one in which y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for each other exceeds your need for each oth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0880" y="30481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udge your success by what you had to give up in or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get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80880" y="4495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. Approach love and cooking with reckless aband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276720" y="5638680"/>
            <a:ext cx="513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239220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187280" y="333360"/>
            <a:ext cx="59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more cool PPs</a:t>
            </a:r>
            <a:endParaRPr b="0" lang="en-US" sz="2400" spc="1" strike="noStrike">
              <a:ln w="0">
                <a:noFill/>
              </a:ln>
              <a:solidFill>
                <a:srgbClr val="ff5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685800" y="251460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3260880" y="3352680"/>
            <a:ext cx="413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</a:rPr>
              <a:t>Join our YAHOO gro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ick here to join 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4:20:40Z</dcterms:created>
  <dc:creator>www.funnybytes.net</dc:creator>
  <dc:description/>
  <dc:language>en-US</dc:language>
  <cp:lastModifiedBy>vineet</cp:lastModifiedBy>
  <dcterms:modified xsi:type="dcterms:W3CDTF">2012-04-16T19:18:52Z</dcterms:modified>
  <cp:revision>7</cp:revision>
  <dc:subject/>
  <dc:title>PowerPoint Presentation</dc:title>
</cp:coreProperties>
</file>