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4600" y="1247400"/>
            <a:ext cx="81644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4600" y="3713400"/>
            <a:ext cx="81644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4600" y="1247400"/>
            <a:ext cx="3984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8160" y="1247400"/>
            <a:ext cx="3984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4600" y="3713400"/>
            <a:ext cx="3984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8160" y="3713400"/>
            <a:ext cx="3984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4600" y="1247400"/>
            <a:ext cx="26287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080" y="1247400"/>
            <a:ext cx="26287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5560" y="1247400"/>
            <a:ext cx="26287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4600" y="3713400"/>
            <a:ext cx="26287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080" y="3713400"/>
            <a:ext cx="26287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5560" y="3713400"/>
            <a:ext cx="26287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4600" y="1247400"/>
            <a:ext cx="8164440" cy="472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4600" y="1247400"/>
            <a:ext cx="816444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4600" y="1247400"/>
            <a:ext cx="39841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8160" y="1247400"/>
            <a:ext cx="39841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4960" y="272880"/>
            <a:ext cx="816624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4600" y="1247400"/>
            <a:ext cx="3984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8160" y="1247400"/>
            <a:ext cx="39841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4600" y="3713400"/>
            <a:ext cx="3984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4600" y="1247400"/>
            <a:ext cx="8164440" cy="472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4600" y="1247400"/>
            <a:ext cx="39841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8160" y="1247400"/>
            <a:ext cx="3984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18160" y="3713400"/>
            <a:ext cx="3984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4600" y="1247400"/>
            <a:ext cx="3984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8160" y="1247400"/>
            <a:ext cx="3984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4600" y="3713400"/>
            <a:ext cx="81644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4600" y="1247400"/>
            <a:ext cx="81644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4600" y="3713400"/>
            <a:ext cx="81644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4600" y="1247400"/>
            <a:ext cx="3984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8160" y="1247400"/>
            <a:ext cx="3984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4600" y="3713400"/>
            <a:ext cx="3984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18160" y="3713400"/>
            <a:ext cx="3984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4600" y="1247400"/>
            <a:ext cx="26287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95080" y="1247400"/>
            <a:ext cx="26287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55560" y="1247400"/>
            <a:ext cx="26287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4600" y="3713400"/>
            <a:ext cx="26287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95080" y="3713400"/>
            <a:ext cx="26287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55560" y="3713400"/>
            <a:ext cx="26287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600" y="1247400"/>
            <a:ext cx="816444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4600" y="1247400"/>
            <a:ext cx="39841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8160" y="1247400"/>
            <a:ext cx="39841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4960" y="272880"/>
            <a:ext cx="816624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4600" y="1247400"/>
            <a:ext cx="3984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8160" y="1247400"/>
            <a:ext cx="39841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4600" y="3713400"/>
            <a:ext cx="3984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4600" y="1247400"/>
            <a:ext cx="39841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8160" y="1247400"/>
            <a:ext cx="3984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8160" y="3713400"/>
            <a:ext cx="3984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4600" y="1247400"/>
            <a:ext cx="3984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8160" y="1247400"/>
            <a:ext cx="3984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4600" y="3713400"/>
            <a:ext cx="81644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600" y="1247400"/>
            <a:ext cx="816444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71680" indent="-324000">
              <a:spcBef>
                <a:spcPts val="1001"/>
              </a:spcBef>
              <a:spcAft>
                <a:spcPts val="1001"/>
              </a:spcAft>
              <a:buClr>
                <a:srgbClr val="0000cc"/>
              </a:buClr>
              <a:buFont typeface="Wingdings" charset="2"/>
              <a:buChar char="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28880" indent="-293760">
              <a:spcBef>
                <a:spcPts val="1001"/>
              </a:spcBef>
              <a:spcAft>
                <a:spcPts val="1001"/>
              </a:spcAft>
              <a:buClr>
                <a:srgbClr val="0000cc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20720" indent="-315720">
              <a:spcBef>
                <a:spcPts val="1001"/>
              </a:spcBef>
              <a:spcAft>
                <a:spcPts val="1001"/>
              </a:spcAft>
              <a:buClr>
                <a:srgbClr val="0000cc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75040" indent="-339840">
              <a:spcBef>
                <a:spcPts val="1001"/>
              </a:spcBef>
              <a:spcAft>
                <a:spcPts val="1001"/>
              </a:spcAft>
              <a:buClr>
                <a:srgbClr val="0000cc"/>
              </a:buClr>
              <a:buFont typeface="Wingdings" charset="2"/>
              <a:buChar char="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2075040" indent="-33984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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2075040" indent="-33984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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864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"/>
          <p:cNvSpPr/>
          <p:nvPr/>
        </p:nvSpPr>
        <p:spPr>
          <a:xfrm>
            <a:off x="4326840" y="640872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CC95-FB9A-478D-A6DF-6E113C04F68B}" type="slidenum">
              <a:rPr b="0" lang="en-US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420840" y="6350040"/>
            <a:ext cx="2706480" cy="31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247680" indent="0" algn="ctr"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671400" indent="63720" algn="ctr">
              <a:spcBef>
                <a:spcPts val="1001"/>
              </a:spcBef>
              <a:spcAft>
                <a:spcPts val="1001"/>
              </a:spcAft>
              <a:buClr>
                <a:srgbClr val="0000cc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023840" indent="281160" algn="ctr">
              <a:spcBef>
                <a:spcPts val="1001"/>
              </a:spcBef>
              <a:spcAft>
                <a:spcPts val="1001"/>
              </a:spcAft>
              <a:buClr>
                <a:srgbClr val="0000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341360" indent="393840" algn="ctr">
              <a:spcBef>
                <a:spcPts val="1001"/>
              </a:spcBef>
              <a:spcAft>
                <a:spcPts val="1001"/>
              </a:spcAft>
              <a:buClr>
                <a:srgbClr val="0000cc"/>
              </a:buClr>
              <a:buFont typeface="Wingdings" charset="2"/>
              <a:buChar char="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341360" indent="393840">
              <a:spcBef>
                <a:spcPts val="40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341360" indent="393840">
              <a:spcBef>
                <a:spcPts val="40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84480" y="4110120"/>
            <a:ext cx="490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w to Succ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6172200"/>
            <a:ext cx="82296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46656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2184480" y="1525680"/>
            <a:ext cx="4902120" cy="19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2583000" y="492912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 15 point plan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Succ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38440" y="1338120"/>
            <a:ext cx="6960960" cy="4645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rcRect l="0" t="0" r="57928" b="0"/>
          <a:stretch/>
        </p:blipFill>
        <p:spPr>
          <a:xfrm>
            <a:off x="630360" y="1338120"/>
            <a:ext cx="4041720" cy="46609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06480" y="4092120"/>
            <a:ext cx="4602240" cy="1551240"/>
          </a:xfrm>
          <a:prstGeom prst="rect">
            <a:avLst/>
          </a:prstGeom>
          <a:solidFill>
            <a:srgbClr val="ede0a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 on tim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ry to arrive few minutes early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t saves you from stres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ou'll be much relaxed &amp; work bette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2752560" y="1911240"/>
            <a:ext cx="1576440" cy="2386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rot="5400000">
            <a:off x="6412320" y="83160"/>
            <a:ext cx="128520" cy="63720"/>
          </a:xfrm>
          <a:prstGeom prst="triangle">
            <a:avLst>
              <a:gd name="adj" fmla="val 50000"/>
            </a:avLst>
          </a:prstGeom>
          <a:solidFill>
            <a:srgbClr val="8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6617880" y="22320"/>
            <a:ext cx="198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 2 3 4 5 6 7 8 </a:t>
            </a:r>
            <a:r>
              <a:rPr b="1" lang="en-US" sz="1200" spc="-1" strike="noStrike">
                <a:solidFill>
                  <a:srgbClr val="820000"/>
                </a:solidFill>
                <a:latin typeface="Tahoma"/>
              </a:rPr>
              <a:t>9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10 11 12 13 14 1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630360" y="1531800"/>
            <a:ext cx="4781520" cy="4502160"/>
            <a:chOff x="630360" y="1531800"/>
            <a:chExt cx="4781520" cy="4502160"/>
          </a:xfrm>
        </p:grpSpPr>
        <p:sp>
          <p:nvSpPr>
            <p:cNvPr id="150" name=""/>
            <p:cNvSpPr/>
            <p:nvPr/>
          </p:nvSpPr>
          <p:spPr>
            <a:xfrm>
              <a:off x="934920" y="1836360"/>
              <a:ext cx="4476960" cy="4197600"/>
            </a:xfrm>
            <a:prstGeom prst="rect">
              <a:avLst/>
            </a:prstGeom>
            <a:solidFill>
              <a:srgbClr val="dfcb9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82640" y="1684080"/>
              <a:ext cx="4476600" cy="4197240"/>
            </a:xfrm>
            <a:prstGeom prst="rect">
              <a:avLst/>
            </a:prstGeom>
            <a:solidFill>
              <a:srgbClr val="dfcb9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0360" y="1531800"/>
              <a:ext cx="4476600" cy="4197240"/>
            </a:xfrm>
            <a:prstGeom prst="rect">
              <a:avLst/>
            </a:prstGeom>
            <a:solidFill>
              <a:srgbClr val="dfcb9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Succ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0" t="0" r="11600" b="0"/>
          <a:stretch/>
        </p:blipFill>
        <p:spPr>
          <a:xfrm>
            <a:off x="5402160" y="1338120"/>
            <a:ext cx="3289320" cy="468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214280" y="2163600"/>
            <a:ext cx="4413240" cy="2948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04560" y="4271760"/>
            <a:ext cx="4422600" cy="1174680"/>
          </a:xfrm>
          <a:prstGeom prst="rect">
            <a:avLst/>
          </a:prstGeom>
          <a:solidFill>
            <a:srgbClr val="d7d9cd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rive your best to keep a deadlin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f you cannot meet it, then apologize &amp; ask for an exten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6412320" y="83160"/>
            <a:ext cx="128520" cy="63720"/>
          </a:xfrm>
          <a:prstGeom prst="triangle">
            <a:avLst>
              <a:gd name="adj" fmla="val 50000"/>
            </a:avLst>
          </a:prstGeom>
          <a:solidFill>
            <a:srgbClr val="8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6623640" y="22320"/>
            <a:ext cx="20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 2 3 4 5 6 7 8 9 </a:t>
            </a:r>
            <a:r>
              <a:rPr b="1" lang="en-US" sz="1200" spc="-1" strike="noStrike">
                <a:solidFill>
                  <a:srgbClr val="820000"/>
                </a:solidFill>
                <a:latin typeface="Tahoma"/>
              </a:rPr>
              <a:t>10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11 12 13 14 1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30360" y="1330200"/>
            <a:ext cx="8059680" cy="4657680"/>
          </a:xfrm>
          <a:prstGeom prst="rect">
            <a:avLst/>
          </a:prstGeom>
          <a:solidFill>
            <a:srgbClr val="f8c8e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Succ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853920" y="1873080"/>
            <a:ext cx="7324920" cy="3656160"/>
          </a:xfrm>
          <a:prstGeom prst="rect">
            <a:avLst/>
          </a:prstGeom>
          <a:noFill/>
          <a:ln w="444600">
            <a:solidFill>
              <a:srgbClr val="f8c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4086360" y="3017880"/>
            <a:ext cx="45464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f some people are unhappy with you, it's their proble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ut always strive to give your be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3260880" y="2763720"/>
            <a:ext cx="3971880" cy="166680"/>
          </a:xfrm>
          <a:custGeom>
            <a:avLst/>
            <a:gdLst/>
            <a:ahLst/>
            <a:rect l="l" t="t" r="r" b="b"/>
            <a:pathLst>
              <a:path w="1973" h="88">
                <a:moveTo>
                  <a:pt x="0" y="0"/>
                </a:moveTo>
                <a:lnTo>
                  <a:pt x="1862" y="0"/>
                </a:lnTo>
                <a:lnTo>
                  <a:pt x="1973" y="88"/>
                </a:lnTo>
                <a:lnTo>
                  <a:pt x="0" y="88"/>
                </a:lnTo>
                <a:lnTo>
                  <a:pt x="0" y="0"/>
                </a:lnTo>
                <a:close/>
              </a:path>
            </a:pathLst>
          </a:custGeom>
          <a:solidFill>
            <a:srgbClr val="eca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39720" y="2855880"/>
            <a:ext cx="3403800" cy="2722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417480" y="2489040"/>
            <a:ext cx="3848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40000"/>
                </a:solidFill>
                <a:latin typeface="Tahoma"/>
              </a:rPr>
              <a:t>Don't take things personall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6412320" y="83160"/>
            <a:ext cx="128520" cy="63720"/>
          </a:xfrm>
          <a:prstGeom prst="triangle">
            <a:avLst>
              <a:gd name="adj" fmla="val 50000"/>
            </a:avLst>
          </a:prstGeom>
          <a:solidFill>
            <a:srgbClr val="8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6623640" y="22320"/>
            <a:ext cx="20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 2 3 4 5 6 7 8 9 10 </a:t>
            </a:r>
            <a:r>
              <a:rPr b="1" lang="en-US" sz="1200" spc="-1" strike="noStrike">
                <a:solidFill>
                  <a:srgbClr val="820000"/>
                </a:solidFill>
                <a:latin typeface="Tahoma"/>
              </a:rPr>
              <a:t>11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12 13 14 1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Succ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461960" y="734400"/>
            <a:ext cx="6959160" cy="5410440"/>
            <a:chOff x="1461960" y="734400"/>
            <a:chExt cx="6959160" cy="5410440"/>
          </a:xfrm>
        </p:grpSpPr>
        <p:sp>
          <p:nvSpPr>
            <p:cNvPr id="170" name=""/>
            <p:cNvSpPr/>
            <p:nvPr/>
          </p:nvSpPr>
          <p:spPr>
            <a:xfrm rot="20637000">
              <a:off x="1830960" y="1528200"/>
              <a:ext cx="6231960" cy="3468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1e8f3">
                    <a:alpha val="0"/>
                  </a:srgbClr>
                </a:gs>
                <a:gs pos="100000">
                  <a:srgbClr val="b1c3e1"/>
                </a:gs>
              </a:gsLst>
              <a:lin ang="118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637000">
              <a:off x="1828800" y="1598760"/>
              <a:ext cx="6231960" cy="3468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1e8f3">
                    <a:alpha val="0"/>
                  </a:srgbClr>
                </a:gs>
                <a:gs pos="100000">
                  <a:srgbClr val="b1c3e1"/>
                </a:gs>
              </a:gsLst>
              <a:lin ang="118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20637000">
              <a:off x="1826640" y="1670400"/>
              <a:ext cx="6233040" cy="34675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1e8f3">
                    <a:alpha val="0"/>
                  </a:srgbClr>
                </a:gs>
                <a:gs pos="100000">
                  <a:srgbClr val="b1c3e1"/>
                </a:gs>
              </a:gsLst>
              <a:lin ang="118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20637000">
              <a:off x="1824480" y="1740240"/>
              <a:ext cx="6233400" cy="34678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1e8f3">
                    <a:alpha val="0"/>
                  </a:srgbClr>
                </a:gs>
                <a:gs pos="100000">
                  <a:srgbClr val="b1c3e1"/>
                </a:gs>
              </a:gsLst>
              <a:lin ang="118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20637000">
              <a:off x="1821960" y="1811160"/>
              <a:ext cx="6231960" cy="3468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1e8f3">
                    <a:alpha val="0"/>
                  </a:srgbClr>
                </a:gs>
                <a:gs pos="100000">
                  <a:srgbClr val="b1c3e1"/>
                </a:gs>
              </a:gsLst>
              <a:lin ang="118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20637000">
              <a:off x="1819800" y="1882800"/>
              <a:ext cx="6233040" cy="34675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1e8f3">
                    <a:alpha val="0"/>
                  </a:srgbClr>
                </a:gs>
                <a:gs pos="100000">
                  <a:srgbClr val="b1c3e1"/>
                </a:gs>
              </a:gsLst>
              <a:lin ang="118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23880" y="1338120"/>
            <a:ext cx="3592440" cy="48117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3606480" y="2604960"/>
            <a:ext cx="4729680" cy="1113120"/>
          </a:xfrm>
          <a:prstGeom prst="rect">
            <a:avLst/>
          </a:prstGeom>
          <a:solidFill>
            <a:srgbClr val="304d7c">
              <a:alpha val="5000"/>
            </a:srgbClr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84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20000"/>
                </a:solidFill>
                <a:latin typeface="Tahoma"/>
              </a:rPr>
              <a:t>If you must correct someone,</a:t>
            </a:r>
            <a:br>
              <a:rPr sz="1800"/>
            </a:br>
            <a:r>
              <a:rPr b="1" lang="en-US" sz="1800" spc="-1" strike="noStrike">
                <a:solidFill>
                  <a:srgbClr val="820000"/>
                </a:solidFill>
                <a:latin typeface="Tahoma"/>
              </a:rPr>
              <a:t>don't get personal about i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84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20000"/>
                </a:solidFill>
                <a:latin typeface="Tahoma"/>
              </a:rPr>
              <a:t>Do it never in front of oth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6412320" y="83160"/>
            <a:ext cx="128520" cy="63720"/>
          </a:xfrm>
          <a:prstGeom prst="triangle">
            <a:avLst>
              <a:gd name="adj" fmla="val 50000"/>
            </a:avLst>
          </a:prstGeom>
          <a:solidFill>
            <a:srgbClr val="8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623640" y="22320"/>
            <a:ext cx="20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 2 3 4 5 6 7 8 9 10 11 </a:t>
            </a:r>
            <a:r>
              <a:rPr b="1" lang="en-US" sz="1200" spc="-1" strike="noStrike">
                <a:solidFill>
                  <a:srgbClr val="820000"/>
                </a:solidFill>
                <a:latin typeface="Tahoma"/>
              </a:rPr>
              <a:t>12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13 14 1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384720" y="3673440"/>
            <a:ext cx="72720" cy="1674720"/>
          </a:xfrm>
          <a:prstGeom prst="rect">
            <a:avLst/>
          </a:prstGeom>
          <a:solidFill>
            <a:srgbClr val="c3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4554360" y="1676520"/>
            <a:ext cx="73080" cy="3671640"/>
          </a:xfrm>
          <a:prstGeom prst="rect">
            <a:avLst/>
          </a:prstGeom>
          <a:solidFill>
            <a:srgbClr val="c3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319640" y="2097000"/>
            <a:ext cx="73080" cy="3251160"/>
          </a:xfrm>
          <a:prstGeom prst="rect">
            <a:avLst/>
          </a:prstGeom>
          <a:solidFill>
            <a:srgbClr val="c3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086360" y="2503440"/>
            <a:ext cx="72720" cy="2844720"/>
          </a:xfrm>
          <a:prstGeom prst="rect">
            <a:avLst/>
          </a:prstGeom>
          <a:solidFill>
            <a:srgbClr val="c3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900520"/>
            <a:ext cx="73080" cy="2447640"/>
          </a:xfrm>
          <a:prstGeom prst="rect">
            <a:avLst/>
          </a:prstGeom>
          <a:solidFill>
            <a:srgbClr val="c3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618000" y="3336840"/>
            <a:ext cx="73080" cy="2011320"/>
          </a:xfrm>
          <a:prstGeom prst="rect">
            <a:avLst/>
          </a:prstGeom>
          <a:solidFill>
            <a:srgbClr val="c3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Succ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794120" y="1338120"/>
            <a:ext cx="3905280" cy="48164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22440" y="1676520"/>
            <a:ext cx="4921200" cy="3671640"/>
          </a:xfrm>
          <a:prstGeom prst="rect">
            <a:avLst/>
          </a:prstGeom>
          <a:gradFill rotWithShape="0">
            <a:gsLst>
              <a:gs pos="0">
                <a:srgbClr val="fefefe">
                  <a:alpha val="64313"/>
                </a:srgbClr>
              </a:gs>
              <a:gs pos="100000">
                <a:srgbClr val="c3ca96">
                  <a:alpha val="64313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pend some time alone everyda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at's the mission of my lif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at do I want to b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nd how to go about i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998880" y="2681280"/>
            <a:ext cx="2254320" cy="33638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rot="5400000">
            <a:off x="6412320" y="83160"/>
            <a:ext cx="128520" cy="63720"/>
          </a:xfrm>
          <a:prstGeom prst="triangle">
            <a:avLst>
              <a:gd name="adj" fmla="val 50000"/>
            </a:avLst>
          </a:prstGeom>
          <a:solidFill>
            <a:srgbClr val="8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6623640" y="22320"/>
            <a:ext cx="20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 2 3 4 5 6 7 8 9 10 11 12 </a:t>
            </a:r>
            <a:r>
              <a:rPr b="1" lang="en-US" sz="1200" spc="-1" strike="noStrike">
                <a:solidFill>
                  <a:srgbClr val="820000"/>
                </a:solidFill>
                <a:latin typeface="Tahoma"/>
              </a:rPr>
              <a:t>13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14 1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 flipH="1" flipV="1">
            <a:off x="5195160" y="2569320"/>
            <a:ext cx="3492360" cy="498600"/>
          </a:xfrm>
          <a:custGeom>
            <a:avLst/>
            <a:gdLst/>
            <a:ahLst/>
            <a:rect l="l" t="t" r="r" b="b"/>
            <a:pathLst>
              <a:path w="2334" h="314">
                <a:moveTo>
                  <a:pt x="2334" y="12"/>
                </a:moveTo>
                <a:lnTo>
                  <a:pt x="2334" y="314"/>
                </a:lnTo>
                <a:lnTo>
                  <a:pt x="0" y="314"/>
                </a:lnTo>
                <a:lnTo>
                  <a:pt x="0" y="210"/>
                </a:lnTo>
                <a:lnTo>
                  <a:pt x="2206" y="210"/>
                </a:lnTo>
                <a:lnTo>
                  <a:pt x="2206" y="0"/>
                </a:lnTo>
                <a:lnTo>
                  <a:pt x="2334" y="12"/>
                </a:lnTo>
                <a:close/>
              </a:path>
            </a:pathLst>
          </a:custGeom>
          <a:gradFill rotWithShape="0">
            <a:gsLst>
              <a:gs pos="0">
                <a:srgbClr val="8fb8fb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Succ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702000" y="1411920"/>
            <a:ext cx="7913880" cy="905040"/>
          </a:xfrm>
          <a:prstGeom prst="rect">
            <a:avLst/>
          </a:prstGeom>
          <a:solidFill>
            <a:srgbClr val="b3d9ff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526aa0"/>
            </a:outerShdw>
          </a:effectLst>
        </p:spPr>
        <p:txBody>
          <a:bodyPr lIns="90000" rIns="90000" tIns="46800" bIns="46800" anchor="ctr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20000"/>
                </a:solidFill>
                <a:latin typeface="Tahoma"/>
              </a:rPr>
              <a:t>As you move along Plan A of your career,</a:t>
            </a:r>
            <a:br>
              <a:rPr sz="1800"/>
            </a:br>
            <a:r>
              <a:rPr b="1" lang="en-US" sz="1800" spc="-1" strike="noStrike">
                <a:solidFill>
                  <a:srgbClr val="820000"/>
                </a:solidFill>
                <a:latin typeface="Tahoma"/>
              </a:rPr>
              <a:t>maintain a Plan B as well —</a:t>
            </a:r>
            <a:br>
              <a:rPr sz="1800"/>
            </a:br>
            <a:r>
              <a:rPr b="1" lang="en-US" sz="1800" spc="-1" strike="noStrike">
                <a:solidFill>
                  <a:srgbClr val="820000"/>
                </a:solidFill>
                <a:latin typeface="Tahoma"/>
              </a:rPr>
              <a:t>an alternative course to re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5265720"/>
            <a:ext cx="3603600" cy="498600"/>
          </a:xfrm>
          <a:custGeom>
            <a:avLst/>
            <a:gdLst/>
            <a:ahLst/>
            <a:rect l="l" t="t" r="r" b="b"/>
            <a:pathLst>
              <a:path w="2334" h="314">
                <a:moveTo>
                  <a:pt x="2334" y="12"/>
                </a:moveTo>
                <a:lnTo>
                  <a:pt x="2334" y="314"/>
                </a:lnTo>
                <a:lnTo>
                  <a:pt x="0" y="314"/>
                </a:lnTo>
                <a:lnTo>
                  <a:pt x="0" y="210"/>
                </a:lnTo>
                <a:lnTo>
                  <a:pt x="2206" y="210"/>
                </a:lnTo>
                <a:lnTo>
                  <a:pt x="2206" y="0"/>
                </a:lnTo>
                <a:lnTo>
                  <a:pt x="2334" y="12"/>
                </a:lnTo>
                <a:close/>
              </a:path>
            </a:pathLst>
          </a:custGeom>
          <a:gradFill rotWithShape="0">
            <a:gsLst>
              <a:gs pos="0">
                <a:srgbClr val="8fb8fb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766960" y="2793960"/>
            <a:ext cx="3733920" cy="274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7" name=""/>
          <p:cNvSpPr/>
          <p:nvPr/>
        </p:nvSpPr>
        <p:spPr>
          <a:xfrm rot="5400000">
            <a:off x="6412320" y="83160"/>
            <a:ext cx="128520" cy="63720"/>
          </a:xfrm>
          <a:prstGeom prst="triangle">
            <a:avLst>
              <a:gd name="adj" fmla="val 50000"/>
            </a:avLst>
          </a:prstGeom>
          <a:solidFill>
            <a:srgbClr val="8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6623640" y="22320"/>
            <a:ext cx="20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 2 3 4 5 6 7 8 9 10 11 12 13 </a:t>
            </a:r>
            <a:r>
              <a:rPr b="1" lang="en-US" sz="1200" spc="-1" strike="noStrike">
                <a:solidFill>
                  <a:srgbClr val="820000"/>
                </a:solidFill>
                <a:latin typeface="Tahoma"/>
              </a:rPr>
              <a:t>14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1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Succ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25320" y="1336680"/>
            <a:ext cx="5669280" cy="46562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800680" y="3186000"/>
            <a:ext cx="2533680" cy="266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30360" y="1897200"/>
            <a:ext cx="8061120" cy="1635120"/>
          </a:xfrm>
          <a:prstGeom prst="rect">
            <a:avLst/>
          </a:prstGeom>
          <a:solidFill>
            <a:srgbClr val="446e3e">
              <a:alpha val="1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lways remember that the secret of success is pass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lways think big. Spread love &amp; jo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You'll have blissful years a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6412320" y="83160"/>
            <a:ext cx="128520" cy="63720"/>
          </a:xfrm>
          <a:prstGeom prst="triangle">
            <a:avLst>
              <a:gd name="adj" fmla="val 50000"/>
            </a:avLst>
          </a:prstGeom>
          <a:solidFill>
            <a:srgbClr val="8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6623640" y="22320"/>
            <a:ext cx="20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 2 3 4 5 6 7 8 9 10 11 12 13 14 </a:t>
            </a:r>
            <a:r>
              <a:rPr b="1" lang="en-US" sz="1200" spc="-1" strike="noStrike">
                <a:solidFill>
                  <a:srgbClr val="820000"/>
                </a:solidFill>
                <a:latin typeface="Tahoma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125960" y="1338120"/>
            <a:ext cx="4573440" cy="4573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rcRect l="0" t="0" r="98235" b="0"/>
          <a:stretch/>
        </p:blipFill>
        <p:spPr>
          <a:xfrm>
            <a:off x="639720" y="1338120"/>
            <a:ext cx="3567240" cy="4573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Succ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040" y="1593360"/>
            <a:ext cx="35370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n't talk negatively about people behind their back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If you gossip, people won't confide in you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2c4"/>
                </a:solidFill>
                <a:latin typeface="Tahoma"/>
              </a:rPr>
              <a:t>Mind your own business.</a:t>
            </a:r>
            <a:r>
              <a:rPr b="0" lang="en-US" sz="1800" spc="-1" strike="noStrike">
                <a:solidFill>
                  <a:srgbClr val="0062c4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50960" y="3938760"/>
            <a:ext cx="3433680" cy="1650960"/>
            <a:chOff x="750960" y="3938760"/>
            <a:chExt cx="3433680" cy="1650960"/>
          </a:xfrm>
        </p:grpSpPr>
        <p:sp>
          <p:nvSpPr>
            <p:cNvPr id="91" name=""/>
            <p:cNvSpPr/>
            <p:nvPr/>
          </p:nvSpPr>
          <p:spPr>
            <a:xfrm>
              <a:off x="2882880" y="3938760"/>
              <a:ext cx="1301760" cy="165096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ahoma"/>
                </a:rPr>
                <a:t>gossi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750960" y="3938760"/>
              <a:ext cx="2131920" cy="16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750960" y="3938760"/>
              <a:ext cx="3433680" cy="16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4" name=""/>
          <p:cNvSpPr/>
          <p:nvPr/>
        </p:nvSpPr>
        <p:spPr>
          <a:xfrm rot="5400000">
            <a:off x="6412320" y="83160"/>
            <a:ext cx="128520" cy="63720"/>
          </a:xfrm>
          <a:prstGeom prst="triangle">
            <a:avLst>
              <a:gd name="adj" fmla="val 50000"/>
            </a:avLst>
          </a:prstGeom>
          <a:solidFill>
            <a:srgbClr val="8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6617880" y="22320"/>
            <a:ext cx="198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20000"/>
                </a:solidFill>
                <a:latin typeface="Tahoma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2 3 4 5 6 7 8 9 10 11 12 13 14 1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990880" y="2190600"/>
            <a:ext cx="5708520" cy="3808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Succ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0" t="0" r="0" b="95459"/>
          <a:stretch/>
        </p:blipFill>
        <p:spPr>
          <a:xfrm>
            <a:off x="2990880" y="1406520"/>
            <a:ext cx="5708520" cy="10256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6560" y="1545840"/>
            <a:ext cx="6507360" cy="728280"/>
          </a:xfrm>
          <a:prstGeom prst="rect">
            <a:avLst/>
          </a:prstGeom>
          <a:gradFill rotWithShape="0">
            <a:gsLst>
              <a:gs pos="0">
                <a:srgbClr val="b3d9ff">
                  <a:alpha val="0"/>
                </a:srgbClr>
              </a:gs>
              <a:gs pos="100000">
                <a:srgbClr val="0062c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e99a"/>
                </a:solidFill>
                <a:latin typeface="Tahoma"/>
              </a:rPr>
              <a:t>Try to work for someone who'll challenge your pow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e99a"/>
                </a:solidFill>
                <a:latin typeface="Tahoma"/>
              </a:rPr>
              <a:t>You'll learn more in a year than 4 years of colleg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rcRect l="12519" t="0" r="12664" b="0"/>
          <a:stretch/>
        </p:blipFill>
        <p:spPr>
          <a:xfrm>
            <a:off x="933480" y="3789360"/>
            <a:ext cx="1211400" cy="2209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7176960" y="593640"/>
            <a:ext cx="1270080" cy="1905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02" name=""/>
          <p:cNvSpPr/>
          <p:nvPr/>
        </p:nvSpPr>
        <p:spPr>
          <a:xfrm rot="5400000">
            <a:off x="6412320" y="83160"/>
            <a:ext cx="128520" cy="63720"/>
          </a:xfrm>
          <a:prstGeom prst="triangle">
            <a:avLst>
              <a:gd name="adj" fmla="val 50000"/>
            </a:avLst>
          </a:prstGeom>
          <a:solidFill>
            <a:srgbClr val="8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6617880" y="22320"/>
            <a:ext cx="198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1" lang="en-US" sz="1200" spc="-1" strike="noStrike">
                <a:solidFill>
                  <a:srgbClr val="820000"/>
                </a:solidFill>
                <a:latin typeface="Tahoma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3 4 5 6 7 8 9 10 11 12 13 14 1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Succ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56400" y="1397160"/>
            <a:ext cx="2943000" cy="4416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659040" y="2281320"/>
            <a:ext cx="2232000" cy="3357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66200" y="1573200"/>
            <a:ext cx="6263280" cy="79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cc"/>
            </a:solidFill>
            <a:miter/>
          </a:ln>
          <a:effectLst>
            <a:outerShdw dist="17819" dir="2700000" blurRad="0" rotWithShape="0">
              <a:srgbClr val="0062c4"/>
            </a:outerShdw>
          </a:effectLst>
        </p:spPr>
        <p:txBody>
          <a:bodyPr lIns="90000" rIns="90000" tIns="91440" bIns="9144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2c4"/>
                </a:solidFill>
                <a:latin typeface="Tahoma"/>
              </a:rPr>
              <a:t>Successful bosses have good communication skill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2c4"/>
                </a:solidFill>
                <a:latin typeface="Tahoma"/>
              </a:rPr>
              <a:t>They learn from people, including their employee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6412320" y="83160"/>
            <a:ext cx="128520" cy="63720"/>
          </a:xfrm>
          <a:prstGeom prst="triangle">
            <a:avLst>
              <a:gd name="adj" fmla="val 50000"/>
            </a:avLst>
          </a:prstGeom>
          <a:solidFill>
            <a:srgbClr val="8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6617880" y="22320"/>
            <a:ext cx="198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 2 </a:t>
            </a:r>
            <a:r>
              <a:rPr b="1" lang="en-US" sz="1200" spc="-1" strike="noStrike">
                <a:solidFill>
                  <a:srgbClr val="820000"/>
                </a:solidFill>
                <a:latin typeface="Tahoma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4 5 6 7 8 9 10 11 12 13 14 1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Succ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4960" y="1337760"/>
            <a:ext cx="8166240" cy="4660920"/>
          </a:xfrm>
          <a:prstGeom prst="rect">
            <a:avLst/>
          </a:prstGeom>
          <a:solidFill>
            <a:srgbClr val="b3d9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1897"/>
                </a:solidFill>
                <a:latin typeface="Tahoma"/>
              </a:rPr>
              <a:t>Work in such a way that makes your boss look goo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1897"/>
                </a:solidFill>
                <a:latin typeface="Tahoma"/>
              </a:rPr>
              <a:t>It's not flattery.</a:t>
            </a:r>
            <a:r>
              <a:rPr b="0" lang="en-US" sz="1800" spc="-1" strike="noStrike">
                <a:solidFill>
                  <a:srgbClr val="071897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603520" y="1941480"/>
            <a:ext cx="6095880" cy="405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816600" y="804960"/>
            <a:ext cx="1671840" cy="2590560"/>
          </a:xfrm>
          <a:prstGeom prst="rect">
            <a:avLst/>
          </a:prstGeom>
          <a:ln w="9360">
            <a:solidFill>
              <a:srgbClr val="0062c4"/>
            </a:solidFill>
            <a:miter/>
          </a:ln>
        </p:spPr>
      </p:pic>
      <p:sp>
        <p:nvSpPr>
          <p:cNvPr id="114" name=""/>
          <p:cNvSpPr/>
          <p:nvPr/>
        </p:nvSpPr>
        <p:spPr>
          <a:xfrm rot="5400000">
            <a:off x="6412320" y="83160"/>
            <a:ext cx="128520" cy="63720"/>
          </a:xfrm>
          <a:prstGeom prst="triangle">
            <a:avLst>
              <a:gd name="adj" fmla="val 50000"/>
            </a:avLst>
          </a:prstGeom>
          <a:solidFill>
            <a:srgbClr val="8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6617880" y="22320"/>
            <a:ext cx="198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 2 3 </a:t>
            </a:r>
            <a:r>
              <a:rPr b="1" lang="en-US" sz="1200" spc="-1" strike="noStrike">
                <a:solidFill>
                  <a:srgbClr val="820000"/>
                </a:solidFill>
                <a:latin typeface="Tahoma"/>
              </a:rPr>
              <a:t>4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5 6 7 8 9 10 11 12 13 14 1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Succ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674800" y="2046240"/>
            <a:ext cx="6024600" cy="3952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9360" y="1337760"/>
            <a:ext cx="4187880" cy="1328760"/>
          </a:xfrm>
          <a:prstGeom prst="rect">
            <a:avLst/>
          </a:prstGeom>
          <a:solidFill>
            <a:srgbClr val="b3d9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n downsizing, the first to go are those with few friend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osses prefer competent people whom they respect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939960" y="2757600"/>
            <a:ext cx="1315800" cy="3238560"/>
          </a:xfrm>
          <a:prstGeom prst="rect">
            <a:avLst/>
          </a:prstGeom>
          <a:solidFill>
            <a:srgbClr val="b3d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4594320" y="1541520"/>
            <a:ext cx="4106880" cy="266760"/>
          </a:xfrm>
          <a:prstGeom prst="rect">
            <a:avLst/>
          </a:prstGeom>
          <a:solidFill>
            <a:srgbClr val="b3d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6412320" y="83160"/>
            <a:ext cx="128520" cy="63720"/>
          </a:xfrm>
          <a:prstGeom prst="triangle">
            <a:avLst>
              <a:gd name="adj" fmla="val 50000"/>
            </a:avLst>
          </a:prstGeom>
          <a:solidFill>
            <a:srgbClr val="8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6617880" y="22320"/>
            <a:ext cx="198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 2 3 4 </a:t>
            </a:r>
            <a:r>
              <a:rPr b="1" lang="en-US" sz="1200" spc="-1" strike="noStrike">
                <a:solidFill>
                  <a:srgbClr val="820000"/>
                </a:solidFill>
                <a:latin typeface="Tahoma"/>
              </a:rPr>
              <a:t>5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6 7 8 9 10 11 12 13 14 1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Succ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39720" y="1337760"/>
            <a:ext cx="8059680" cy="4660920"/>
          </a:xfrm>
          <a:prstGeom prst="rect">
            <a:avLst/>
          </a:prstGeom>
          <a:solidFill>
            <a:srgbClr val="c3efef"/>
          </a:solidFill>
          <a:ln w="9360">
            <a:solidFill>
              <a:srgbClr val="000000"/>
            </a:solidFill>
            <a:miter/>
          </a:ln>
        </p:spPr>
        <p:txBody>
          <a:bodyPr tIns="182880" anchor="t">
            <a:normAutofit/>
          </a:bodyPr>
          <a:p>
            <a:pPr indent="0" algn="ctr"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ress for the job you want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ot the one you hav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t your dress reflect professionalism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63680" y="2744640"/>
            <a:ext cx="4753080" cy="316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26" name=""/>
          <p:cNvGrpSpPr/>
          <p:nvPr/>
        </p:nvGrpSpPr>
        <p:grpSpPr>
          <a:xfrm>
            <a:off x="939960" y="1343160"/>
            <a:ext cx="7404120" cy="4655880"/>
            <a:chOff x="939960" y="1343160"/>
            <a:chExt cx="7404120" cy="4655880"/>
          </a:xfrm>
        </p:grpSpPr>
        <p:sp>
          <p:nvSpPr>
            <p:cNvPr id="127" name=""/>
            <p:cNvSpPr/>
            <p:nvPr/>
          </p:nvSpPr>
          <p:spPr>
            <a:xfrm>
              <a:off x="939960" y="1343160"/>
              <a:ext cx="819000" cy="46558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24720" y="1343160"/>
              <a:ext cx="819360" cy="46558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9" name=""/>
          <p:cNvSpPr/>
          <p:nvPr/>
        </p:nvSpPr>
        <p:spPr>
          <a:xfrm rot="5400000">
            <a:off x="6412320" y="83160"/>
            <a:ext cx="128520" cy="63720"/>
          </a:xfrm>
          <a:prstGeom prst="triangle">
            <a:avLst>
              <a:gd name="adj" fmla="val 50000"/>
            </a:avLst>
          </a:prstGeom>
          <a:solidFill>
            <a:srgbClr val="8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6617880" y="22320"/>
            <a:ext cx="198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 2 3 4 5 </a:t>
            </a:r>
            <a:r>
              <a:rPr b="1" lang="en-US" sz="1200" spc="-1" strike="noStrike">
                <a:solidFill>
                  <a:srgbClr val="820000"/>
                </a:solidFill>
                <a:latin typeface="Tahoma"/>
              </a:rPr>
              <a:t>6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7 8 9 10 11 12 13 14 1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Succ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591160" y="1338120"/>
            <a:ext cx="3098880" cy="4660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39360" y="2801880"/>
            <a:ext cx="5227560" cy="1271520"/>
          </a:xfrm>
          <a:prstGeom prst="rect">
            <a:avLst/>
          </a:prstGeom>
          <a:solidFill>
            <a:srgbClr val="ede0a9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Workout to get in good physical shap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Unless exceptionally skilled, the unhealthy are at a comparative disadvantag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6412320" y="83160"/>
            <a:ext cx="128520" cy="63720"/>
          </a:xfrm>
          <a:prstGeom prst="triangle">
            <a:avLst>
              <a:gd name="adj" fmla="val 50000"/>
            </a:avLst>
          </a:prstGeom>
          <a:solidFill>
            <a:srgbClr val="8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6617880" y="22320"/>
            <a:ext cx="198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 2 3 4 5 6 </a:t>
            </a:r>
            <a:r>
              <a:rPr b="1" lang="en-US" sz="1200" spc="-1" strike="noStrike">
                <a:solidFill>
                  <a:srgbClr val="820000"/>
                </a:solidFill>
                <a:latin typeface="Tahoma"/>
              </a:rPr>
              <a:t>7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8 9 10 11 12 13 14 1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Succ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705200" y="1338120"/>
            <a:ext cx="3996000" cy="4660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rcRect l="0" t="0" r="95719" b="0"/>
          <a:stretch/>
        </p:blipFill>
        <p:spPr>
          <a:xfrm>
            <a:off x="639720" y="1338120"/>
            <a:ext cx="4237200" cy="46609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3920" y="1932120"/>
            <a:ext cx="3435480" cy="1550880"/>
          </a:xfrm>
          <a:prstGeom prst="rect">
            <a:avLst/>
          </a:prstGeom>
          <a:solidFill>
            <a:srgbClr val="ede0a9">
              <a:alpha val="2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rmAutofit fontScale="96000"/>
          </a:bodyPr>
          <a:p>
            <a:pPr indent="0" algn="ctr"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ersonal integrity is crucial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ell nothing but the truth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osses can forgive mistakes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ut if you lie, you're gon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6412320" y="83160"/>
            <a:ext cx="128520" cy="63720"/>
          </a:xfrm>
          <a:prstGeom prst="triangle">
            <a:avLst>
              <a:gd name="adj" fmla="val 50000"/>
            </a:avLst>
          </a:prstGeom>
          <a:solidFill>
            <a:srgbClr val="8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6617880" y="22320"/>
            <a:ext cx="198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 2 3 4 5 6 7 </a:t>
            </a:r>
            <a:r>
              <a:rPr b="1" lang="en-US" sz="1200" spc="-1" strike="noStrike">
                <a:solidFill>
                  <a:srgbClr val="820000"/>
                </a:solidFill>
                <a:latin typeface="Tahoma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9 10 11 12 13 14 1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22:17:24Z</dcterms:created>
  <dc:creator>Roli Agarwal</dc:creator>
  <dc:description/>
  <dc:language>en-US</dc:language>
  <cp:lastModifiedBy>Arul Dev</cp:lastModifiedBy>
  <dcterms:modified xsi:type="dcterms:W3CDTF">2005-01-28T03:41:24Z</dcterms:modified>
  <cp:revision>56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