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C09D-A1CC-4FC8-B904-249ACDA6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772C6-1A24-49A8-8A1A-1277D64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27186-E536-4FBA-AA79-1EAD01B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AC081-3A47-4A11-B06C-F4FB80E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E53DC-0B5A-43B5-80E7-2AD771D5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9B132-43C7-4B34-99FC-AFB954B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A91AC-78BD-40BD-9BAE-D8B82CB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F210D-0F80-4CD3-B1CB-3D4CCB8C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792F6-0EF9-4A3A-82B8-BAEE4FB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AB7B2-82BA-4240-B49E-1B295A37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64B76-0AFC-467B-B1CC-F4F49B7B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71B6A-7A04-4AA2-8EAC-82A024AC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4267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_lunawat@yaho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3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6682-3B2E-4F74-906B-388563B8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80280" y="611280"/>
            <a:ext cx="226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ewCenturySchlbk"/>
              </a:rPr>
              <a:t>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0600" y="412920"/>
            <a:ext cx="83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cooked your favorite breakfas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your first day to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YOU became independen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40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7920" y="2286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waited at the do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your first Salary da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ly to seek God’s bless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ahoma"/>
              </a:rPr>
              <a:t>YOU already celebrated with your friend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30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3640" y="152280"/>
            <a:ext cx="74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blessed your love marriag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you came home marri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666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YOU shared your love with your spo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1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70000" y="228600"/>
            <a:ext cx="665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’s now old and lonel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ill thinking of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member! All that she ha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gave it to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971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how your love before you feel it is too 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94960" y="228600"/>
            <a:ext cx="713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, for a mo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uch she sacrificed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gony &amp; pain she went throu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for YOU, only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657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Give her your time, a bit of your l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for that is all she des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800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ell her that you love her and care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he’s with YOU, no matter where u 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7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67480" y="3581280"/>
            <a:ext cx="1295640" cy="171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6094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to minimum 10 friends. So those friends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682000">
            <a:off x="698040" y="3645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00ff00"/>
                </a:solidFill>
                <a:latin typeface="Book Antiqua"/>
                <a:ea typeface="Times New Roman"/>
              </a:rPr>
              <a:t>I hope you have 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0560" y="30492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was there every time you cri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a bab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752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YOU started grow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4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3960" y="152280"/>
            <a:ext cx="518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jumped with jo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you first stood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your tender fee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YOU grew confiden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3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77200" y="304920"/>
            <a:ext cx="72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celebrated with happin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your first birth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YOU ate the cak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81200" y="304920"/>
            <a:ext cx="58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gave you sweet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your first day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286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YOU enjoyed the who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80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37400" y="228600"/>
            <a:ext cx="68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bought YOU new cloth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stead of sari for her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ahoma"/>
              </a:rPr>
              <a:t>YOU showed off to your friend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440" y="38088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took you to the doct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you were si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438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YOU recovered your health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35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41920" y="533520"/>
            <a:ext cx="94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he quarreled with her frien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you fought with her friend’s kid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prove you innoc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ave up her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76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YOU cared less for her los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838080"/>
            <a:ext cx="61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e gave you her saving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buy your bicy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8195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Tahoma"/>
              </a:rPr>
              <a:t>YOU rode with prid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03:23:32Z</dcterms:created>
  <dc:creator>Rajesh Lunawat (r_lunawat@yahoo.com)</dc:creator>
  <dc:description/>
  <cp:keywords>Mother</cp:keywords>
  <dc:language>en-US</dc:language>
  <cp:lastModifiedBy>geenana</cp:lastModifiedBy>
  <dcterms:modified xsi:type="dcterms:W3CDTF">2008-11-10T11:53:47Z</dcterms:modified>
  <cp:revision>30</cp:revision>
  <dc:subject>Mother</dc:subject>
  <dc:title>PowerPoint Presentation</dc:title>
</cp:coreProperties>
</file>