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7ED-7F21-4423-B9FE-C3BD42B3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DDF-9C2C-488F-B677-7B39926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201-A48E-4D84-96E0-3C372818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C37-69AA-49F5-AF94-1626239B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8BDE-DEBC-4561-8DC7-FAAC164D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7CC-0F21-4378-AD47-E177939B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DE06-5BE1-4BA3-8A04-60538EC3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169-5B59-472C-ABCC-F3AC825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BED1-3E22-4693-BFE9-CD6A6716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613-663F-4606-A3E8-F770BD0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E2A-9F3D-4371-9B9A-90124DFA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7FC-3B2E-4830-A217-F2AC047F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F4D3-0B6C-4DC7-96F3-245A7AFF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A3E9-5294-48E9-B04D-8CEADB30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D38-7F62-48B3-8CC8-512EB68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3C5-2CD5-4228-9EDC-12CA76FD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5A0-CDF4-434B-8CDB-80FCA482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B54-EFC3-4D34-97BC-6385B639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AE4-862C-455A-8487-3982775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681-DB2C-456B-9B9A-C246A63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01E-A211-4196-A7D2-E13E89C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C8B-C5B3-476C-A407-CB94952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ED1-8919-4E79-B883-B4AE496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0B-058D-4B83-B82D-3A10DD2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112-BCFF-4217-BDFF-F38BE427E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C629-6819-4F68-A58D-A7EDFA9ACC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523880" y="1447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pperplate Gothic Bold"/>
              </a:rPr>
              <a:t>Good Karma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31240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This is a nice reading, but short. Enjoy! This is what The Dalai Lama has to say on the millennium. All it takes is a few seconds to read and think ove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352680" y="556272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12193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Bookman Old Style"/>
              </a:rPr>
              <a:t>I N S T R U C T I O N S   F O R   L I F 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21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Take into account that great love and great achievements involve great risk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3124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When you lose, don’t lose the lesson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7200" y="388620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 Follow the three R’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ect for self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ect for other’s an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onsibility for all your a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4010040" y="621036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447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Remember that not getting what you want is sometimes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nderful stroke of luc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3520" y="2743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. Learn the rules so you know how to break them proper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3581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Don’t let a little dispute injure a great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80880" y="4572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. When you realize you’ve made a mistake, take immedi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s to correct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657600" y="571500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. Spend some time alone every d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.  Open arms to change, but don’t let go of your valu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. Remember that silence is sometimes the best answ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36576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ve a good, honorable life. Then when you get older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, you’ll  be able to enjoy it a second ti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5029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. A loving atmosphere in your home is the foundation f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r lif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581280" y="594360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0880" y="1295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3. In disagreements with loved ones, deal only with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situation. Don’t bring up the pa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2666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4. Share your knowledge. It’s a way to achieve immortal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3886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. Be gentle with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88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. Once a year, go someplace you’ve never been befo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3505320" y="5867280"/>
            <a:ext cx="513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80880" y="16765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7. Remember that the best relationship is one in which y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for each other exceeds your need for each oth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0880" y="30481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udge your success by what you had to give up in or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get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80880" y="4495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. Approach love and cooking with reckless aband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276720" y="5638680"/>
            <a:ext cx="513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239220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187280" y="333360"/>
            <a:ext cx="59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more cool PPs</a:t>
            </a:r>
            <a:endParaRPr b="0" lang="en-US" sz="2400" spc="1" strike="noStrike">
              <a:ln w="0">
                <a:noFill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685800" y="251460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3260880" y="3352680"/>
            <a:ext cx="413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Join our YAHOO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ick here to join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4:20:40Z</dcterms:created>
  <dc:creator>www.funnybytes.net</dc:creator>
  <dc:description/>
  <dc:language>en-US</dc:language>
  <cp:lastModifiedBy>vineet</cp:lastModifiedBy>
  <dcterms:modified xsi:type="dcterms:W3CDTF">2012-04-16T19:18:52Z</dcterms:modified>
  <cp:revision>7</cp:revision>
  <dc:subject/>
  <dc:title>PowerPoint Presentation</dc:title>
</cp:coreProperties>
</file>