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69C-C3AA-4AF5-AE93-94F30D88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F57-CE76-4DF8-836C-317D954E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ABE-CA54-4EA3-A0DF-59C7068B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AF09-A4AF-405F-9EBF-1B76A8B8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876-9209-4CCA-BFFC-2B7E6EF8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F624-64E8-4A47-B378-A8E3130A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54D4-0D82-41BB-A412-E40F9088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8399-2058-480E-BC81-F7905CBA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6D3D-4600-43B5-B2C0-0267A83F1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BF6-18BF-4270-ABAF-31D0FDD6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8A2-AF8C-4FEF-94B5-1B88C72B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B33-1D7A-40F6-89D8-6CBCE7F6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ED07-F536-4298-A8BA-BEA512C0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4B62-2F1E-4B1E-96B6-37AC80B2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8E5-D16C-46D1-B115-B107FC41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DD5-0958-4420-B1A4-A814B86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C9F-62CD-4E7D-B6DD-FE6C03A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210-92C5-48AC-A2D9-44022CAF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78C-A81F-4715-BA26-763083E5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5867-7788-45F0-9F8D-07BF142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23E6-1C22-49F6-BA94-6245DE2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3A03-08FA-41B5-9892-0C6E629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F40D-63A2-4FB9-8846-63F65F40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D963-975C-44D2-A332-2F20FAC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5817-0E43-4C3D-AFA8-55C671FC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E3B-2CC9-4E77-A51F-7D27AC9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3FC6-FA72-4523-92D4-DC659542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5FD-78EF-4592-8929-1AEE5C9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026-399A-41E5-90BD-53E97C6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D7F-961E-4708-B5E8-30EBE402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44A-1244-4008-8981-913EDF5F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D2B-BEB3-48E0-BAEA-235DC5D6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948-EA8C-4A40-BF97-2D2A375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13A-5E24-4E37-B438-A187A57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DC4-3E6C-4466-9577-8C20769D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2CC-ED91-4D15-A9A8-B06626C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BDF-A3FE-4523-983D-1256009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043-6C17-4F8F-9C06-B42F21E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funnybytes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3B8-D047-4B51-94CF-1AE3CB2C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F18-2028-4A29-A39A-467AAFCB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funnybytes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2819520" y="533520"/>
            <a:ext cx="5638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 Black"/>
              </a:rPr>
              <a:t>Pe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 Black"/>
              <a:ea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81040" y="632448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Mouse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5029200" y="16002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haroni"/>
              </a:rPr>
              <a:t>FunnySheep.com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haroni"/>
              <a:ea typeface="Aharon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6320" y="151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99"/>
            </a:outerShdw>
          </a:effectLst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ften to fill your moments with peace and the positive power will resonate throughout your whole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ce requires no spe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ations or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657600" y="22860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ce asks only that you allow yourself to fully know and experienc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362320" y="6858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more you experience pea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more you'll want to express and to spread it in all that you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"/>
              </a:rPr>
              <a:t>Let peace continue to fill y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Arial"/>
              </a:rPr>
              <a:t>and it will soon overflow into the world in which you l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3657600" y="22860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ill Sans M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ill Sans MT"/>
              <a:ea typeface="Gill Sans MT"/>
            </a:endParaRPr>
          </a:p>
        </p:txBody>
      </p:sp>
      <p:pic>
        <p:nvPicPr>
          <p:cNvPr id="122" name="Rectangle 5" descr=""/>
          <p:cNvPicPr/>
          <p:nvPr/>
        </p:nvPicPr>
        <p:blipFill>
          <a:blip r:embed="rId4"/>
          <a:stretch/>
        </p:blipFill>
        <p:spPr>
          <a:xfrm>
            <a:off x="4992840" y="60480"/>
            <a:ext cx="4211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If we have no peace, it is because we have forgotte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we belong to each other."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-Mother Teres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don't have to travel to some remote mountain retreat in order to experience pe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3000" y="5029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't have to convince all the other people in your life to be peaceful in order to experience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3429000" y="304920"/>
            <a:ext cx="5486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5866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't need to resolve every conflict before you can experience a deep and abiding sense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3657600" y="3808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't have to solve every problem in your life before you can enjoy being at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3657600" y="1066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320" y="15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erience peace is very simple and always available to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304920" y="63244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666880" y="76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 experience peace, gently let go of all else and allow peace to fill your awar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676520" y="22093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eace is always there, ready for you whenever you choose to let it be a part of your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380880" y="5638680"/>
            <a:ext cx="5486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3:35:09Z</dcterms:created>
  <dc:creator>www.FunOnTheNet.in</dc:creator>
  <dc:description>www.FunOnTheNet.in</dc:description>
  <dc:language>en-US</dc:language>
  <cp:lastModifiedBy>vineet</cp:lastModifiedBy>
  <dcterms:modified xsi:type="dcterms:W3CDTF">2012-04-09T08:11:44Z</dcterms:modified>
  <cp:revision>9</cp:revision>
  <dc:subject/>
  <dc:title>Peace Now </dc:title>
</cp:coreProperties>
</file>