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B2A-75BB-44D4-8930-48C85547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7A6-D02E-416D-BCD9-D20806A6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90C-05F5-4394-BD5D-16C6DF8C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F97-B673-4704-A20D-06236973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5C9-6D67-4F80-8F95-5F8A70F4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124-2DB0-4244-AF6E-01C81E21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353-FB7C-4138-AACA-960A01A0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784-9E60-4CD6-91BC-3BA3FAD4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1AC-39E7-4AA9-965E-ABB5DAEF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223-9867-40A4-9403-9505D0A4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518-9A6E-4A72-B421-B826530D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ED2-DBDD-4420-8AE5-E86E32AC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B920-2A4C-4D10-BE31-47EAF0DBE0D5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Times New Roman"/>
              </a:rPr>
              <a:t>Welcome to the Automatic Salary Review</a:t>
            </a:r>
            <a:br>
              <a:rPr sz="3600"/>
            </a:b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lease answer the following question.</a:t>
            </a:r>
            <a:br>
              <a:rPr sz="3200"/>
            </a:br>
            <a:br>
              <a:rPr sz="3200"/>
            </a:br>
            <a:r>
              <a:rPr b="0" lang="sv-SE" sz="3200" spc="-1" strike="noStrike">
                <a:solidFill>
                  <a:srgbClr val="ff0000"/>
                </a:solidFill>
                <a:latin typeface="Times New Roman"/>
              </a:rPr>
              <a:t>Your salary adjustment will depend on your answer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satisfied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4680" y="6081840"/>
            <a:ext cx="21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k on your respon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satisfied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4680" y="6095880"/>
            <a:ext cx="21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k on your respon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satisfied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4680" y="6081840"/>
            <a:ext cx="21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k on your respon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ood!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Now go back to wor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Thanks a 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ncere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our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Send to 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5240" y="4800600"/>
            <a:ext cx="83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lick the button below to mail your response to Human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Thanks for your help.</a:t>
            </a:r>
            <a:br>
              <a:rPr sz="4400"/>
            </a:b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Your salary will be reviewed again next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endshow"/>
          </p:cNvPr>
          <p:cNvSpPr/>
          <p:nvPr/>
        </p:nvSpPr>
        <p:spPr>
          <a:xfrm>
            <a:off x="3200400" y="5715000"/>
            <a:ext cx="26668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Carmen Cortez</cp:lastModifiedBy>
  <dcterms:modified xsi:type="dcterms:W3CDTF">2002-10-19T21:24:16Z</dcterms:modified>
  <cp:revision>27</cp:revision>
  <dc:subject/>
  <dc:title>Anser du att du har tillräckligt hög lön?</dc:title>
</cp:coreProperties>
</file>