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9E6-82F5-418B-AEFC-50D30FAB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28-0828-4C52-92DD-3AD5BF6E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853-E8F7-4D85-95D3-8C22D694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8BA-60F2-488E-B2C1-DDB4EC3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47E-0E17-4E3E-95D0-43319EAB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FF59-B684-4D38-8828-2A14F15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3290-070D-4977-BE46-C63A2BD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B18-76A0-49FB-A065-20BB639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57D-F33B-4C7D-8480-9363D84F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927-80A1-444E-BF29-783D7B1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EABB-B7A9-49E9-B322-41FDE80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153-5446-4801-A9A2-588FA30D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D25-41C7-4C29-AC22-273302D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18F-3505-4913-9F30-34B8ABC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3FE-29EA-48DA-A5F3-17E44F90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7CD-A785-4B0B-B911-BFA432F0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308-201A-4A9D-BA16-E794B96F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667-E368-48A7-8250-8741A16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1CA-3A39-482B-9FED-3FB0F8E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F95-89F5-4FDF-98B1-6D25BF10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389-CC21-4364-9A26-F46DC925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6F2-D91E-448E-8B59-CB72198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007-0575-4BFD-BEC8-EC0F22E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558-3A7E-4CD2-80AA-D6C3B6E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F91-5E34-4C64-8070-BF348A276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99AB-5D77-4D73-9B6C-5EAD3BD53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assic Advertisemen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Durex Cond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70224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9034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38451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6543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86064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15620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61944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658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36766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2:47:28Z</dcterms:created>
  <dc:creator/>
  <dc:description/>
  <dc:language>en-US</dc:language>
  <cp:lastModifiedBy>Patrick Corporation</cp:lastModifiedBy>
  <dcterms:modified xsi:type="dcterms:W3CDTF">2006-11-23T02:53:50Z</dcterms:modified>
  <cp:revision>2</cp:revision>
  <dc:subject/>
  <dc:title>Durex Advertisement</dc:title>
</cp:coreProperties>
</file>