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3399"/>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The Break Up Letter”</a:t>
            </a:r>
            <a:endParaRPr b="0" lang="en-US" sz="2800" spc="-1" strike="noStrike">
              <a:solidFill>
                <a:srgbClr val="000000"/>
              </a:solidFill>
              <a:latin typeface="Arial"/>
            </a:endParaRPr>
          </a:p>
        </p:txBody>
      </p:sp>
      <p:sp>
        <p:nvSpPr>
          <p:cNvPr id="40" name="">
            <a:hlinkClick r:id="" action="ppaction://hlinkshowjump?jump=nextslide"/>
          </p:cNvPr>
          <p:cNvSpPr/>
          <p:nvPr/>
        </p:nvSpPr>
        <p:spPr>
          <a:xfrm>
            <a:off x="8534520" y="76320"/>
            <a:ext cx="533160" cy="339480"/>
          </a:xfrm>
          <a:custGeom>
            <a:avLst/>
            <a:gdLst>
              <a:gd name="textAreaLeft" fmla="*/ 21960 w 533160"/>
              <a:gd name="textAreaRight" fmla="*/ 511200 w 533160"/>
              <a:gd name="textAreaTop" fmla="*/ 21960 h 339480"/>
              <a:gd name="textAreaBottom" fmla="*/ 317520 h 339480"/>
            </a:gdLst>
            <a:ahLst/>
            <a:rect l="textAreaLeft" t="textAreaTop" r="textAreaRight" b="textAreaBottom"/>
            <a:pathLst>
              <a:path w="33910" h="21600">
                <a:moveTo>
                  <a:pt x="0" y="0"/>
                </a:moveTo>
                <a:lnTo>
                  <a:pt x="33910" y="0"/>
                </a:lnTo>
                <a:lnTo>
                  <a:pt x="33910" y="21600"/>
                </a:lnTo>
                <a:lnTo>
                  <a:pt x="0" y="21600"/>
                </a:lnTo>
                <a:close/>
              </a:path>
              <a:path fill="lightenLess" w="33910" h="21600">
                <a:moveTo>
                  <a:pt x="0" y="0"/>
                </a:moveTo>
                <a:lnTo>
                  <a:pt x="33910" y="0"/>
                </a:lnTo>
                <a:lnTo>
                  <a:pt x="32510" y="1400"/>
                </a:lnTo>
                <a:lnTo>
                  <a:pt x="1400" y="1400"/>
                </a:lnTo>
                <a:close/>
              </a:path>
              <a:path fill="darken" w="33910" h="21600">
                <a:moveTo>
                  <a:pt x="33910" y="0"/>
                </a:moveTo>
                <a:lnTo>
                  <a:pt x="33910" y="21600"/>
                </a:lnTo>
                <a:lnTo>
                  <a:pt x="32510" y="20200"/>
                </a:lnTo>
                <a:lnTo>
                  <a:pt x="32510" y="1400"/>
                </a:lnTo>
                <a:close/>
              </a:path>
              <a:path fill="darkenLess" w="33910" h="21600">
                <a:moveTo>
                  <a:pt x="33910" y="21600"/>
                </a:moveTo>
                <a:lnTo>
                  <a:pt x="0" y="21600"/>
                </a:lnTo>
                <a:lnTo>
                  <a:pt x="1400" y="20200"/>
                </a:lnTo>
                <a:lnTo>
                  <a:pt x="32510" y="20200"/>
                </a:lnTo>
                <a:close/>
              </a:path>
              <a:path fill="lighten" w="33910" h="21600">
                <a:moveTo>
                  <a:pt x="0" y="21600"/>
                </a:moveTo>
                <a:lnTo>
                  <a:pt x="0" y="0"/>
                </a:lnTo>
                <a:lnTo>
                  <a:pt x="1400" y="1400"/>
                </a:lnTo>
                <a:lnTo>
                  <a:pt x="1400" y="20200"/>
                </a:lnTo>
                <a:close/>
              </a:path>
              <a:path fill="darken" w="33910" h="21600">
                <a:moveTo>
                  <a:pt x="9949" y="3794"/>
                </a:moveTo>
                <a:lnTo>
                  <a:pt x="23962" y="10800"/>
                </a:lnTo>
                <a:lnTo>
                  <a:pt x="9949"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8954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Marine stationed in Afghanistan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cently received a “Dear John” lett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om his girlfriend back hom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 read as follows:</a:t>
            </a:r>
            <a:endParaRPr b="0" lang="en-US" sz="2200" spc="-1" strike="noStrike">
              <a:solidFill>
                <a:srgbClr val="000000"/>
              </a:solidFill>
              <a:latin typeface="Arial"/>
            </a:endParaRPr>
          </a:p>
        </p:txBody>
      </p:sp>
      <p:sp>
        <p:nvSpPr>
          <p:cNvPr id="42" name="">
            <a:hlinkClick r:id="" action="ppaction://hlinkshowjump?jump=nextslide"/>
          </p:cNvPr>
          <p:cNvSpPr/>
          <p:nvPr/>
        </p:nvSpPr>
        <p:spPr>
          <a:xfrm>
            <a:off x="8534520" y="76320"/>
            <a:ext cx="533160" cy="339480"/>
          </a:xfrm>
          <a:custGeom>
            <a:avLst/>
            <a:gdLst>
              <a:gd name="textAreaLeft" fmla="*/ 21960 w 533160"/>
              <a:gd name="textAreaRight" fmla="*/ 511200 w 533160"/>
              <a:gd name="textAreaTop" fmla="*/ 21960 h 339480"/>
              <a:gd name="textAreaBottom" fmla="*/ 317520 h 339480"/>
            </a:gdLst>
            <a:ahLst/>
            <a:rect l="textAreaLeft" t="textAreaTop" r="textAreaRight" b="textAreaBottom"/>
            <a:pathLst>
              <a:path w="33910" h="21600">
                <a:moveTo>
                  <a:pt x="0" y="0"/>
                </a:moveTo>
                <a:lnTo>
                  <a:pt x="33910" y="0"/>
                </a:lnTo>
                <a:lnTo>
                  <a:pt x="33910" y="21600"/>
                </a:lnTo>
                <a:lnTo>
                  <a:pt x="0" y="21600"/>
                </a:lnTo>
                <a:close/>
              </a:path>
              <a:path fill="lightenLess" w="33910" h="21600">
                <a:moveTo>
                  <a:pt x="0" y="0"/>
                </a:moveTo>
                <a:lnTo>
                  <a:pt x="33910" y="0"/>
                </a:lnTo>
                <a:lnTo>
                  <a:pt x="32510" y="1400"/>
                </a:lnTo>
                <a:lnTo>
                  <a:pt x="1400" y="1400"/>
                </a:lnTo>
                <a:close/>
              </a:path>
              <a:path fill="darken" w="33910" h="21600">
                <a:moveTo>
                  <a:pt x="33910" y="0"/>
                </a:moveTo>
                <a:lnTo>
                  <a:pt x="33910" y="21600"/>
                </a:lnTo>
                <a:lnTo>
                  <a:pt x="32510" y="20200"/>
                </a:lnTo>
                <a:lnTo>
                  <a:pt x="32510" y="1400"/>
                </a:lnTo>
                <a:close/>
              </a:path>
              <a:path fill="darkenLess" w="33910" h="21600">
                <a:moveTo>
                  <a:pt x="33910" y="21600"/>
                </a:moveTo>
                <a:lnTo>
                  <a:pt x="0" y="21600"/>
                </a:lnTo>
                <a:lnTo>
                  <a:pt x="1400" y="20200"/>
                </a:lnTo>
                <a:lnTo>
                  <a:pt x="32510" y="20200"/>
                </a:lnTo>
                <a:close/>
              </a:path>
              <a:path fill="lighten" w="33910" h="21600">
                <a:moveTo>
                  <a:pt x="0" y="21600"/>
                </a:moveTo>
                <a:lnTo>
                  <a:pt x="0" y="0"/>
                </a:lnTo>
                <a:lnTo>
                  <a:pt x="1400" y="1400"/>
                </a:lnTo>
                <a:lnTo>
                  <a:pt x="1400" y="20200"/>
                </a:lnTo>
                <a:close/>
              </a:path>
              <a:path fill="darken" w="33910" h="21600">
                <a:moveTo>
                  <a:pt x="9949" y="3794"/>
                </a:moveTo>
                <a:lnTo>
                  <a:pt x="23962" y="10800"/>
                </a:lnTo>
                <a:lnTo>
                  <a:pt x="9949"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5440" cy="6859440"/>
          </a:xfrm>
          <a:prstGeom prst="rect">
            <a:avLst/>
          </a:prstGeom>
          <a:ln w="0">
            <a:noFill/>
          </a:ln>
        </p:spPr>
      </p:pic>
      <p:sp>
        <p:nvSpPr>
          <p:cNvPr id="44" name="">
            <a:hlinkClick r:id="" action="ppaction://hlinkshowjump?jump=nextslide"/>
          </p:cNvPr>
          <p:cNvSpPr/>
          <p:nvPr/>
        </p:nvSpPr>
        <p:spPr>
          <a:xfrm>
            <a:off x="8534520" y="76320"/>
            <a:ext cx="533160" cy="339480"/>
          </a:xfrm>
          <a:custGeom>
            <a:avLst/>
            <a:gdLst>
              <a:gd name="textAreaLeft" fmla="*/ 21960 w 533160"/>
              <a:gd name="textAreaRight" fmla="*/ 511200 w 533160"/>
              <a:gd name="textAreaTop" fmla="*/ 21960 h 339480"/>
              <a:gd name="textAreaBottom" fmla="*/ 317520 h 339480"/>
            </a:gdLst>
            <a:ahLst/>
            <a:rect l="textAreaLeft" t="textAreaTop" r="textAreaRight" b="textAreaBottom"/>
            <a:pathLst>
              <a:path w="33910" h="21600">
                <a:moveTo>
                  <a:pt x="0" y="0"/>
                </a:moveTo>
                <a:lnTo>
                  <a:pt x="33910" y="0"/>
                </a:lnTo>
                <a:lnTo>
                  <a:pt x="33910" y="21600"/>
                </a:lnTo>
                <a:lnTo>
                  <a:pt x="0" y="21600"/>
                </a:lnTo>
                <a:close/>
              </a:path>
              <a:path fill="lightenLess" w="33910" h="21600">
                <a:moveTo>
                  <a:pt x="0" y="0"/>
                </a:moveTo>
                <a:lnTo>
                  <a:pt x="33910" y="0"/>
                </a:lnTo>
                <a:lnTo>
                  <a:pt x="32510" y="1400"/>
                </a:lnTo>
                <a:lnTo>
                  <a:pt x="1400" y="1400"/>
                </a:lnTo>
                <a:close/>
              </a:path>
              <a:path fill="darken" w="33910" h="21600">
                <a:moveTo>
                  <a:pt x="33910" y="0"/>
                </a:moveTo>
                <a:lnTo>
                  <a:pt x="33910" y="21600"/>
                </a:lnTo>
                <a:lnTo>
                  <a:pt x="32510" y="20200"/>
                </a:lnTo>
                <a:lnTo>
                  <a:pt x="32510" y="1400"/>
                </a:lnTo>
                <a:close/>
              </a:path>
              <a:path fill="darkenLess" w="33910" h="21600">
                <a:moveTo>
                  <a:pt x="33910" y="21600"/>
                </a:moveTo>
                <a:lnTo>
                  <a:pt x="0" y="21600"/>
                </a:lnTo>
                <a:lnTo>
                  <a:pt x="1400" y="20200"/>
                </a:lnTo>
                <a:lnTo>
                  <a:pt x="32510" y="20200"/>
                </a:lnTo>
                <a:close/>
              </a:path>
              <a:path fill="lighten" w="33910" h="21600">
                <a:moveTo>
                  <a:pt x="0" y="21600"/>
                </a:moveTo>
                <a:lnTo>
                  <a:pt x="0" y="0"/>
                </a:lnTo>
                <a:lnTo>
                  <a:pt x="1400" y="1400"/>
                </a:lnTo>
                <a:lnTo>
                  <a:pt x="1400" y="20200"/>
                </a:lnTo>
                <a:close/>
              </a:path>
              <a:path fill="darken" w="33910" h="21600">
                <a:moveTo>
                  <a:pt x="9949" y="3794"/>
                </a:moveTo>
                <a:lnTo>
                  <a:pt x="23962" y="10800"/>
                </a:lnTo>
                <a:lnTo>
                  <a:pt x="9949"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2209680"/>
            <a:ext cx="8229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Marine, with hurt feelings, asked his fellow Marines for any snapshots they could spare of their girlfriends, sisters, ex-girlfriends, aunts, cousins, etc. In addition to the picture of Becky, Ricky included all the other pictures of the pretty gals he had collected from his buddies. There were 57 photos in that envelope .... along with this note:</a:t>
            </a:r>
            <a:endParaRPr b="0" lang="en-US" sz="2200" spc="-1" strike="noStrike">
              <a:solidFill>
                <a:srgbClr val="000000"/>
              </a:solidFill>
              <a:latin typeface="Arial"/>
            </a:endParaRPr>
          </a:p>
        </p:txBody>
      </p:sp>
      <p:sp>
        <p:nvSpPr>
          <p:cNvPr id="46" name="">
            <a:hlinkClick r:id="" action="ppaction://hlinkshowjump?jump=nextslide"/>
          </p:cNvPr>
          <p:cNvSpPr/>
          <p:nvPr/>
        </p:nvSpPr>
        <p:spPr>
          <a:xfrm>
            <a:off x="8534520" y="76320"/>
            <a:ext cx="533160" cy="339480"/>
          </a:xfrm>
          <a:custGeom>
            <a:avLst/>
            <a:gdLst>
              <a:gd name="textAreaLeft" fmla="*/ 21960 w 533160"/>
              <a:gd name="textAreaRight" fmla="*/ 511200 w 533160"/>
              <a:gd name="textAreaTop" fmla="*/ 21960 h 339480"/>
              <a:gd name="textAreaBottom" fmla="*/ 317520 h 339480"/>
            </a:gdLst>
            <a:ahLst/>
            <a:rect l="textAreaLeft" t="textAreaTop" r="textAreaRight" b="textAreaBottom"/>
            <a:pathLst>
              <a:path w="33910" h="21600">
                <a:moveTo>
                  <a:pt x="0" y="0"/>
                </a:moveTo>
                <a:lnTo>
                  <a:pt x="33910" y="0"/>
                </a:lnTo>
                <a:lnTo>
                  <a:pt x="33910" y="21600"/>
                </a:lnTo>
                <a:lnTo>
                  <a:pt x="0" y="21600"/>
                </a:lnTo>
                <a:close/>
              </a:path>
              <a:path fill="lightenLess" w="33910" h="21600">
                <a:moveTo>
                  <a:pt x="0" y="0"/>
                </a:moveTo>
                <a:lnTo>
                  <a:pt x="33910" y="0"/>
                </a:lnTo>
                <a:lnTo>
                  <a:pt x="32510" y="1400"/>
                </a:lnTo>
                <a:lnTo>
                  <a:pt x="1400" y="1400"/>
                </a:lnTo>
                <a:close/>
              </a:path>
              <a:path fill="darken" w="33910" h="21600">
                <a:moveTo>
                  <a:pt x="33910" y="0"/>
                </a:moveTo>
                <a:lnTo>
                  <a:pt x="33910" y="21600"/>
                </a:lnTo>
                <a:lnTo>
                  <a:pt x="32510" y="20200"/>
                </a:lnTo>
                <a:lnTo>
                  <a:pt x="32510" y="1400"/>
                </a:lnTo>
                <a:close/>
              </a:path>
              <a:path fill="darkenLess" w="33910" h="21600">
                <a:moveTo>
                  <a:pt x="33910" y="21600"/>
                </a:moveTo>
                <a:lnTo>
                  <a:pt x="0" y="21600"/>
                </a:lnTo>
                <a:lnTo>
                  <a:pt x="1400" y="20200"/>
                </a:lnTo>
                <a:lnTo>
                  <a:pt x="32510" y="20200"/>
                </a:lnTo>
                <a:close/>
              </a:path>
              <a:path fill="lighten" w="33910" h="21600">
                <a:moveTo>
                  <a:pt x="0" y="21600"/>
                </a:moveTo>
                <a:lnTo>
                  <a:pt x="0" y="0"/>
                </a:lnTo>
                <a:lnTo>
                  <a:pt x="1400" y="1400"/>
                </a:lnTo>
                <a:lnTo>
                  <a:pt x="1400" y="20200"/>
                </a:lnTo>
                <a:close/>
              </a:path>
              <a:path fill="darken" w="33910" h="21600">
                <a:moveTo>
                  <a:pt x="9949" y="3794"/>
                </a:moveTo>
                <a:lnTo>
                  <a:pt x="23962" y="10800"/>
                </a:lnTo>
                <a:lnTo>
                  <a:pt x="9949"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5440" cy="68594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20:24:13Z</dcterms:created>
  <dc:creator/>
  <dc:description/>
  <dc:language>en-US</dc:language>
  <cp:lastModifiedBy>Max Bravo LLC</cp:lastModifiedBy>
  <dcterms:modified xsi:type="dcterms:W3CDTF">2005-08-12T20:33:49Z</dcterms:modified>
  <cp:revision>4</cp:revision>
  <dc:subject/>
  <dc:title>Break Up Letter</dc:title>
</cp:coreProperties>
</file>