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Bilitis%20Pourcel.wav" ContentType="audio/x-wav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73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5611"/>
            </a:avLst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72" descr="blé t56T"/>
          <p:cNvPicPr/>
          <p:nvPr/>
        </p:nvPicPr>
        <p:blipFill>
          <a:blip r:embed="rId3"/>
          <a:stretch/>
        </p:blipFill>
        <p:spPr>
          <a:xfrm rot="20893800">
            <a:off x="-34560" y="3579840"/>
            <a:ext cx="1370160" cy="2249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74" descr="orna5"/>
          <p:cNvPicPr/>
          <p:nvPr/>
        </p:nvPicPr>
        <p:blipFill>
          <a:blip r:embed="rId4"/>
          <a:stretch/>
        </p:blipFill>
        <p:spPr>
          <a:xfrm>
            <a:off x="0" y="0"/>
            <a:ext cx="60012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75" descr="orna5"/>
          <p:cNvPicPr/>
          <p:nvPr/>
        </p:nvPicPr>
        <p:blipFill>
          <a:blip r:embed="rId5"/>
          <a:stretch/>
        </p:blipFill>
        <p:spPr>
          <a:xfrm>
            <a:off x="8543880" y="0"/>
            <a:ext cx="600120" cy="609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76" descr="orna5"/>
          <p:cNvPicPr/>
          <p:nvPr/>
        </p:nvPicPr>
        <p:blipFill>
          <a:blip r:embed="rId6"/>
          <a:stretch/>
        </p:blipFill>
        <p:spPr>
          <a:xfrm>
            <a:off x="8543880" y="6248520"/>
            <a:ext cx="600120" cy="609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77" descr="orna5"/>
          <p:cNvPicPr/>
          <p:nvPr/>
        </p:nvPicPr>
        <p:blipFill>
          <a:blip r:embed="rId7"/>
          <a:stretch/>
        </p:blipFill>
        <p:spPr>
          <a:xfrm>
            <a:off x="0" y="6248520"/>
            <a:ext cx="600120" cy="609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8" descr="blé t56T"/>
          <p:cNvPicPr/>
          <p:nvPr/>
        </p:nvPicPr>
        <p:blipFill>
          <a:blip r:embed="rId8"/>
          <a:stretch/>
        </p:blipFill>
        <p:spPr>
          <a:xfrm flipH="1" rot="706200">
            <a:off x="7909920" y="1998720"/>
            <a:ext cx="1242720" cy="203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ilitis%20Pource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roups.yahoo.com/group/funlobby/join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214280" y="1428840"/>
            <a:ext cx="6643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Dif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etwee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ich and Poor Peopl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928880" y="1500120"/>
            <a:ext cx="51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servants who serve us, but they serve other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buy our food, but they grow their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walls around our property to protect us, they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ve friends to protect them."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714680" y="1714680"/>
            <a:ext cx="5472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boy's father was speechless. Then his son adde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"Thanks, Dad, for showing me how poor we are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214280" y="1500120"/>
            <a:ext cx="6429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n't perspective a wonderful thing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kes you wonder what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ould happ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 we all gave thanks for everything we hav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stead of worrying about what we don't ha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500120" y="1785960"/>
            <a:ext cx="59295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eciate every single thing you have, especially your friend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ss this on to friends and help them refresh thei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erspective and appreci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669320" y="2428920"/>
            <a:ext cx="570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ve Such Mails ? Join This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LICK HERE TO JOIN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571680" y="1143000"/>
            <a:ext cx="8286480" cy="37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54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_x000b__x000b_</a:t>
            </a: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Life is too short</a:t>
            </a: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And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friends are too few. 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00120" y="1428840"/>
            <a:ext cx="60008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e day, the father of a very wealthy family took his son on a trip to the country with the express purpose of showing him how poor people l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y spent a couple of days and nights on the farm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 would be considered a very poor family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643040" y="1143000"/>
            <a:ext cx="53294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 their return from their trip, the father asked his son,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"How was the trip?"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as great, Dad."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d you see how poor people live?" the father asked.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h yeah," said the 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ell me, what did you learn from the trip?"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ked the fath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p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643040" y="1285920"/>
            <a:ext cx="54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on answered: "I saw that we have one dog and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had fou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a pool that reaches to the middle of our garden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 they have a creek that has no end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imported lanterns in our garden and they have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tars at nigh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050920" y="2276640"/>
            <a:ext cx="54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ur patio reaches to the front yard and they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ve the whole horizon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a small piece of land to live on and they have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elds that go beyond our sight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6:21:36Z</dcterms:created>
  <dc:creator/>
  <dc:description/>
  <dc:language>en-US</dc:language>
  <cp:lastModifiedBy>vineet</cp:lastModifiedBy>
  <dcterms:modified xsi:type="dcterms:W3CDTF">2012-05-17T06:47:32Z</dcterms:modified>
  <cp:revision>8</cp:revision>
  <dc:subject/>
  <dc:title>Poor and Rich Friends</dc:title>
</cp:coreProperties>
</file>