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40B-5986-4862-AF5E-1F4EBB7E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D45-131C-45E6-961A-E1FE5232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E79-700C-4AC4-97AA-53670FD5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A21-0823-48C8-B34D-E7D020BF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FE8-9495-4B61-B57A-932B640A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D51-81D8-4CF8-B9D4-E51804C1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44E-3FB2-4A57-AE80-06E63206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185-CCC0-4542-A18F-CCFECE39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B5F-0817-48A9-A0B9-CD16A6B1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661-8C2E-4D7F-95B7-05C36E64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559-0CC1-4747-8324-537603A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746-A26B-40B3-8354-B2878100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23B2-E52B-4EF4-8977-74918B930A2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The Magical Elev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084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5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705720" cy="627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33240" y="68580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Wif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you nex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5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5295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19720" y="1203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lease wait here! I will do the check-in  and then come ba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5" descr=""/>
          <p:cNvPicPr/>
          <p:nvPr/>
        </p:nvPicPr>
        <p:blipFill>
          <a:blip r:embed="rId1"/>
          <a:stretch/>
        </p:blipFill>
        <p:spPr>
          <a:xfrm>
            <a:off x="685800" y="728640"/>
            <a:ext cx="7848720" cy="5454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88480" y="9144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This is a couple from Melanesia.  They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traveling in a plane for the first time in their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They are very kind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5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149720" cy="5486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11280" y="1197000"/>
            <a:ext cx="4438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It‘s the first time they are in contact with the modern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ut don‘t worry they are cl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5" descr=""/>
          <p:cNvPicPr/>
          <p:nvPr/>
        </p:nvPicPr>
        <p:blipFill>
          <a:blip r:embed="rId1"/>
          <a:stretch/>
        </p:blipFill>
        <p:spPr>
          <a:xfrm>
            <a:off x="1371600" y="254160"/>
            <a:ext cx="6477120" cy="6424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41360" y="4572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What‘s an elevat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4600" y="98100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Having no cl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54482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189680" cy="4292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43257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3038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38336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0:57:26Z</dcterms:created>
  <dc:creator>BONNEZ ALAIN</dc:creator>
  <dc:description/>
  <dc:language>en-US</dc:language>
  <cp:lastModifiedBy>administrator</cp:lastModifiedBy>
  <dcterms:modified xsi:type="dcterms:W3CDTF">2006-05-23T09:58:13Z</dcterms:modified>
  <cp:revision>6</cp:revision>
  <dc:subject/>
  <dc:title>Diapositive 1</dc:title>
</cp:coreProperties>
</file>