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316-7866-4C03-9D41-C9417D70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6A5-92DD-4490-AF0B-98D0987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F80-6655-46EA-AD34-85F78C72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EBB-B3B2-4AAB-81DC-C2DDE16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329-E69C-4BB1-A165-2E24C69D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EB2-8DD8-4BA1-B2C2-D047645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2A1-B793-4708-8D54-89AFEBC9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61F-19E6-4222-9CC0-8D147B0B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BA2-A8E9-4C66-97C7-FE2D0639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A1D-C5EC-43F4-8294-5AD3FEC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75C-14A7-40D7-BCD4-755E281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AFA-B5CB-4CD3-B319-A07AE1D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641-86F1-48CF-A177-6AC3ECC25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 Mother-in-law decides to see</a:t>
            </a: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if her three son-in-law’s lover her</a:t>
            </a: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or at least appreciate h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00280" y="1374840"/>
            <a:ext cx="75438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next day while strolling along the riv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her first son-in-la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she lets herself fall into the water and starts to d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Without hesitation, the son-in-law jumps in the river and saves his mother-in-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next day, in front of his hou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he finds a new car, a Peugeot 20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with a little note on the windsh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4" name=""/>
          <p:cNvSpPr/>
          <p:nvPr/>
        </p:nvSpPr>
        <p:spPr>
          <a:xfrm rot="20584200">
            <a:off x="3050280" y="1294920"/>
            <a:ext cx="2514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Times New Roman"/>
              </a:rPr>
              <a:t>Thank-you on behalf of your mother-in-law who loves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8200" y="1714320"/>
            <a:ext cx="62676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She undertakes the same scenario with</a:t>
            </a: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her second eldest son-in-law.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is one too, dives into the river and saves his mother-in-law.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next day, he too, in front of his house, finds a new car: the same Peugeot 206 with a little note on the windsh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6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994200">
            <a:off x="4266360" y="1419120"/>
            <a:ext cx="2438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Times New Roman"/>
              </a:rPr>
              <a:t>Thank-you on behalf of your mother-in-law who loves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same scenario occurs with the third son-in-law, she falls in the water and starts to drown.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He watches his mother-in-law drown while thinking to himself: I’ve been waiting a long time for this!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e next day, in front of his house, he sees a brand new Porsche Carrera GT with a little note on the windsh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 rot="21350400">
            <a:off x="3200040" y="1904760"/>
            <a:ext cx="2583000" cy="20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1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CA" sz="2200" spc="-1" strike="noStrike">
                <a:solidFill>
                  <a:srgbClr val="ffffff"/>
                </a:solidFill>
                <a:latin typeface="Times New Roman"/>
              </a:rPr>
              <a:t>Thank-you on behalf of a grateful  father-in-la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9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0:13:12Z</dcterms:created>
  <dc:creator/>
  <dc:description/>
  <dc:language>en-US</dc:language>
  <cp:lastModifiedBy>John Sadler</cp:lastModifiedBy>
  <dcterms:modified xsi:type="dcterms:W3CDTF">2006-09-19T22:58:24Z</dcterms:modified>
  <cp:revision>11</cp:revision>
  <dc:subject/>
  <dc:title>A Mother-in-law decides to see if her three son-in-law’s lover her or at least appreciate her…</dc:title>
</cp:coreProperties>
</file>