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09B5-2801-411E-ADCD-EE584E2073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25E0-21D4-4D53-92B7-A54CFD3F359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om pot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C62A-5A0D-4BA6-936F-3185EFABF9B6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s de panique, c’est un air qu’il se don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FA0E-2707-48ED-AEBF-C7244C7689A9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L’herbe est toujours plus verte aill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39DF-3746-4B21-B870-500B882669A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On t’a vu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EC38-2AAE-4DB7-B633-4C10064E5A74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ridi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1428-446A-483B-9A64-7CEEA53FD70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Être si proche du but.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D635-EFAA-4282-80C5-6FDB283602FB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ci, on ne connait p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C1A6-22DF-48AC-A3C6-DCC965FE77B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Vas-y Louis, tu tiens le bon 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4B2B-BE39-4FF2-B334-CFEFF64833E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y flowers are beauti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3D31-88C2-4B85-B404-95F835191B2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Oh la belle rou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28B2-1C2E-4E51-9E48-483FC7217A1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B5B6-6CD7-446A-909F-9E6809595B1A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i cela peut-il bien être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AADD-3968-42A3-8A8E-6918D85D301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ertains chefs se reconnaitron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D3EA-EC54-4065-8977-298B99313F5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omment est-ce possibl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DB8F-7C1F-4BE9-BF4E-3C43EB032C2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No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D219-EAE8-4E4A-8ED8-BBA441B5C4A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t en plus il n’est pas beau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7CC3-39E5-4E90-BB13-EB8F61D5F61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’est lui qui va au casse-p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A4E6-1690-4B3A-BC7A-48AED5628EE9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alut l’arti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B148-4C86-4B2B-9380-4C57B251F10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ais non, tu n’es pas visé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9975-D083-4A0F-8787-F3872FF3BA8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oi j’aime pas les jamais conten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15E-CBE3-4EAD-824A-9D96D6EB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EC3-CC65-45E7-920D-9DF23DA0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052-57F1-4E6E-9D84-7D75DE38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20C-F6C5-4070-911D-9932BE1C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1EBB6-CC90-4C02-A3BD-FA21AC05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0E4EE-4D58-41F4-87CD-3EFC436E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62D62-20FA-433A-8ECB-47014708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D16EE-5749-446C-825C-D7BBE2C8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87135-9A13-4900-8475-DF96F2BB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E34D8-E12B-43C5-8A33-0539410C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B2D78-A095-461C-820A-938E317C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7A6-0A10-4501-8E47-CDFCE866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38F7C-8590-4E58-A93F-02FC0784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B05A1-86AC-4E17-A9AA-8212E105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FF0CD-5501-4D12-9784-FD03E24A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E39B4-A366-441F-98C8-E5B97FE0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2F6CD-00A8-40CC-948D-F6E95CDB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077-2277-4BD5-ADAB-C156D559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272-4A86-4286-8D12-FE44868E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55C-73C8-4597-9696-15B7A27A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A81-0865-4DD6-9266-9AAE9B27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452-20D8-4E2B-9F2D-49F771CA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7FE-8D3A-4495-BAC2-C10BCDB9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C8B-B907-4670-AA1F-417AEECC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E808-C76E-4235-92BE-BC9C5F451D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028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C9C3-F060-4FFF-922A-BB45B441A7E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996920"/>
            <a:ext cx="9144000" cy="2944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Tahoma"/>
                <a:ea typeface="SimSun"/>
              </a:rPr>
              <a:t>The People at offices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077480" y="6396120"/>
            <a:ext cx="31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– Funlobby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Tahoma"/>
                <a:ea typeface="SimSun"/>
              </a:rPr>
              <a:t>I.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npo000037"/>
          <p:cNvPicPr/>
          <p:nvPr/>
        </p:nvPicPr>
        <p:blipFill>
          <a:blip r:embed="rId1"/>
          <a:stretch/>
        </p:blipFill>
        <p:spPr>
          <a:xfrm>
            <a:off x="1835280" y="1700280"/>
            <a:ext cx="5329080" cy="4897440"/>
          </a:xfrm>
          <a:prstGeom prst="rect">
            <a:avLst/>
          </a:prstGeom>
          <a:ln w="0">
            <a:noFill/>
          </a:ln>
        </p:spPr>
      </p:pic>
      <p:sp>
        <p:nvSpPr>
          <p:cNvPr id="119" name="WordArt 9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ahoma"/>
                <a:ea typeface="SimSun"/>
              </a:rPr>
              <a:t>logist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npo000039"/>
          <p:cNvPicPr/>
          <p:nvPr/>
        </p:nvPicPr>
        <p:blipFill>
          <a:blip r:embed="rId1"/>
          <a:stretch/>
        </p:blipFill>
        <p:spPr>
          <a:xfrm>
            <a:off x="1547640" y="1557360"/>
            <a:ext cx="6048720" cy="53006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9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ahoma"/>
                <a:ea typeface="SimSun"/>
              </a:rPr>
              <a:t>Financ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npo00003b"/>
          <p:cNvPicPr/>
          <p:nvPr/>
        </p:nvPicPr>
        <p:blipFill>
          <a:blip r:embed="rId1"/>
          <a:stretch/>
        </p:blipFill>
        <p:spPr>
          <a:xfrm>
            <a:off x="1547640" y="1628640"/>
            <a:ext cx="6264360" cy="5229360"/>
          </a:xfrm>
          <a:prstGeom prst="rect">
            <a:avLst/>
          </a:prstGeom>
          <a:ln w="0">
            <a:noFill/>
          </a:ln>
        </p:spPr>
      </p:pic>
      <p:sp>
        <p:nvSpPr>
          <p:cNvPr id="125" name="WordArt 9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Tahoma"/>
                <a:ea typeface="SimSun"/>
              </a:rPr>
              <a:t>HR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npo00003d"/>
          <p:cNvPicPr/>
          <p:nvPr/>
        </p:nvPicPr>
        <p:blipFill>
          <a:blip r:embed="rId1"/>
          <a:stretch/>
        </p:blipFill>
        <p:spPr>
          <a:xfrm>
            <a:off x="1835280" y="1700280"/>
            <a:ext cx="5689440" cy="5157720"/>
          </a:xfrm>
          <a:prstGeom prst="rect">
            <a:avLst/>
          </a:prstGeom>
          <a:ln w="0">
            <a:noFill/>
          </a:ln>
        </p:spPr>
      </p:pic>
      <p:sp>
        <p:nvSpPr>
          <p:cNvPr id="128" name="WordArt 9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ffff"/>
                </a:solidFill>
                <a:latin typeface="Tahoma"/>
                <a:ea typeface="SimSun"/>
              </a:rPr>
              <a:t>Frustrated worker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npo00003f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9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ahoma"/>
                <a:ea typeface="SimSun"/>
              </a:rPr>
              <a:t>marke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npo000041"/>
          <p:cNvPicPr/>
          <p:nvPr/>
        </p:nvPicPr>
        <p:blipFill>
          <a:blip r:embed="rId1"/>
          <a:stretch/>
        </p:blipFill>
        <p:spPr>
          <a:xfrm>
            <a:off x="324000" y="2421000"/>
            <a:ext cx="8569080" cy="4437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9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ffff"/>
                </a:solidFill>
                <a:latin typeface="Tahoma"/>
                <a:ea typeface="SimSun"/>
              </a:rPr>
              <a:t>Middle Management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npo000043"/>
          <p:cNvPicPr/>
          <p:nvPr/>
        </p:nvPicPr>
        <p:blipFill>
          <a:blip r:embed="rId1"/>
          <a:stretch/>
        </p:blipFill>
        <p:spPr>
          <a:xfrm>
            <a:off x="971640" y="1844640"/>
            <a:ext cx="7345440" cy="5013360"/>
          </a:xfrm>
          <a:prstGeom prst="rect">
            <a:avLst/>
          </a:prstGeom>
          <a:ln w="0">
            <a:noFill/>
          </a:ln>
        </p:spPr>
      </p:pic>
      <p:sp>
        <p:nvSpPr>
          <p:cNvPr id="137" name="WordArt 9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ahoma"/>
                <a:ea typeface="SimSun"/>
              </a:rPr>
              <a:t>The traine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npo000045"/>
          <p:cNvPicPr/>
          <p:nvPr/>
        </p:nvPicPr>
        <p:blipFill>
          <a:blip r:embed="rId1"/>
          <a:stretch/>
        </p:blipFill>
        <p:spPr>
          <a:xfrm>
            <a:off x="2556000" y="1413000"/>
            <a:ext cx="3671640" cy="5445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7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ahoma"/>
                <a:ea typeface="SimSun"/>
              </a:rPr>
              <a:t>The boss ’s wif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npo000047"/>
          <p:cNvPicPr/>
          <p:nvPr/>
        </p:nvPicPr>
        <p:blipFill>
          <a:blip r:embed="rId1"/>
          <a:stretch/>
        </p:blipFill>
        <p:spPr>
          <a:xfrm>
            <a:off x="1835280" y="1773360"/>
            <a:ext cx="5689440" cy="5084640"/>
          </a:xfrm>
          <a:prstGeom prst="rect">
            <a:avLst/>
          </a:prstGeom>
          <a:ln w="0">
            <a:noFill/>
          </a:ln>
        </p:spPr>
      </p:pic>
      <p:sp>
        <p:nvSpPr>
          <p:cNvPr id="143" name="WordArt 9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ahoma"/>
                <a:ea typeface="SimSun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ahoma"/>
                <a:ea typeface="SimSun"/>
              </a:rPr>
              <a:t>       </a:t>
            </a:r>
            <a:r>
              <a:rPr b="1" lang="fr-FR" sz="9600" spc="-1" strike="noStrike">
                <a:solidFill>
                  <a:srgbClr val="ffffff"/>
                </a:solidFill>
                <a:latin typeface="Tahoma"/>
                <a:ea typeface="SimSun"/>
              </a:rPr>
              <a:t>And …...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ahoma"/>
                <a:ea typeface="SimSun"/>
              </a:rPr>
              <a:t>The recep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npo000027"/>
          <p:cNvPicPr/>
          <p:nvPr/>
        </p:nvPicPr>
        <p:blipFill>
          <a:blip r:embed="rId1"/>
          <a:stretch/>
        </p:blipFill>
        <p:spPr>
          <a:xfrm>
            <a:off x="1503360" y="1905120"/>
            <a:ext cx="613728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WordArt 7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ffff"/>
                </a:solidFill>
                <a:latin typeface="Tahoma"/>
                <a:ea typeface="SimSun"/>
              </a:rPr>
              <a:t>The BOSS !!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npo000049"/>
          <p:cNvPicPr/>
          <p:nvPr/>
        </p:nvPicPr>
        <p:blipFill>
          <a:blip r:embed="rId1"/>
          <a:stretch/>
        </p:blipFill>
        <p:spPr>
          <a:xfrm>
            <a:off x="1574640" y="1792440"/>
            <a:ext cx="5994720" cy="4589280"/>
          </a:xfrm>
          <a:prstGeom prst="rect">
            <a:avLst/>
          </a:prstGeom>
          <a:ln w="0">
            <a:noFill/>
          </a:ln>
        </p:spPr>
      </p:pic>
      <p:sp>
        <p:nvSpPr>
          <p:cNvPr id="148" name="WordArt 8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239220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1187280" y="333360"/>
            <a:ext cx="597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r more cool PPs</a:t>
            </a:r>
            <a:endParaRPr b="0" lang="en-US" sz="4400" spc="1" strike="noStrike">
              <a:ln w="0">
                <a:noFill/>
              </a:ln>
              <a:solidFill>
                <a:srgbClr val="ff505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2700360" y="2492280"/>
            <a:ext cx="30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153440" y="3071880"/>
            <a:ext cx="664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 join our group click below: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600" spc="-1" strike="noStrike">
                <a:solidFill>
                  <a:srgbClr val="92d050"/>
                </a:solidFill>
                <a:latin typeface="Tahoma"/>
              </a:rPr>
              <a:t>Join this group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ahoma"/>
                <a:ea typeface="SimSun"/>
              </a:rPr>
              <a:t>The secretar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npo000029"/>
          <p:cNvPicPr/>
          <p:nvPr/>
        </p:nvPicPr>
        <p:blipFill>
          <a:blip r:embed="rId1"/>
          <a:stretch/>
        </p:blipFill>
        <p:spPr>
          <a:xfrm>
            <a:off x="1554120" y="1905120"/>
            <a:ext cx="603396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WordArt 8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ahoma"/>
                <a:ea typeface="SimSun"/>
              </a:rPr>
              <a:t>The son of the Bo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npo00002b"/>
          <p:cNvPicPr/>
          <p:nvPr/>
        </p:nvPicPr>
        <p:blipFill>
          <a:blip r:embed="rId1"/>
          <a:stretch/>
        </p:blipFill>
        <p:spPr>
          <a:xfrm>
            <a:off x="1714680" y="1900080"/>
            <a:ext cx="5736960" cy="4408560"/>
          </a:xfrm>
          <a:prstGeom prst="rect">
            <a:avLst/>
          </a:prstGeom>
          <a:ln w="0">
            <a:noFill/>
          </a:ln>
        </p:spPr>
      </p:pic>
      <p:sp>
        <p:nvSpPr>
          <p:cNvPr id="101" name="WordArt 9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ahoma"/>
                <a:ea typeface="SimSun"/>
              </a:rPr>
              <a:t>The Jok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npo00002d"/>
          <p:cNvPicPr/>
          <p:nvPr/>
        </p:nvPicPr>
        <p:blipFill>
          <a:blip r:embed="rId1"/>
          <a:stretch/>
        </p:blipFill>
        <p:spPr>
          <a:xfrm>
            <a:off x="1908000" y="1700280"/>
            <a:ext cx="5400720" cy="4897440"/>
          </a:xfrm>
          <a:prstGeom prst="rect">
            <a:avLst/>
          </a:prstGeom>
          <a:ln w="0">
            <a:noFill/>
          </a:ln>
        </p:spPr>
      </p:pic>
      <p:sp>
        <p:nvSpPr>
          <p:cNvPr id="104" name="WordArt 9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ahoma"/>
                <a:ea typeface="SimSun"/>
              </a:rPr>
              <a:t>The lea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npo00002f"/>
          <p:cNvPicPr/>
          <p:nvPr/>
        </p:nvPicPr>
        <p:blipFill>
          <a:blip r:embed="rId1"/>
          <a:stretch/>
        </p:blipFill>
        <p:spPr>
          <a:xfrm>
            <a:off x="1557360" y="1700280"/>
            <a:ext cx="6029280" cy="48974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8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ahoma"/>
                <a:ea typeface="SimSun"/>
              </a:rPr>
              <a:t>The sal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npo000031"/>
          <p:cNvPicPr/>
          <p:nvPr/>
        </p:nvPicPr>
        <p:blipFill>
          <a:blip r:embed="rId1"/>
          <a:stretch/>
        </p:blipFill>
        <p:spPr>
          <a:xfrm>
            <a:off x="1042920" y="1413000"/>
            <a:ext cx="6913800" cy="5184720"/>
          </a:xfrm>
          <a:prstGeom prst="rect">
            <a:avLst/>
          </a:prstGeom>
          <a:ln w="0">
            <a:noFill/>
          </a:ln>
        </p:spPr>
      </p:pic>
      <p:sp>
        <p:nvSpPr>
          <p:cNvPr id="110" name="WordArt 8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ahoma"/>
                <a:ea typeface="SimSun"/>
              </a:rPr>
              <a:t>The nosey o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npo000033"/>
          <p:cNvPicPr/>
          <p:nvPr/>
        </p:nvPicPr>
        <p:blipFill>
          <a:blip r:embed="rId1"/>
          <a:stretch/>
        </p:blipFill>
        <p:spPr>
          <a:xfrm>
            <a:off x="1332000" y="1844640"/>
            <a:ext cx="6696000" cy="47530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9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ahoma"/>
                <a:ea typeface="SimSun"/>
              </a:rPr>
              <a:t>The unhappy worker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npo000035"/>
          <p:cNvPicPr/>
          <p:nvPr/>
        </p:nvPicPr>
        <p:blipFill>
          <a:blip r:embed="rId1"/>
          <a:stretch/>
        </p:blipFill>
        <p:spPr>
          <a:xfrm>
            <a:off x="2124000" y="1557360"/>
            <a:ext cx="4753080" cy="5300640"/>
          </a:xfrm>
          <a:prstGeom prst="rect">
            <a:avLst/>
          </a:prstGeom>
          <a:ln w="0">
            <a:noFill/>
          </a:ln>
        </p:spPr>
      </p:pic>
      <p:sp>
        <p:nvSpPr>
          <p:cNvPr id="116" name="WordArt 9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18:49:09Z</dcterms:created>
  <dc:creator>www.funnybytes.net</dc:creator>
  <dc:description/>
  <dc:language>en-US</dc:language>
  <cp:lastModifiedBy>vineet</cp:lastModifiedBy>
  <dcterms:modified xsi:type="dcterms:W3CDTF">2012-04-10T07:34:57Z</dcterms:modified>
  <cp:revision>35</cp:revision>
  <dc:subject/>
  <dc:title>Les animaux au…</dc:title>
</cp:coreProperties>
</file>