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326-2529-481B-8302-CDFF3A99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1F4-509D-435A-8E0F-D3C549FE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798-809C-4525-B003-E2246BEC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5B3-FB27-4E59-866D-D5A13AAF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57E-4113-470E-B136-62CDDF5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B51-6A6D-49DD-91B5-EAE1F700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79B-3AD7-412C-B38D-004E9AC6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B80-97B6-47BD-9618-F535341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6CD-1CCC-428C-B6AE-2B8ECCA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016-6CCD-478A-B22B-7787D3F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722-56F4-45B2-9571-6BC5DB67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4F3-6194-4B99-A1BE-B8AFDB9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50CF-F28D-4731-9512-CFDB0426F89D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www.FunOnTheNet.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4DBB-5A7B-49BF-A441-C80F2872F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roups.yahoo.com/group/funlobby/join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7 Days</a:t>
            </a: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7 Months</a:t>
            </a: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7 Year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 Love"/>
          <p:cNvPicPr/>
          <p:nvPr/>
        </p:nvPicPr>
        <p:blipFill>
          <a:blip r:embed="rId1"/>
          <a:stretch/>
        </p:blipFill>
        <p:spPr>
          <a:xfrm>
            <a:off x="533520" y="533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85800" y="2819520"/>
            <a:ext cx="1905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362320" y="304920"/>
            <a:ext cx="1828800" cy="990360"/>
          </a:xfrm>
          <a:prstGeom prst="wedgeRoundRectCallout">
            <a:avLst>
              <a:gd name="adj1" fmla="val -100694"/>
              <a:gd name="adj2" fmla="val 2916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 love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H Auréole"/>
          <p:cNvPicPr/>
          <p:nvPr/>
        </p:nvPicPr>
        <p:blipFill>
          <a:blip r:embed="rId2"/>
          <a:stretch/>
        </p:blipFill>
        <p:spPr>
          <a:xfrm>
            <a:off x="6934320" y="838080"/>
            <a:ext cx="1216080" cy="2124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6400800" y="3124080"/>
            <a:ext cx="1981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572000" y="1447920"/>
            <a:ext cx="1752480" cy="1066680"/>
          </a:xfrm>
          <a:prstGeom prst="wedgeRoundRectCallout">
            <a:avLst>
              <a:gd name="adj1" fmla="val 107245"/>
              <a:gd name="adj2" fmla="val -3422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f cour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 love yo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 gros ventre"/>
          <p:cNvPicPr/>
          <p:nvPr/>
        </p:nvPicPr>
        <p:blipFill>
          <a:blip r:embed="rId3"/>
          <a:stretch/>
        </p:blipFill>
        <p:spPr>
          <a:xfrm>
            <a:off x="4191120" y="3505320"/>
            <a:ext cx="144612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886200" y="57913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838080" y="4267080"/>
            <a:ext cx="2743200" cy="1676520"/>
          </a:xfrm>
          <a:prstGeom prst="wedgeRoundRectCallout">
            <a:avLst>
              <a:gd name="adj1" fmla="val 96703"/>
              <a:gd name="adj2" fmla="val -59657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f I had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ove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’d have gone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 Love"/>
          <p:cNvPicPr/>
          <p:nvPr/>
        </p:nvPicPr>
        <p:blipFill>
          <a:blip r:embed="rId1"/>
          <a:stretch/>
        </p:blipFill>
        <p:spPr>
          <a:xfrm>
            <a:off x="533520" y="533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85800" y="2819520"/>
            <a:ext cx="1905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2362320" y="304920"/>
            <a:ext cx="2209680" cy="990360"/>
          </a:xfrm>
          <a:prstGeom prst="wedgeRoundRectCallout">
            <a:avLst>
              <a:gd name="adj1" fmla="val -91953"/>
              <a:gd name="adj2" fmla="val 2916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ood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y d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 Auréole"/>
          <p:cNvPicPr/>
          <p:nvPr/>
        </p:nvPicPr>
        <p:blipFill>
          <a:blip r:embed="rId2"/>
          <a:stretch/>
        </p:blipFill>
        <p:spPr>
          <a:xfrm>
            <a:off x="6934320" y="838080"/>
            <a:ext cx="1216080" cy="2124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400800" y="3124080"/>
            <a:ext cx="1981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038480" y="1447920"/>
            <a:ext cx="2286000" cy="1066680"/>
          </a:xfrm>
          <a:prstGeom prst="wedgeRoundRectCallout">
            <a:avLst>
              <a:gd name="adj1" fmla="val 93888"/>
              <a:gd name="adj2" fmla="val -3422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ell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s everything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oday with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H gros ventre"/>
          <p:cNvPicPr/>
          <p:nvPr/>
        </p:nvPicPr>
        <p:blipFill>
          <a:blip r:embed="rId3"/>
          <a:stretch/>
        </p:blipFill>
        <p:spPr>
          <a:xfrm>
            <a:off x="4191120" y="3505320"/>
            <a:ext cx="144612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3886200" y="57913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1447920" y="4267080"/>
            <a:ext cx="2133360" cy="1371600"/>
          </a:xfrm>
          <a:prstGeom prst="wedgeRoundRectCallout">
            <a:avLst>
              <a:gd name="adj1" fmla="val 110046"/>
              <a:gd name="adj2" fmla="val -61805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il for 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 Love"/>
          <p:cNvPicPr/>
          <p:nvPr/>
        </p:nvPicPr>
        <p:blipFill>
          <a:blip r:embed="rId1"/>
          <a:stretch/>
        </p:blipFill>
        <p:spPr>
          <a:xfrm>
            <a:off x="533520" y="533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85800" y="2819520"/>
            <a:ext cx="1905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2362320" y="304920"/>
            <a:ext cx="1828800" cy="1218960"/>
          </a:xfrm>
          <a:prstGeom prst="wedgeRoundRectCallout">
            <a:avLst>
              <a:gd name="adj1" fmla="val -100694"/>
              <a:gd name="adj2" fmla="val 14324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arl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your mothe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n th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H Auréole"/>
          <p:cNvPicPr/>
          <p:nvPr/>
        </p:nvPicPr>
        <p:blipFill>
          <a:blip r:embed="rId2"/>
          <a:stretch/>
        </p:blipFill>
        <p:spPr>
          <a:xfrm>
            <a:off x="6934320" y="838080"/>
            <a:ext cx="1216080" cy="2124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6400800" y="3124080"/>
            <a:ext cx="1981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4800600" y="1447920"/>
            <a:ext cx="1523880" cy="914400"/>
          </a:xfrm>
          <a:prstGeom prst="wedgeRoundRectCallout">
            <a:avLst>
              <a:gd name="adj1" fmla="val 115833"/>
              <a:gd name="adj2" fmla="val -31597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t’s for you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H gros ventre"/>
          <p:cNvPicPr/>
          <p:nvPr/>
        </p:nvPicPr>
        <p:blipFill>
          <a:blip r:embed="rId3"/>
          <a:stretch/>
        </p:blipFill>
        <p:spPr>
          <a:xfrm>
            <a:off x="4191120" y="3505320"/>
            <a:ext cx="1446120" cy="2133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886200" y="57913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295280" y="4114800"/>
            <a:ext cx="2590920" cy="1219320"/>
          </a:xfrm>
          <a:prstGeom prst="wedgeRoundRectCallout">
            <a:avLst>
              <a:gd name="adj1" fmla="val 84925"/>
              <a:gd name="adj2" fmla="val -48699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hOOOO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 Love"/>
          <p:cNvPicPr/>
          <p:nvPr/>
        </p:nvPicPr>
        <p:blipFill>
          <a:blip r:embed="rId1"/>
          <a:stretch/>
        </p:blipFill>
        <p:spPr>
          <a:xfrm>
            <a:off x="533520" y="533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5800" y="2819520"/>
            <a:ext cx="1905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2362320" y="304920"/>
            <a:ext cx="1828800" cy="1218960"/>
          </a:xfrm>
          <a:prstGeom prst="wedgeRoundRectCallout">
            <a:avLst>
              <a:gd name="adj1" fmla="val -100694"/>
              <a:gd name="adj2" fmla="val 14324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le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g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with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 Auréole"/>
          <p:cNvPicPr/>
          <p:nvPr/>
        </p:nvPicPr>
        <p:blipFill>
          <a:blip r:embed="rId2"/>
          <a:stretch/>
        </p:blipFill>
        <p:spPr>
          <a:xfrm>
            <a:off x="6934320" y="838080"/>
            <a:ext cx="1216080" cy="212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400800" y="3124080"/>
            <a:ext cx="1981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952880" y="1447920"/>
            <a:ext cx="1371600" cy="838080"/>
          </a:xfrm>
          <a:prstGeom prst="wedgeRoundRectCallout">
            <a:avLst>
              <a:gd name="adj1" fmla="val 123148"/>
              <a:gd name="adj2" fmla="val -29925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gre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H gros ventre"/>
          <p:cNvPicPr/>
          <p:nvPr/>
        </p:nvPicPr>
        <p:blipFill>
          <a:blip r:embed="rId3"/>
          <a:stretch/>
        </p:blipFill>
        <p:spPr>
          <a:xfrm>
            <a:off x="4191120" y="3505320"/>
            <a:ext cx="1446120" cy="2133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3886200" y="57913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1371600" y="4267080"/>
            <a:ext cx="2209680" cy="990720"/>
          </a:xfrm>
          <a:prstGeom prst="wedgeRoundRectCallout">
            <a:avLst>
              <a:gd name="adj1" fmla="val 107972"/>
              <a:gd name="adj2" fmla="val -66347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re you stu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r what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 Love"/>
          <p:cNvPicPr/>
          <p:nvPr/>
        </p:nvPicPr>
        <p:blipFill>
          <a:blip r:embed="rId1"/>
          <a:stretch/>
        </p:blipFill>
        <p:spPr>
          <a:xfrm>
            <a:off x="533520" y="533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5800" y="2819520"/>
            <a:ext cx="1905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362320" y="304920"/>
            <a:ext cx="1828800" cy="1143000"/>
          </a:xfrm>
          <a:prstGeom prst="wedgeRoundRectCallout">
            <a:avLst>
              <a:gd name="adj1" fmla="val -100694"/>
              <a:gd name="adj2" fmla="val 18611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You lo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 that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H Auréole"/>
          <p:cNvPicPr/>
          <p:nvPr/>
        </p:nvPicPr>
        <p:blipFill>
          <a:blip r:embed="rId2"/>
          <a:stretch/>
        </p:blipFill>
        <p:spPr>
          <a:xfrm>
            <a:off x="6934320" y="838080"/>
            <a:ext cx="1216080" cy="2124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6400800" y="3124080"/>
            <a:ext cx="1981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4572000" y="1447920"/>
            <a:ext cx="1981080" cy="1143000"/>
          </a:xfrm>
          <a:prstGeom prst="wedgeRoundRectCallout">
            <a:avLst>
              <a:gd name="adj1" fmla="val 89101"/>
              <a:gd name="adj2" fmla="val -35277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H gros ventre"/>
          <p:cNvPicPr/>
          <p:nvPr/>
        </p:nvPicPr>
        <p:blipFill>
          <a:blip r:embed="rId3"/>
          <a:stretch/>
        </p:blipFill>
        <p:spPr>
          <a:xfrm>
            <a:off x="4191120" y="3505320"/>
            <a:ext cx="1446120" cy="2133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3886200" y="57913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209680" y="4114800"/>
            <a:ext cx="1981440" cy="990720"/>
          </a:xfrm>
          <a:prstGeom prst="wedgeRoundRectCallout">
            <a:avLst>
              <a:gd name="adj1" fmla="val 84375"/>
              <a:gd name="adj2" fmla="val -53203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ow muc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 Love"/>
          <p:cNvPicPr/>
          <p:nvPr/>
        </p:nvPicPr>
        <p:blipFill>
          <a:blip r:embed="rId1"/>
          <a:stretch/>
        </p:blipFill>
        <p:spPr>
          <a:xfrm>
            <a:off x="533520" y="533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85800" y="2819520"/>
            <a:ext cx="1905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362320" y="304920"/>
            <a:ext cx="2057400" cy="1447560"/>
          </a:xfrm>
          <a:prstGeom prst="wedgeRoundRectCallout">
            <a:avLst>
              <a:gd name="adj1" fmla="val -95060"/>
              <a:gd name="adj2" fmla="val 416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arling,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ot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avou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v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 Auréole"/>
          <p:cNvPicPr/>
          <p:nvPr/>
        </p:nvPicPr>
        <p:blipFill>
          <a:blip r:embed="rId2"/>
          <a:stretch/>
        </p:blipFill>
        <p:spPr>
          <a:xfrm>
            <a:off x="6934320" y="838080"/>
            <a:ext cx="1216080" cy="212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400800" y="3124080"/>
            <a:ext cx="1981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886200" y="1447920"/>
            <a:ext cx="2438280" cy="1523880"/>
          </a:xfrm>
          <a:prstGeom prst="wedgeRoundRectCallout">
            <a:avLst>
              <a:gd name="adj1" fmla="val 91148"/>
              <a:gd name="adj2" fmla="val -38958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re you 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you wa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watch this movi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H gros ventre"/>
          <p:cNvPicPr/>
          <p:nvPr/>
        </p:nvPicPr>
        <p:blipFill>
          <a:blip r:embed="rId3"/>
          <a:stretch/>
        </p:blipFill>
        <p:spPr>
          <a:xfrm>
            <a:off x="4191120" y="3505320"/>
            <a:ext cx="1446120" cy="2133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3886200" y="57913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ried since 7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609480" y="4267080"/>
            <a:ext cx="2971800" cy="1295640"/>
          </a:xfrm>
          <a:prstGeom prst="wedgeRoundRectCallout">
            <a:avLst>
              <a:gd name="adj1" fmla="val 93111"/>
              <a:gd name="adj2" fmla="val -62500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o, tonight ther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 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t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914400" y="3429000"/>
            <a:ext cx="7238880" cy="22096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our group, to receive such cool forwards in your inbo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  <a:hlinkClick r:id="rId1"/>
              </a:rPr>
              <a:t>CLICK HERE TO JOI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ag_end1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305920" y="617220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2286000" y="739800"/>
            <a:ext cx="4572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Thanks For Watching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1143000" y="485784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05:01:32Z</dcterms:created>
  <dc:creator>www.FunOnTheNet.in</dc:creator>
  <dc:description>www.FunOnTheNet.in</dc:description>
  <dc:language>en-US</dc:language>
  <cp:lastModifiedBy>vineet</cp:lastModifiedBy>
  <dcterms:modified xsi:type="dcterms:W3CDTF">2012-04-13T06:42:19Z</dcterms:modified>
  <cp:revision>15</cp:revision>
  <dc:subject>Marriage</dc:subject>
  <dc:title>Marriage</dc:title>
</cp:coreProperties>
</file>