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F50-4D79-40AF-909D-2BD1E841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BB5-972F-4887-84B1-14A2F83C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4A4-B089-45F8-9AC7-01BC9E3C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A6B-7CA8-487E-85E6-4008CA8A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CED-9878-43D9-B7CF-2C1E6D04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C1D-4659-4B14-95B3-DDCBE7F1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AAA-8CEC-4BF0-8B08-0B1028C7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14C-4514-45D9-802A-3C710593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BF2-6C04-4449-B816-A568A936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5A1-7524-40A9-9109-8BAB9AA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0DE-2702-489F-B945-091B6246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233-688B-4E23-BEE8-839B4F8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9BA-0023-4B22-B806-FC314E0B8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oups.yahoo.com/group/funlobby/joi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WHO AM I?</a:t>
            </a:r>
            <a:endParaRPr b="0" lang="en-US" sz="8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You may run me for profit, or run me for ruin;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It makes no difference to m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ake me, train me, be firm with me And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 will put the world at your feet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Be easy with me, and I will destroy you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339"/>
          <p:cNvSpPr/>
          <p:nvPr/>
        </p:nvSpPr>
        <p:spPr>
          <a:xfrm>
            <a:off x="457200" y="25146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WHO AM I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 am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i="1" lang="en-US" sz="12900" spc="-1" strike="noStrike">
                <a:solidFill>
                  <a:srgbClr val="ff0000"/>
                </a:solidFill>
                <a:latin typeface="Copperplate Gothic Light"/>
              </a:rPr>
              <a:t>HABIT</a:t>
            </a:r>
            <a:endParaRPr b="0" lang="en-US" sz="129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ad it once more………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 it with your loveable ………….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 our YAHOO group to Receive Such Mai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CLICK HERE TO JOI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238880" y="41911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6477120" y="56386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2889000" y="198108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tencil"/>
              </a:rPr>
              <a:t>by FUNLOBB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 am your Constant companion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I am your greatest help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year heaviest burde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 will push you onward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rag you down to failur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 am completely at your comman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alf the things you do, you might just as well turn over to me,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And I will be able to do them quickly and correctl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I am easily managed;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You must merely be firm with m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how me exactly how you want something done,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nd after a few lessons I will do it automaticall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I am the servant of all</a:t>
            </a:r>
            <a:br>
              <a:rPr sz="4400"/>
            </a:b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 great peoples </a:t>
            </a:r>
            <a:br>
              <a:rPr sz="4400"/>
            </a:b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and,</a:t>
            </a:r>
            <a:br>
              <a:rPr sz="4400"/>
            </a:b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 alas, </a:t>
            </a:r>
            <a:br>
              <a:rPr sz="4400"/>
            </a:b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of all failure as wel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hose who are great,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I have made grea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hose who are failures,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I have made failures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 am not a machine,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ough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 work with all the precision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f a machine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lus the intelligence of a man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02:00Z</dcterms:created>
  <dc:creator>PRODUCTION</dc:creator>
  <dc:description/>
  <dc:language>en-US</dc:language>
  <cp:lastModifiedBy>vineet</cp:lastModifiedBy>
  <dcterms:modified xsi:type="dcterms:W3CDTF">2012-04-24T08:26:11Z</dcterms:modified>
  <cp:revision>3</cp:revision>
  <dc:subject/>
  <dc:title>WHO AM I?</dc:title>
</cp:coreProperties>
</file>