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BFD4-B6C8-48EA-AFCD-96A2CA4E7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8575-D48C-44C2-8150-C398719AEF11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CA84-A1ED-4673-AC7E-686CEF6C8C0B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E4A7-65C4-47D7-B6AA-C76D20CFD61A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7123-2B84-44E9-9DDB-513A786E3930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80ED-3068-4DFD-9AB9-4FF183605148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B2ED-1FF3-40A1-9451-8863474176BE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2ED9-4EB9-45A2-977C-A479379B0A22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26C9-49ED-4EEB-ABFA-567F08EF943D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832A-2439-4816-9D17-40855F0FE0C1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FEC7-8117-4931-8577-CEB96FD3F3BA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3E4C-2C7E-4EA1-95FA-5BF746C71021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9A1E-D582-482C-AD87-531B7AB2DB2D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1E8E-D301-4D8B-9613-3F468539DDE8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4D4-23C3-4CC3-98B4-CBD30E5C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370-C622-40E8-BA5D-74CC0F1D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56B-BF23-4EE5-BED4-355674CB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68B-2986-4795-9877-A8BFA558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2C0F-0722-4DF6-8B98-34DA91BE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ED47-FDEA-45B9-B3E9-74A81F58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95A2-4BC6-4FCC-9ECA-2F24B813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1BA5-813A-433F-B9C9-BB4EF042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1C1C-367A-4FC8-A3CE-62479591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373F-DD1D-424F-8504-B3F2168D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60FE-F44C-400E-A139-6B3EF943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082-1721-4189-8A75-7296702F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2BA2-7CFB-405C-A7DB-9D15FD14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0951-C63C-4936-BA51-820FE108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041D-CF3A-4798-BC5A-107D02E6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6156-2D78-40C1-8F0F-CDE13AE1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DAC3-CC09-4C21-B52A-8FDF15B2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3DA-3E0A-40E6-9304-94842EBF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959-6B13-4D7F-8130-55DC5950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03AE-4D66-4EAE-A146-F0178183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E4C-4F78-46DC-AEFF-9FDE17D5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697-533D-44CC-B2B5-5FAAC6C8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EF0-9CA2-4559-94F6-B76A40BE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8BB-4EC0-4EA1-9F67-0F775C73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on Orcutt -Physics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FACD-6CF5-4743-A5D2-1462C1EE1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68B9-99CE-403B-82F8-A0E3FB4F049A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roups.yahoo.com/group/funlobby/joi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Sharon Orcutt -Physics 2007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One day the professor of a university decided to defy his pupils.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He asked, “Did God create everything that exists?”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A student answered bravely, “Yes he did.”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Sharon Orcutt -Physics 2007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Again, you are wrong sir; darkness is the total absence of light. 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You can study light and brightness, but not darkness. Darkness is the term we created to explain the total absence of light.”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Sharon Orcutt -Physics 2007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And finally the student asked, “And evil sir, does evil exist? 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God did not create evil. Evil is the absence of god in people’s hearts. It is the absence of love, humanity, and faith.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Sharon Orcutt -Physics 2007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Love and faith are like heat and light. </a:t>
            </a:r>
            <a:r>
              <a:rPr b="1" lang="en-US" sz="3200" spc="-1" strike="noStrike">
                <a:solidFill>
                  <a:srgbClr val="faf9e6"/>
                </a:solidFill>
                <a:latin typeface="Arial"/>
              </a:rPr>
              <a:t>They</a:t>
            </a: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 exist. Their </a:t>
            </a:r>
            <a:r>
              <a:rPr b="1" lang="en-US" sz="3200" spc="-1" strike="noStrike">
                <a:solidFill>
                  <a:srgbClr val="faf9e6"/>
                </a:solidFill>
                <a:latin typeface="Arial"/>
              </a:rPr>
              <a:t>absence</a:t>
            </a: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 leads to evil. 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Now it was the professor’s turn to remain silent…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Sharon Orcutt -Physics 2007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e name of the student was: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9e6"/>
                </a:solidFill>
                <a:latin typeface="Arial"/>
              </a:rPr>
              <a:t>Albert Einstein</a:t>
            </a:r>
            <a:endParaRPr b="0" lang="en-US" sz="4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1549800" y="3886200"/>
            <a:ext cx="611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Love Such Mails ? Join This Group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78d15"/>
                </a:solidFill>
                <a:uFillTx/>
                <a:latin typeface="Arial"/>
                <a:hlinkClick r:id="rId1"/>
              </a:rPr>
              <a:t>CLICK HERE TO JOIN THIS GROUP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Sharon Orcutt -Physics 2007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Everything?” asked the professor.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Yes everything.” said the student.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Sharon Orcutt -Physics 2007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o God also created evil, correct? Because evil exists...” said the professor.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o that the student had no answer and remained silent.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Sharon Orcutt -Physics 2007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e professor was delighted at the opportunity to prove one more time that faith was only a myth.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Sharon Orcutt -Physics 2007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uddenly another student raised his hand and asked, “May I ask you a question, professor?”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Of course” was the answer.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Sharon Orcutt -Physics 2007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Does cold exist?”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Of course,” answered the professor, “Did you never feel cold?”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Sharon Orcutt -Physics 2007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Actually sir, cold does not exist. According to studies in physics, cold is the total and complete absence of heat. 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An object can only be studied if it has and transmits energy and it is the heat of an object that transmits energy.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Sharon Orcutt -Physics 2007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Without heat, the objects are inert, incapable of reacting. 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But cold does not exist. We created the term cold to explain the lack of heat.”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Sharon Orcutt -Physics 2007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And darkness?” continued the student.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It exists.” replied the professor.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3:29:33Z</dcterms:created>
  <dc:creator>WacoHigh</dc:creator>
  <dc:description/>
  <dc:language>en-US</dc:language>
  <cp:lastModifiedBy>vineet</cp:lastModifiedBy>
  <dcterms:modified xsi:type="dcterms:W3CDTF">2012-05-02T19:24:56Z</dcterms:modified>
  <cp:revision>9</cp:revision>
  <dc:subject/>
  <dc:title>Slide 1</dc:title>
</cp:coreProperties>
</file>