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A8D-C984-4B15-8E27-38A9237B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206-6DF3-47AC-B6E2-C891D963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AFC-ED1F-43D8-AED0-C82081FB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9A9-9620-472A-8F5A-DBEBD27E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57B-659B-4B52-A7B8-CA87690B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1B6-37EF-4561-968B-34A3C326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480-0E7A-48D5-9458-52FBCDC6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129-A5AC-4FD5-A4EE-9036CC53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D94-2B32-49A1-9257-FC36329A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9F1-1D0C-4254-B453-3EE629CC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AB9-B75A-4E89-AC7A-63A3C4A7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214-736C-465A-9D3C-D0137F11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plicate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09AA-EC65-4ECC-B552-F3CF53AC5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143000"/>
            <a:ext cx="91440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 WANT TO INVITE ALL MY FRIENDS TO A BARBECU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’M HAVING AT MY NEW HO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I WARN YOU IT’LL BE SOMETHING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VERYONE PLEASE BRING SOMETH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hiltspa" descr=""/>
          <p:cNvPicPr/>
          <p:nvPr/>
        </p:nvPicPr>
        <p:blipFill>
          <a:blip r:embed="rId1"/>
          <a:stretch/>
        </p:blipFill>
        <p:spPr>
          <a:xfrm>
            <a:off x="1714680" y="838080"/>
            <a:ext cx="5715000" cy="5334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48240" y="385920"/>
            <a:ext cx="54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MASSAGES FOR AFTER THE PART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maldhilton6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61920" y="233280"/>
            <a:ext cx="72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THE LIGHTING WAS IMPROV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DIDN’T HAVE TIME TO DEFIN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ilton_Sunset%2520gril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9a-Night_Spa_shot_300dp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Girl_at_sunset_with_stingrays_4" descr=""/>
          <p:cNvPicPr/>
          <p:nvPr/>
        </p:nvPicPr>
        <p:blipFill>
          <a:blip r:embed="rId1"/>
          <a:stretch/>
        </p:blipFill>
        <p:spPr>
          <a:xfrm>
            <a:off x="279360" y="571680"/>
            <a:ext cx="429264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73560" y="2835360"/>
            <a:ext cx="487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FISHING EQUI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WILL BE FOUND U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THE 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7k-Sunset_Water_Villa_Sofa_Couple_III-300dpi" descr=""/>
          <p:cNvPicPr/>
          <p:nvPr/>
        </p:nvPicPr>
        <p:blipFill>
          <a:blip r:embed="rId1"/>
          <a:stretch/>
        </p:blipFill>
        <p:spPr>
          <a:xfrm>
            <a:off x="1995480" y="0"/>
            <a:ext cx="515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325520"/>
            <a:ext cx="83059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LEA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CONFIRM YOUR ATTENDANCE WITH TIME IN ADVAN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1735200"/>
            <a:ext cx="85341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DO NOT WORRY ABOUT TRANSPORTATIO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 YACHT I’VE RENTED WILL BE AT OUR U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698400"/>
            <a:ext cx="82296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1554120"/>
            <a:ext cx="85341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ONLY WE HAVE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CATCH A BUS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GET TO THE PORT…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aldhilt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42440" y="46188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Comic Sans MS"/>
              </a:rPr>
              <a:t>LOCATION: PACIF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23240" y="2565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mic Sans MS"/>
              </a:rPr>
              <a:t>GUES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3276720"/>
            <a:ext cx="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477120" y="2971800"/>
            <a:ext cx="76176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476760" y="3276720"/>
            <a:ext cx="106668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410080" y="5715000"/>
            <a:ext cx="114300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97520" y="55958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mic Sans MS"/>
              </a:rPr>
              <a:t>MY LITTLE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04489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18718" descr="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3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14609" descr=""/>
          <p:cNvPicPr/>
          <p:nvPr/>
        </p:nvPicPr>
        <p:blipFill>
          <a:blip r:embed="rId1"/>
          <a:stretch/>
        </p:blipFill>
        <p:spPr>
          <a:xfrm>
            <a:off x="647640" y="853920"/>
            <a:ext cx="7848720" cy="6018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78320" y="22860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BUS ACCOMODA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21479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28119" descr=""/>
          <p:cNvPicPr/>
          <p:nvPr/>
        </p:nvPicPr>
        <p:blipFill>
          <a:blip r:embed="rId1"/>
          <a:stretch/>
        </p:blipFill>
        <p:spPr>
          <a:xfrm>
            <a:off x="990720" y="1133640"/>
            <a:ext cx="7162560" cy="5667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52520" y="457200"/>
            <a:ext cx="45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WE CAN EVEN WATCH A 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8380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508040"/>
            <a:ext cx="86104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NOW, WAKEUP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COME BACK TO REALITY AND GET BACK TO WORK!!!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Hilton_veduta_aerea" descr=""/>
          <p:cNvPicPr/>
          <p:nvPr/>
        </p:nvPicPr>
        <p:blipFill>
          <a:blip r:embed="rId1"/>
          <a:stretch/>
        </p:blipFill>
        <p:spPr>
          <a:xfrm>
            <a:off x="876240" y="712800"/>
            <a:ext cx="7391520" cy="5432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3600" y="4659480"/>
            <a:ext cx="525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mic Sans MS"/>
              </a:rPr>
              <a:t>ISLAND WHERE WE’LL HAVE BARBEC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mic Sans MS"/>
              </a:rPr>
              <a:t>IT WAS MADE AT LAST MIN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mic Sans MS"/>
              </a:rPr>
              <a:t>(THERE WASN’T MUCH ROOM NEXT TO THE GUEST HOUSES, PLEASE UNDERST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81280" y="43430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29000" y="2300400"/>
            <a:ext cx="313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</a:rPr>
              <a:t>SPECIAL PLACE IN THE SAND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</a:rPr>
              <a:t>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8195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ldhilton3" descr=""/>
          <p:cNvPicPr/>
          <p:nvPr/>
        </p:nvPicPr>
        <p:blipFill>
          <a:blip r:embed="rId1"/>
          <a:stretch/>
        </p:blipFill>
        <p:spPr>
          <a:xfrm>
            <a:off x="495360" y="380880"/>
            <a:ext cx="8153280" cy="611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25146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HOME SWEET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HOW NICE IT IS TO HAVE A PLACE THAT’S ONLY Y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aldhilton1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3914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838080"/>
            <a:ext cx="85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GUEST HOUSE LAYOUT HOPE YOU LIKE IT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maldhilton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Hilton_Water_Villa_standard_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37880" y="5491080"/>
            <a:ext cx="694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FRUITS AND CHAMPAGNE FOR THE EVEN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IS THAT OKAY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aldhilton5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5320" y="122400"/>
            <a:ext cx="820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IF YOU HAPPEN TO HAVE BAD RECEPTION ON TV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SATELITE CONTROL IS BEHIND TUB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ldHilton7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54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5360" y="135000"/>
            <a:ext cx="8690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IF THE BED ISN’T COMFORTABLE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ARE NETS ON THE ISLAND</a:t>
            </a: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7:00:32Z</dcterms:created>
  <dc:creator>OBrkic</dc:creator>
  <dc:description/>
  <dc:language>en-US</dc:language>
  <cp:lastModifiedBy>Andrew Colebourne</cp:lastModifiedBy>
  <dcterms:modified xsi:type="dcterms:W3CDTF">2003-09-18T09:18:45Z</dcterms:modified>
  <cp:revision>19</cp:revision>
  <dc:subject/>
  <dc:title>No Slide Title</dc:title>
</cp:coreProperties>
</file>