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3FE-3F42-4470-B697-AE8795E2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23E-25C2-4B6B-BDAC-E604D716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F7D-9530-41FE-BA66-777021A8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05D-11ED-49DA-829A-8F75C8D6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3F22-E56C-4187-AF40-F0D78FB6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E521-2297-49B2-960B-65DA8710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7229-44F8-42F3-9316-D2E6BBD3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09E7-EEC5-45FD-BB35-30AC85D6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0830-E12E-4776-88CD-81CE98D2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3CB3-45F2-4F9E-8A21-3A72B0F8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E787-5EF6-4556-B022-7154C64B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6CC-7E54-4687-A739-AF2C0A25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9883-2D9B-477C-A4C9-8997D00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B88C-427C-4429-8462-B66B68C1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EC63-4F2F-4EDE-AD68-2EBC27A6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1F74-0760-4421-8746-9248CA50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7770-F5DD-4529-811D-7B6524D4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B11-4576-4F89-B62B-1F3B6BB8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387-A2DD-44B0-B091-30339C73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8CF-339E-4D8C-BADB-B7AFC353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3C6-5DAD-4E1A-8166-454FC7CE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641-A9C4-4716-9DB0-454632C3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34D-8B8F-478C-A5EE-25BD18E0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AF6-A52F-4E57-B6CD-95062BAB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A5A8-87BF-4BC5-A706-5A96DFA7EF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13F2-6E01-4E25-95B5-F256271BCD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Star Sign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they really mean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agittar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71560" y="2862360"/>
            <a:ext cx="5600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corpi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71560" y="2862360"/>
            <a:ext cx="5600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aur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71560" y="2862360"/>
            <a:ext cx="5600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9900"/>
                </a:solidFill>
                <a:latin typeface="Garamond"/>
              </a:rPr>
              <a:t>Virg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71560" y="2862360"/>
            <a:ext cx="5600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quar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71560" y="2862360"/>
            <a:ext cx="5600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71560" y="2862360"/>
            <a:ext cx="5600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anc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71560" y="2862360"/>
            <a:ext cx="5600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apricor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71560" y="2862360"/>
            <a:ext cx="5600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emin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71560" y="2862360"/>
            <a:ext cx="5600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71560" y="2862360"/>
            <a:ext cx="5600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ibr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71560" y="2862360"/>
            <a:ext cx="5600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isc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71560" y="2862360"/>
            <a:ext cx="5600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3:22:10Z</dcterms:created>
  <dc:creator/>
  <dc:description/>
  <dc:language>en-US</dc:language>
  <cp:lastModifiedBy>Patrick Corporation</cp:lastModifiedBy>
  <dcterms:modified xsi:type="dcterms:W3CDTF">2006-12-12T03:33:06Z</dcterms:modified>
  <cp:revision>1</cp:revision>
  <dc:subject/>
  <dc:title>Star Signs</dc:title>
</cp:coreProperties>
</file>