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F66B-F15E-4682-AC6C-332237BC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04A2-BDA8-49F4-BAA5-CFDFE50D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2D7A-F7B3-4C7D-9D7F-D0A8B3EB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38F1-E529-4508-B4DF-B87BA715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6C97-8CA4-4D9E-97F2-546054C8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5AB9-64BB-4FFF-9455-8C6B3CD6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1BDD-B128-455C-B525-FF792D80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B5A9-3E9F-4B55-923F-F4077123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A0E3-5B38-49E8-8CE4-B0D4397C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F0D1-A846-4F8D-86B3-C0CFB854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E3CD-368B-48A6-ADDE-D2366D40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8E0B-5E1C-466C-9C06-4117C8C2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5DE6-3FD6-4912-BBA4-C1826D774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708360" y="6367320"/>
            <a:ext cx="5543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is is a public service brought to you by th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4360" y="5227200"/>
            <a:ext cx="792144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nder the innovative leadership of its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iguel Martin N. Moreno II, M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56040" y="2190600"/>
            <a:ext cx="3100320" cy="3057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95280" y="2997360"/>
            <a:ext cx="8353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kati Medical Society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advTm="10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6600"/>
                </a:solidFill>
                <a:latin typeface="Arial"/>
              </a:rPr>
              <a:t>Let’s </a:t>
            </a:r>
            <a:br>
              <a:rPr sz="14200"/>
            </a:br>
            <a:r>
              <a:rPr b="0" lang="en-US" sz="14200" spc="-1" strike="noStrike">
                <a:solidFill>
                  <a:srgbClr val="006600"/>
                </a:solidFill>
                <a:latin typeface="Arial"/>
              </a:rPr>
              <a:t>begin!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25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122560" y="1700280"/>
          <a:ext cx="4897440" cy="47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2560" y="1700280"/>
                    <a:ext cx="4897440" cy="47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10000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nce mor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122560" y="1700280"/>
          <a:ext cx="4897440" cy="47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2560" y="1700280"/>
                    <a:ext cx="4897440" cy="47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10000"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tand up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419640" y="907920"/>
          <a:ext cx="2304720" cy="53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907920"/>
                    <a:ext cx="230472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10000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-left 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376440" y="1052640"/>
          <a:ext cx="2347920" cy="51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76440" y="1052640"/>
                    <a:ext cx="234792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8000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w the other sid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-right 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348000" y="1125360"/>
          <a:ext cx="2376360" cy="511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125360"/>
                    <a:ext cx="2376360" cy="51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8000"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646440" y="1268280"/>
          <a:ext cx="2005200" cy="496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6440" y="1268280"/>
                    <a:ext cx="200520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15000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2160" y="259920"/>
            <a:ext cx="77738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r the busy body that you are…..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mputer &amp; Desk Stretches</a:t>
            </a:r>
            <a:br>
              <a:rPr sz="2800"/>
            </a:br>
            <a:r>
              <a:rPr b="0" i="1" lang="en-US" sz="1400" spc="-1" strike="noStrike">
                <a:solidFill>
                  <a:srgbClr val="333399"/>
                </a:solidFill>
                <a:latin typeface="Arial"/>
              </a:rPr>
              <a:t>Approximately 4 Min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99640" y="1700280"/>
            <a:ext cx="72723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Sitting infront of a computer for long periods often causes neck and shoulder stiffness and occasionally lower back pa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Do these stretches every hour or throughout the day, or whenever you feel stif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Be sure to get up and walk around the office once in a while. You’ll feel better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zoom dir="in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64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64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64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076560" y="1628640"/>
          <a:ext cx="293544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6560" y="1628640"/>
                    <a:ext cx="293544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5000"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076560" y="1700280"/>
          <a:ext cx="293544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6560" y="1700280"/>
                    <a:ext cx="293544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5000"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-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076560" y="1700280"/>
          <a:ext cx="293544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6560" y="1700280"/>
                    <a:ext cx="293544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5000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025800" y="909720"/>
          <a:ext cx="3058920" cy="53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5800" y="909720"/>
                    <a:ext cx="305892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-right arm &amp; h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w the other sid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-left arm &amp; h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059280" y="1125360"/>
          <a:ext cx="2960640" cy="511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125360"/>
                    <a:ext cx="2960640" cy="51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10000"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771640" y="1197000"/>
          <a:ext cx="3541680" cy="48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1197000"/>
                    <a:ext cx="354168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10000">
    <p:comb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744640" y="1268280"/>
            <a:ext cx="3627720" cy="4907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t down and raise the left hand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3441600" y="981000"/>
          <a:ext cx="2282760" cy="522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1600" y="981000"/>
                    <a:ext cx="2282760" cy="52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-right up &amp; left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268360" y="620640"/>
            <a:ext cx="4464360" cy="5402160"/>
            <a:chOff x="2268360" y="620640"/>
            <a:chExt cx="4464360" cy="5402160"/>
          </a:xfrm>
        </p:grpSpPr>
        <p:pic>
          <p:nvPicPr>
            <p:cNvPr id="50" name="" descr=""/>
            <p:cNvPicPr/>
            <p:nvPr/>
          </p:nvPicPr>
          <p:blipFill>
            <a:blip r:embed="rId1"/>
            <a:srcRect l="0" t="10024" r="0" b="4540"/>
            <a:stretch/>
          </p:blipFill>
          <p:spPr>
            <a:xfrm>
              <a:off x="2268360" y="826920"/>
              <a:ext cx="4464360" cy="519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452680" y="620640"/>
              <a:ext cx="36036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w the other sid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564000" y="1125360"/>
          <a:ext cx="1923840" cy="519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1125360"/>
                    <a:ext cx="1923840" cy="51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-right down &amp; left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plit dir="out" orient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aise and cross the left leg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-left arm &amp; 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987640" y="1413000"/>
          <a:ext cx="311328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1413000"/>
                    <a:ext cx="31132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10000">
    <p:circl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w the other sid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965320" y="1197000"/>
          <a:ext cx="3211560" cy="50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65320" y="1197000"/>
                    <a:ext cx="321156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-right arm &amp; 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2987640" y="981000"/>
          <a:ext cx="3097080" cy="544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981000"/>
                    <a:ext cx="3097080" cy="544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nce mor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987640" y="907920"/>
          <a:ext cx="3097080" cy="544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907920"/>
                    <a:ext cx="3097080" cy="544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sh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135240" y="1197000"/>
          <a:ext cx="287676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1197000"/>
                    <a:ext cx="287676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0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Arial"/>
              </a:rPr>
              <a:t>Ready? 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25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The End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More?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 “ESC” to S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25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25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3664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2862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25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06:10:13Z</dcterms:created>
  <dc:creator>VMallavo</dc:creator>
  <dc:description/>
  <dc:language>en-US</dc:language>
  <cp:lastModifiedBy>EELanquino</cp:lastModifiedBy>
  <dcterms:modified xsi:type="dcterms:W3CDTF">2007-10-01T09:31:36Z</dcterms:modified>
  <cp:revision>2</cp:revision>
  <dc:subject/>
  <dc:title>This is a public service brought to you by the </dc:title>
</cp:coreProperties>
</file>