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D92-1975-4280-99F4-C5C87291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172-7B11-4D7C-9923-B904EB40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086-187E-4B13-AE4B-5A4C083F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BEE-8BA7-40A2-85E7-15D940A1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62B-4890-4B1B-BFB1-FA354955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D78-568D-41BA-A2B3-8549401B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2DF-C51B-455D-B0AE-32E81A77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B2F-E4A3-46D0-ABB7-36F7FB64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9C8-82F1-4EAF-80BD-AB6C9A5D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B81-8908-4CB9-B4C0-2A1A2528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E0F-AC03-4D0B-949A-4245CE00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4A0-8E1A-445A-A464-01128FD6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E28A-8C42-44E4-9258-300790FA0F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hyperlink" Target="http://www.groups.yahoo.com/group/funlobby/join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2819520" y="3946680"/>
            <a:ext cx="3581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♫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urn on your speaker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2438280" y="44337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bff"/>
                </a:solidFill>
                <a:latin typeface="Arial"/>
                <a:ea typeface="Arial"/>
              </a:rPr>
              <a:t>CLICK TO ADVANCE SL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771640" y="2610000"/>
            <a:ext cx="3324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Jesus Christ's Window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3366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lideshow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3366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6" descr="3325021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50920" y="635652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-Rules attributed to Boyce Bow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WordArt 15"/>
          <p:cNvSpPr txBox="1"/>
          <p:nvPr/>
        </p:nvSpPr>
        <p:spPr>
          <a:xfrm>
            <a:off x="971640" y="836640"/>
            <a:ext cx="734544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Rules F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Happy Liv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7" name="Picture 1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240"/>
                            </p:stCondLst>
                            <p:childTnLst>
                              <p:par>
                                <p:cTn id="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4361043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WordArt 2"/>
          <p:cNvSpPr txBox="1"/>
          <p:nvPr/>
        </p:nvSpPr>
        <p:spPr>
          <a:xfrm>
            <a:off x="828720" y="476280"/>
            <a:ext cx="748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9. Fall in love with life, with children,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lder people, the theater, music,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ooks, cities, hills, the sea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verything except money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5" descr="4687233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WordArt 24"/>
          <p:cNvSpPr txBox="1"/>
          <p:nvPr/>
        </p:nvSpPr>
        <p:spPr>
          <a:xfrm>
            <a:off x="2916360" y="5661000"/>
            <a:ext cx="33112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800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EASE SHARE!</a:t>
            </a:r>
            <a:endParaRPr b="0" lang="en-US" sz="24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800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WordArt 27"/>
          <p:cNvSpPr txBox="1"/>
          <p:nvPr/>
        </p:nvSpPr>
        <p:spPr>
          <a:xfrm>
            <a:off x="826920" y="1916280"/>
            <a:ext cx="756000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c400c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c400c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WordArt 28"/>
          <p:cNvSpPr txBox="1"/>
          <p:nvPr/>
        </p:nvSpPr>
        <p:spPr>
          <a:xfrm>
            <a:off x="971640" y="4078440"/>
            <a:ext cx="734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failure in life is one who lives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fails to learn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WordArt 29"/>
          <p:cNvSpPr txBox="1"/>
          <p:nvPr/>
        </p:nvSpPr>
        <p:spPr>
          <a:xfrm>
            <a:off x="1044720" y="33336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Picture 34" descr="Fast_fish"/>
          <p:cNvPicPr/>
          <p:nvPr/>
        </p:nvPicPr>
        <p:blipFill>
          <a:blip r:embed="rId2"/>
          <a:stretch/>
        </p:blipFill>
        <p:spPr>
          <a:xfrm>
            <a:off x="1476360" y="1243080"/>
            <a:ext cx="5838840" cy="457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1771200" y="1828800"/>
            <a:ext cx="590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 Such Mails ? </a:t>
            </a:r>
            <a:r>
              <a:rPr b="0" lang="en-US" sz="3200" spc="-1" strike="noStrike">
                <a:solidFill>
                  <a:srgbClr val="e0e0f0"/>
                </a:solidFill>
                <a:latin typeface="Times New Roman"/>
              </a:rPr>
              <a:t>Join This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  <a:hlinkClick r:id="rId3"/>
              </a:rPr>
              <a:t>CLICK HERE TO JOIN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11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1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800"/>
                            </p:stCondLst>
                            <p:childTnLst>
                              <p:par>
                                <p:cTn id="150" nodeType="afterEffect" fill="hold" presetClass="entr" presetID="31">
                                  <p:stCondLst>
                                    <p:cond delay="3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763E-006 L 0 -0.07537 E">
                                      <p:cBhvr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393258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WordArt 4"/>
          <p:cNvSpPr txBox="1"/>
          <p:nvPr/>
        </p:nvSpPr>
        <p:spPr>
          <a:xfrm>
            <a:off x="1042920" y="476280"/>
            <a:ext cx="741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8fb4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. Strike a balance between work and play, 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8fb4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8fb4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tween seriousness and laughter.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8fb4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ll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0077812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WordArt 2"/>
          <p:cNvSpPr txBox="1"/>
          <p:nvPr/>
        </p:nvSpPr>
        <p:spPr>
          <a:xfrm>
            <a:off x="684360" y="5157720"/>
            <a:ext cx="7920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. Stick with the truth even if it makes you look or feel badly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alsehoods are like wandering ghosts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ll dir="l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3744964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WordArt 2"/>
          <p:cNvSpPr txBox="1"/>
          <p:nvPr/>
        </p:nvSpPr>
        <p:spPr>
          <a:xfrm>
            <a:off x="900000" y="476280"/>
            <a:ext cx="748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400c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3. Forgive your enemies as part of the price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400c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400c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you pay for the privilege of being forgive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400c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4009540-md"/>
          <p:cNvPicPr/>
          <p:nvPr/>
        </p:nvPicPr>
        <p:blipFill>
          <a:blip r:embed="rId1"/>
          <a:srcRect l="5540" t="6585" r="5540" b="7929"/>
          <a:stretch/>
        </p:blipFill>
        <p:spPr>
          <a:xfrm>
            <a:off x="-36360" y="-27000"/>
            <a:ext cx="9180360" cy="6916680"/>
          </a:xfrm>
          <a:prstGeom prst="rect">
            <a:avLst/>
          </a:prstGeom>
          <a:ln w="0">
            <a:noFill/>
          </a:ln>
        </p:spPr>
      </p:pic>
      <p:sp>
        <p:nvSpPr>
          <p:cNvPr id="55" name="WordArt 2"/>
          <p:cNvSpPr txBox="1"/>
          <p:nvPr/>
        </p:nvSpPr>
        <p:spPr>
          <a:xfrm>
            <a:off x="395280" y="5157720"/>
            <a:ext cx="820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4. Spend time outside. Walk. Get lots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f air and sunshine and occasionally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me rain or snow in your face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et some dirt on your hands.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4742178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2"/>
          <p:cNvSpPr txBox="1"/>
          <p:nvPr/>
        </p:nvSpPr>
        <p:spPr>
          <a:xfrm>
            <a:off x="826920" y="404640"/>
            <a:ext cx="7561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5. Talk over your troubles, mistakes,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dreams with someone you trust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3251723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9" name="WordArt 2"/>
          <p:cNvSpPr txBox="1"/>
          <p:nvPr/>
        </p:nvSpPr>
        <p:spPr>
          <a:xfrm>
            <a:off x="611280" y="333360"/>
            <a:ext cx="799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6. Don't underestimate the ability of God to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raighten out a situation even when you can't.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 patient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3812272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WordArt 2"/>
          <p:cNvSpPr txBox="1"/>
          <p:nvPr/>
        </p:nvSpPr>
        <p:spPr>
          <a:xfrm>
            <a:off x="395280" y="5229360"/>
            <a:ext cx="619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7. Discriminate among your fears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arn to tell which ones are useful,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ich ones destructive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5468381-md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3" name="WordArt 2"/>
          <p:cNvSpPr txBox="1"/>
          <p:nvPr/>
        </p:nvSpPr>
        <p:spPr>
          <a:xfrm>
            <a:off x="1042920" y="5157720"/>
            <a:ext cx="712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c400c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8.When you can't sleep, say, "Aha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c400c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c400c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ere's a chance for a little privacy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c400c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c400c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creative thinking. Or prayer.”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c400c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6:35:00Z</dcterms:created>
  <dc:creator>Nestle</dc:creator>
  <dc:description/>
  <dc:language>en-US</dc:language>
  <cp:lastModifiedBy>vineet</cp:lastModifiedBy>
  <dcterms:modified xsi:type="dcterms:W3CDTF">2012-05-01T07:42:03Z</dcterms:modified>
  <cp:revision>2</cp:revision>
  <dc:subject/>
  <dc:title>Slide 1</dc:title>
</cp:coreProperties>
</file>