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FEBA-C8DD-40AC-AEE9-F58507EAA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8A4A-C031-48DE-960F-F1BA40035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1830-1D3F-46F5-971E-B066DA6F3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11B3-4E4B-4C8E-96EA-D047D1FB1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AC34-EE94-415E-A53B-A3699C04F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363B-8675-47C9-8D35-0D97FA4FB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D4BA-C60A-4A85-AEB8-BB1692C98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6851-3775-4532-B107-9C6E976F5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FB73-420B-4FED-9BBE-2F0BB90C2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6EC2-020C-4F72-BF29-A73A966A6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38DE-0A31-4985-A8DE-ECEAF9317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64F7-9C42-4FEE-845B-AE11AB3F2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3097F-E166-49A8-8BF0-90AAB2180E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 u="sng">
                <a:solidFill>
                  <a:srgbClr val="000000"/>
                </a:solidFill>
                <a:uFillTx/>
                <a:latin typeface="Arial"/>
              </a:rPr>
              <a:t>Hands!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11"/>
          <p:cNvSpPr txBox="1"/>
          <p:nvPr/>
        </p:nvSpPr>
        <p:spPr>
          <a:xfrm>
            <a:off x="6324480" y="304920"/>
            <a:ext cx="1640160" cy="23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ccff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9360">
                <a:solidFill>
                  <a:srgbClr val="99ccff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5"/>
          <p:cNvSpPr/>
          <p:nvPr/>
        </p:nvSpPr>
        <p:spPr>
          <a:xfrm>
            <a:off x="385200" y="807840"/>
            <a:ext cx="8456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80"/>
                </a:solidFill>
                <a:latin typeface="Arial"/>
                <a:ea typeface="Times New Roman"/>
              </a:rPr>
              <a:t>This message is now in YOUR hands. </a:t>
            </a:r>
            <a:br>
              <a:rPr sz="3600"/>
            </a:br>
            <a:r>
              <a:rPr b="1" lang="en-US" sz="3600" spc="-1" strike="noStrike">
                <a:solidFill>
                  <a:srgbClr val="000080"/>
                </a:solidFill>
                <a:latin typeface="Arial"/>
                <a:ea typeface="Times New Roman"/>
              </a:rPr>
              <a:t>What will YOU do with it? </a:t>
            </a:r>
            <a:br>
              <a:rPr sz="12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cid:image010.gif@01C7FE77.2A6628D0"/>
          <p:cNvPicPr/>
          <p:nvPr/>
        </p:nvPicPr>
        <p:blipFill>
          <a:blip r:embed="rId1"/>
          <a:stretch/>
        </p:blipFill>
        <p:spPr>
          <a:xfrm>
            <a:off x="3124080" y="2514600"/>
            <a:ext cx="2190960" cy="201924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6"/>
          <p:cNvSpPr/>
          <p:nvPr/>
        </p:nvSpPr>
        <p:spPr>
          <a:xfrm>
            <a:off x="536760" y="4571640"/>
            <a:ext cx="807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80"/>
                </a:solidFill>
                <a:latin typeface="Arial"/>
                <a:ea typeface="Times New Roman"/>
              </a:rPr>
              <a:t>It Depends on WHOSE Hands it's in!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WordArt 7"/>
          <p:cNvSpPr txBox="1"/>
          <p:nvPr/>
        </p:nvSpPr>
        <p:spPr>
          <a:xfrm>
            <a:off x="6095880" y="304920"/>
            <a:ext cx="2610000" cy="20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endParaRPr b="0" lang="en-US" sz="1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7" dur="8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" dur="8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To Receive Such Mails ? Join This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HERE TO JOIN THIS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image002"/>
          <p:cNvPicPr/>
          <p:nvPr/>
        </p:nvPicPr>
        <p:blipFill>
          <a:blip r:embed="rId1"/>
          <a:stretch/>
        </p:blipFill>
        <p:spPr>
          <a:xfrm>
            <a:off x="3352680" y="838080"/>
            <a:ext cx="1600200" cy="262908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5"/>
          <p:cNvSpPr/>
          <p:nvPr/>
        </p:nvSpPr>
        <p:spPr>
          <a:xfrm>
            <a:off x="507960" y="3810600"/>
            <a:ext cx="8251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basketball in my hands is worth about $19.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basketball in Michael Jordan's hands is worth about $33 million.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depends whose hands it's in.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WordArt 6"/>
          <p:cNvSpPr txBox="1"/>
          <p:nvPr/>
        </p:nvSpPr>
        <p:spPr>
          <a:xfrm>
            <a:off x="6248520" y="304920"/>
            <a:ext cx="2609640" cy="20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endParaRPr b="0" lang="en-US" sz="1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8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8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8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image003"/>
          <p:cNvPicPr/>
          <p:nvPr/>
        </p:nvPicPr>
        <p:blipFill>
          <a:blip r:embed="rId1"/>
          <a:stretch/>
        </p:blipFill>
        <p:spPr>
          <a:xfrm>
            <a:off x="3581280" y="609480"/>
            <a:ext cx="1600200" cy="262908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5"/>
          <p:cNvSpPr/>
          <p:nvPr/>
        </p:nvSpPr>
        <p:spPr>
          <a:xfrm>
            <a:off x="762120" y="3734280"/>
            <a:ext cx="7848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baseball in my hands is worth about $6.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baseball in Roger Clemens' hands is worth $4.75 million.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depends on whose hands it's in.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WordArt 13"/>
          <p:cNvSpPr txBox="1"/>
          <p:nvPr/>
        </p:nvSpPr>
        <p:spPr>
          <a:xfrm>
            <a:off x="6477120" y="228600"/>
            <a:ext cx="1639800" cy="23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ccff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9360">
                <a:solidFill>
                  <a:srgbClr val="99ccff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8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image004"/>
          <p:cNvPicPr/>
          <p:nvPr/>
        </p:nvPicPr>
        <p:blipFill>
          <a:blip r:embed="rId1"/>
          <a:stretch/>
        </p:blipFill>
        <p:spPr>
          <a:xfrm>
            <a:off x="3581280" y="685800"/>
            <a:ext cx="1981440" cy="262908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5"/>
          <p:cNvSpPr/>
          <p:nvPr/>
        </p:nvSpPr>
        <p:spPr>
          <a:xfrm>
            <a:off x="380880" y="3916800"/>
            <a:ext cx="8382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tennis racket is useless in my hands.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tennis racket in Andre Agassi's hands is worth millions.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depends whose hands it's in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324480" y="304920"/>
            <a:ext cx="2610000" cy="20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endParaRPr b="0" lang="en-US" sz="1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image005"/>
          <p:cNvPicPr/>
          <p:nvPr/>
        </p:nvPicPr>
        <p:blipFill>
          <a:blip r:embed="rId1"/>
          <a:stretch/>
        </p:blipFill>
        <p:spPr>
          <a:xfrm>
            <a:off x="4343400" y="533520"/>
            <a:ext cx="399960" cy="262872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5"/>
          <p:cNvSpPr/>
          <p:nvPr/>
        </p:nvSpPr>
        <p:spPr>
          <a:xfrm>
            <a:off x="990720" y="3429720"/>
            <a:ext cx="7467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rod in my hands will keep away an angry dog.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rod in Moses' hands will part the mighty sea.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depends whose hands it's in.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WordArt 13"/>
          <p:cNvSpPr txBox="1"/>
          <p:nvPr/>
        </p:nvSpPr>
        <p:spPr>
          <a:xfrm>
            <a:off x="6553080" y="304920"/>
            <a:ext cx="1640160" cy="23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ccff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9360">
                <a:solidFill>
                  <a:srgbClr val="99ccff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8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image006"/>
          <p:cNvPicPr/>
          <p:nvPr/>
        </p:nvPicPr>
        <p:blipFill>
          <a:blip r:embed="rId1"/>
          <a:stretch/>
        </p:blipFill>
        <p:spPr>
          <a:xfrm>
            <a:off x="3581280" y="457200"/>
            <a:ext cx="1771920" cy="262908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5"/>
          <p:cNvSpPr/>
          <p:nvPr/>
        </p:nvSpPr>
        <p:spPr>
          <a:xfrm>
            <a:off x="914400" y="367164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lingshot in my hands is a kid's toy.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lingshot in David's hand is a mighty weapon.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depends whose hands it's in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WordArt 6"/>
          <p:cNvSpPr txBox="1"/>
          <p:nvPr/>
        </p:nvSpPr>
        <p:spPr>
          <a:xfrm>
            <a:off x="6172200" y="304920"/>
            <a:ext cx="2610000" cy="20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endParaRPr b="0" lang="en-US" sz="1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image007"/>
          <p:cNvPicPr/>
          <p:nvPr/>
        </p:nvPicPr>
        <p:blipFill>
          <a:blip r:embed="rId1"/>
          <a:stretch/>
        </p:blipFill>
        <p:spPr>
          <a:xfrm>
            <a:off x="3124080" y="380880"/>
            <a:ext cx="3210120" cy="290520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5"/>
          <p:cNvSpPr/>
          <p:nvPr/>
        </p:nvSpPr>
        <p:spPr>
          <a:xfrm>
            <a:off x="380880" y="3825000"/>
            <a:ext cx="838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wo fish and 5 loaves of bread in my hands is a couple of fish sandwiches.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wo fish and 5 loaves of bread in Jesus' hands will feed thousands.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 depends whose hands it's in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WordArt 13"/>
          <p:cNvSpPr txBox="1"/>
          <p:nvPr/>
        </p:nvSpPr>
        <p:spPr>
          <a:xfrm>
            <a:off x="6553080" y="304920"/>
            <a:ext cx="1640160" cy="23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ccff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9360">
                <a:solidFill>
                  <a:srgbClr val="99ccff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8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image008"/>
          <p:cNvPicPr/>
          <p:nvPr/>
        </p:nvPicPr>
        <p:blipFill>
          <a:blip r:embed="rId1"/>
          <a:stretch/>
        </p:blipFill>
        <p:spPr>
          <a:xfrm>
            <a:off x="3657600" y="457200"/>
            <a:ext cx="1819440" cy="262908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5"/>
          <p:cNvSpPr/>
          <p:nvPr/>
        </p:nvSpPr>
        <p:spPr>
          <a:xfrm>
            <a:off x="1066680" y="3459600"/>
            <a:ext cx="7467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ils in my hands might produce a birdhouse.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ils in Jesus Christ's hands will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duce salvation for the entire world.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depends whose hands it's in.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WordArt 6"/>
          <p:cNvSpPr txBox="1"/>
          <p:nvPr/>
        </p:nvSpPr>
        <p:spPr>
          <a:xfrm>
            <a:off x="6248520" y="304920"/>
            <a:ext cx="2609640" cy="20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endParaRPr b="0" lang="en-US" sz="1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image009"/>
          <p:cNvPicPr/>
          <p:nvPr/>
        </p:nvPicPr>
        <p:blipFill>
          <a:blip r:embed="rId1"/>
          <a:stretch/>
        </p:blipFill>
        <p:spPr>
          <a:xfrm>
            <a:off x="3657600" y="457200"/>
            <a:ext cx="1866960" cy="272412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5"/>
          <p:cNvSpPr/>
          <p:nvPr/>
        </p:nvSpPr>
        <p:spPr>
          <a:xfrm>
            <a:off x="378360" y="3657600"/>
            <a:ext cx="8548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you see now , it depends whose hands it's in.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 put your concerns, your worries, your fears, your hope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our dreams, your families and your relationships in God's hands because...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 depends whose hands it's in.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8" dur="8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" dur="8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3" dur="8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" dur="8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4T05:52:12Z</dcterms:created>
  <dc:creator>vijay</dc:creator>
  <dc:description/>
  <dc:language>en-US</dc:language>
  <cp:lastModifiedBy>vineet</cp:lastModifiedBy>
  <dcterms:modified xsi:type="dcterms:W3CDTF">2012-05-28T07:54:26Z</dcterms:modified>
  <cp:revision>3</cp:revision>
  <dc:subject/>
  <dc:title>Hands! </dc:title>
</cp:coreProperties>
</file>