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96C-EB97-454B-8865-023F256B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CD0-AD70-4DA6-8061-C956922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71A-EDC1-4F6D-A390-A50B0960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6BA-1505-46E0-9EFA-9D28DE09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79D-B6BE-4351-869A-1E00D833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579-6327-4BD0-A949-6FB634D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95A-73C7-4D1C-88DE-B5D154BE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8EF-391D-4F9B-A7C6-4DA42DB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713-D884-4498-9B8F-B8C26C3B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328-6BC3-449B-B5CC-E841953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397-CD77-4370-B429-09A7F5A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5F6-5C81-4583-B943-7860AA1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895-B8B6-46B4-8ED0-E69A9065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Adri van Molendorff</cp:lastModifiedBy>
  <dcterms:modified xsi:type="dcterms:W3CDTF">2001-03-28T12:26:35Z</dcterms:modified>
  <cp:revision>2</cp:revision>
  <dc:subject/>
  <dc:title>No Slide Title</dc:title>
</cp:coreProperties>
</file>