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3.jpeg" ContentType="image/jpeg"/>
  <Override PartName="/ppt/media/image1.jpeg" ContentType="image/jpeg"/>
  <Override PartName="/ppt/media/image7.jpeg" ContentType="image/jpeg"/>
  <Override PartName="/ppt/media/image1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2.gif" ContentType="image/gif"/>
  <Override PartName="/ppt/media/image10.jpeg" ContentType="image/jpeg"/>
  <Override PartName="/ppt/media/image6.jpeg" ContentType="image/jpeg"/>
  <Override PartName="/ppt/media/image9.jpeg" ContentType="image/jpeg"/>
  <Override PartName="/ppt/media/image11.jpeg" ContentType="image/jpeg"/>
  <Override PartName="/ppt/media/yanni%20one%20mans%20dream%20partial.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1D183-953E-48FB-9548-7C616DE8156C}"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5123-2B0B-427A-97D4-71DC3BB6B1C2}"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13AD9-E6DF-4366-8CD2-39EFEE2682E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875A-F24F-4D76-B324-9A6E59B3072D}"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2CB09-5A52-4309-AE7F-33EDE770851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43CD6-0C61-46F6-8D15-8AA4EBD22C8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F7534-2289-4972-8750-212C76196E5C}"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DA370-A9AF-4869-B19C-0C2E7E73503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77BC-9CA4-4A57-869B-11B47B947EB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BAD5-6E53-4697-9548-168BD3C1824C}"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594E-213A-4AE5-BF20-81F33A833DE3}"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E21B-607F-4208-9F93-5CA16327A50D}"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E9F5-FC41-4E78-B771-10F51C5FC16C}"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677A-7B24-4F2C-ABF6-13DF04742F8C}"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DA351-75ED-4242-AE6C-C1D1FAC3056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3F815-66A2-4713-9FF2-94A6FF01A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0DD81-0BD2-4B7D-8FBD-A4AEFC2A3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E4E1B-0085-48EF-89D8-D02E7EA75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C2DB3-AE05-42B0-8E7C-0E3D951F4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01F71-8241-4B1D-8343-ED0443741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DAFC1-70A9-404C-8992-BBF8EB7F4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CE527-AA30-4D7E-9C19-F336E5C40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5515F-0B32-457A-8F8C-AED0E7DEE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31EBE-9E9E-419E-BCAD-E0E480BD5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ACC1E-B730-4656-BBB2-65EE654D7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CAA14-B474-4EE9-9915-1CDF94425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37E95-946E-4669-A064-2B4E7400C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B9CD-0999-4030-953C-6CA3E29208FD}"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audio" Target="../media/yanni%20one%20mans%20dream%20partial.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advTm="2000">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996480"/>
            <a:ext cx="6400800" cy="5038920"/>
          </a:xfrm>
          <a:prstGeom prst="rect">
            <a:avLst/>
          </a:prstGeom>
          <a:solidFill>
            <a:srgbClr val="ffffff">
              <a:alpha val="37000"/>
            </a:srgbClr>
          </a:solid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ink of this: Which am I? </a:t>
            </a:r>
            <a:endParaRPr b="0" lang="en-US" sz="2000" spc="-1" strike="noStrike">
              <a:solidFill>
                <a:srgbClr val="000000"/>
              </a:solidFill>
              <a:latin typeface="Comic Sans MS"/>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m I the carrot that seems strong, but with pain and adversity do I wilt and become soft and lose my strength? Am I the egg that starts with a malleable heart, but changes with the heat?</a:t>
            </a:r>
            <a:endParaRPr b="0" lang="en-US" sz="2000" spc="-1" strike="noStrike">
              <a:solidFill>
                <a:srgbClr val="000000"/>
              </a:solidFill>
              <a:latin typeface="Comic Sans MS"/>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d I have a fluid spirit, but after a death, a breakup, a financial hardship or some other trial, have I become hardened and stiff? </a:t>
            </a:r>
            <a:endParaRPr b="0" lang="en-US" sz="2000" spc="-1" strike="noStrike">
              <a:solidFill>
                <a:srgbClr val="000000"/>
              </a:solidFill>
              <a:latin typeface="Comic Sans MS"/>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oes my shell look the same, but on the inside am I bitter and tough with a stiff spirit and hardened heart? </a:t>
            </a:r>
            <a:endParaRPr b="0" lang="en-US" sz="2000" spc="-1" strike="noStrike">
              <a:solidFill>
                <a:srgbClr val="000000"/>
              </a:solidFill>
              <a:latin typeface="Comic Sans MS"/>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r am I like the coffee bean? The bean actually changes the hot water, the very circumstance that brings the pain. When the water gets hot, it releases the fragrance and flavor. If you are like the bean, when things are at their worst, you get better and change the situation around you.</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3520" y="2209320"/>
            <a:ext cx="3504960" cy="2048040"/>
          </a:xfrm>
          <a:prstGeom prst="rect">
            <a:avLst/>
          </a:prstGeom>
          <a:solidFill>
            <a:srgbClr val="ffffff">
              <a:alpha val="42000"/>
            </a:srgbClr>
          </a:solid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en the hour is the darkest and trials are their greatest, do you elevate yourself to another level? How do you handle adversity? Are you a carrot, an egg or a coffee bea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380520" y="2359080"/>
            <a:ext cx="3886200" cy="1797840"/>
          </a:xfrm>
          <a:prstGeom prst="rect">
            <a:avLst/>
          </a:prstGeom>
          <a:solidFill>
            <a:srgbClr val="cc99ff">
              <a:alpha val="40000"/>
            </a:srgbClr>
          </a:solid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y you have enough happiness to make you sweet, enough trials to make you strong, enough sorrow to keep you human and enough hope to make you happ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380880" y="5391000"/>
            <a:ext cx="3810240" cy="1554120"/>
          </a:xfrm>
          <a:prstGeom prst="rect">
            <a:avLst/>
          </a:prstGeom>
          <a:solidFill>
            <a:srgbClr val="bbe0e3">
              <a:alpha val="54000"/>
            </a:srgbClr>
          </a:solid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happiest of people don't necessarily have the best of everything; they just make the most of everything that comes along their wa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71600" y="5715000"/>
            <a:ext cx="6400800" cy="1006560"/>
          </a:xfrm>
          <a:prstGeom prst="rect">
            <a:avLst/>
          </a:prstGeom>
          <a:solidFill>
            <a:srgbClr val="808080">
              <a:alpha val="39000"/>
            </a:srgbClr>
          </a:solid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brightest future will always be based on a forgotten past; you can't go forward in life until you let go of your past failures and heartache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subTitle"/>
          </p:nvPr>
        </p:nvSpPr>
        <p:spPr>
          <a:xfrm>
            <a:off x="1371600" y="4723920"/>
            <a:ext cx="6400800" cy="1930680"/>
          </a:xfrm>
          <a:prstGeom prst="rect">
            <a:avLst/>
          </a:prstGeom>
          <a:solidFill>
            <a:srgbClr val="3366ff">
              <a:alpha val="30000"/>
            </a:srgbClr>
          </a:solid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is “kind of” suggests a new meaning to the expression...</a:t>
            </a:r>
            <a:endParaRPr b="0" lang="en-US" sz="2000" spc="-1" strike="noStrike">
              <a:solidFill>
                <a:srgbClr val="000000"/>
              </a:solidFill>
              <a:latin typeface="Comic Sans MS"/>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ake up and smell the coffee"</a:t>
            </a:r>
            <a:endParaRPr b="0" lang="en-US" sz="2800" spc="-1" strike="noStrike">
              <a:solidFill>
                <a:srgbClr val="000000"/>
              </a:solidFill>
              <a:latin typeface="Comic Sans MS"/>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Comic Sans MS"/>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y we all be COFFE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4435200"/>
            <a:ext cx="6400800" cy="20415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s is just too great not to pass on....You will never look at a cup of coffee the same way again...</a:t>
            </a:r>
            <a:endParaRPr b="0" lang="en-US" sz="3200" spc="-1" strike="noStrike">
              <a:solidFill>
                <a:srgbClr val="000000"/>
              </a:solidFill>
              <a:latin typeface="Comic Sans MS"/>
            </a:endParaRPr>
          </a:p>
        </p:txBody>
      </p:sp>
      <p:sp>
        <p:nvSpPr>
          <p:cNvPr id="49" name="PlaceHolder 2"/>
          <p:cNvSpPr>
            <a:spLocks noGrp="1"/>
          </p:cNvSpPr>
          <p:nvPr>
            <p:ph type="title"/>
          </p:nvPr>
        </p:nvSpPr>
        <p:spPr>
          <a:xfrm>
            <a:off x="914400" y="2590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RROTS, EGGS, AND COFFEE......</a:t>
            </a:r>
            <a:br>
              <a:rPr sz="4000"/>
            </a:br>
            <a:endParaRPr b="0" lang="en-US" sz="4000" spc="-1" strike="noStrike">
              <a:solidFill>
                <a:srgbClr val="000000"/>
              </a:solidFill>
              <a:latin typeface="Comic Sans MS"/>
            </a:endParaRPr>
          </a:p>
        </p:txBody>
      </p:sp>
      <p:pic>
        <p:nvPicPr>
          <p:cNvPr id="50" name="Picture 10" descr="Som21"/>
          <p:cNvPicPr/>
          <p:nvPr/>
        </p:nvPicPr>
        <p:blipFill>
          <a:blip r:embed="rId2"/>
          <a:stretch/>
        </p:blipFill>
        <p:spPr>
          <a:xfrm>
            <a:off x="7848720" y="7162920"/>
            <a:ext cx="766800" cy="380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3714840"/>
            <a:ext cx="4114800" cy="2838240"/>
          </a:xfrm>
          <a:prstGeom prst="rect">
            <a:avLst/>
          </a:prstGeom>
          <a:solidFill>
            <a:srgbClr val="003300">
              <a:alpha val="50000"/>
            </a:srgbClr>
          </a:solidFill>
          <a:ln w="0">
            <a:noFill/>
          </a:ln>
        </p:spPr>
        <p:txBody>
          <a:bodyPr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 young woman went to her mother and told her about her life and how things were so hard for her. She did not know how she was going to make it and wanted to give up. She was tired of fighting and struggling. It seemed as one problem was solved, a new one arose..</a:t>
            </a:r>
            <a:endParaRPr b="0" lang="en-US" sz="20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3809880"/>
            <a:ext cx="3962520" cy="2781360"/>
          </a:xfrm>
          <a:prstGeom prst="rect">
            <a:avLst/>
          </a:prstGeom>
          <a:solidFill>
            <a:srgbClr val="ffffff">
              <a:alpha val="50000"/>
            </a:srgbClr>
          </a:solid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er mother took her to the kitchen. She filled three pots with water and placed each on a high fire. Soon the pots came to a boil. In the first she placed carrots, in the second she placed eggs, and in the last she placed ground coffee beans. She let them sit and boil, without saying a word.</a:t>
            </a:r>
            <a:endParaRPr b="0" lang="en-US" sz="20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5257800" y="3580920"/>
            <a:ext cx="3581280" cy="3025800"/>
          </a:xfrm>
          <a:prstGeom prst="rect">
            <a:avLst/>
          </a:prstGeom>
          <a:solidFill>
            <a:srgbClr val="ffffff">
              <a:alpha val="50000"/>
            </a:srgbClr>
          </a:solid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about twenty minutes she turned off the burners. She fished the carrots out and placed them in a bowl. She pulled the eggs out and placed them in a bowl. Then she ladled the coffee out and placed it in a bowl. Turning to her daughter, she asked, "Tell me what you see."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990720" y="3921120"/>
            <a:ext cx="7162560" cy="1033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rots, eggs, and coffee," </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e replie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52280" y="3603240"/>
            <a:ext cx="4191120" cy="3025800"/>
          </a:xfrm>
          <a:prstGeom prst="rect">
            <a:avLst/>
          </a:prstGeom>
          <a:solidFill>
            <a:srgbClr val="339966">
              <a:alpha val="47000"/>
            </a:srgbClr>
          </a:solidFill>
          <a:ln w="0">
            <a:noFill/>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er mother brought her closer and asked her to feel the carrots. She did and noted that they were soft. The mother then asked the daughter to take an egg and break it. After pulling off the shell, she observed the hard boiled egg. Finally, the mother asked the daughter to sip the coffee. The daughter smiled as she tasted its rich arom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231920"/>
            <a:ext cx="8305920" cy="3146400"/>
          </a:xfrm>
          <a:prstGeom prst="rect">
            <a:avLst/>
          </a:prstGeom>
          <a:solidFill>
            <a:srgbClr val="ffffff">
              <a:alpha val="35000"/>
            </a:srgbClr>
          </a:solidFill>
          <a:ln w="0">
            <a:noFill/>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daughter then asked, "What does it mean, mother?“</a:t>
            </a:r>
            <a:endParaRPr b="0" lang="en-US" sz="2000" spc="-1" strike="noStrike">
              <a:solidFill>
                <a:srgbClr val="000000"/>
              </a:solidFill>
              <a:latin typeface="Comic Sans MS"/>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er mother explained that each of these objects had faced the same adversity - boiling water. Each reacted differently. The carrot went in strong, hard, and unrelenting. However, after being subjected to the boiling water, it softened and became weak. The egg had been fragile. Its thin outer shell had protected its liquid interior, but after sitting through the boiling water, its inside became hardened. The ground coffee beans were unique, however. After they were in the boiling water, they had changed the water. "Which are you?" she asked her daughter.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3885840"/>
            <a:ext cx="6400800" cy="1133280"/>
          </a:xfrm>
          <a:prstGeom prst="rect">
            <a:avLst/>
          </a:prstGeom>
          <a:gradFill rotWithShape="0">
            <a:gsLst>
              <a:gs pos="0">
                <a:srgbClr val="ffffff">
                  <a:alpha val="41176"/>
                </a:srgbClr>
              </a:gs>
              <a:gs pos="100000">
                <a:srgbClr val="ffffff"/>
              </a:gs>
            </a:gsLst>
            <a:lin ang="2700000"/>
          </a:grad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en adversity knocks on your door,</a:t>
            </a:r>
            <a:endParaRPr b="0" lang="en-US" sz="2000" spc="-1" strike="noStrike">
              <a:solidFill>
                <a:srgbClr val="000000"/>
              </a:solidFill>
              <a:latin typeface="Comic Sans MS"/>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how do you respond? </a:t>
            </a:r>
            <a:endParaRPr b="0" lang="en-US" sz="2000" spc="-1" strike="noStrike">
              <a:solidFill>
                <a:srgbClr val="000000"/>
              </a:solidFill>
              <a:latin typeface="Comic Sans MS"/>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e you a carrot, an egg or a coffee bea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12:36:47Z</dcterms:created>
  <dc:creator>cindy-holdemqueen@hotmail.com</dc:creator>
  <dc:description/>
  <dc:language>en-US</dc:language>
  <cp:lastModifiedBy>vineet</cp:lastModifiedBy>
  <dcterms:modified xsi:type="dcterms:W3CDTF">2012-04-07T05:41:48Z</dcterms:modified>
  <cp:revision>11</cp:revision>
  <dc:subject/>
  <dc:title>CARROTS, EGGS, AND COFFEE...... </dc:title>
</cp:coreProperties>
</file>