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5A1-175C-4AEC-9D8F-D4C53A2D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026-46BB-4ECF-8060-C9F74DAC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A43-D407-4ECF-8CD8-6B42479C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193-011E-44C1-97C8-CC1D85B8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43E-DEA1-47D5-BB06-81013DD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529-AA07-4450-B0B3-B8B4D2B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6DE-4E59-4D13-8F49-583C6D9B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B46-A851-4F8F-AA48-58CE90C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981-21A0-4DF9-9637-E9EDF4E2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C72-34A2-49BD-A377-2072398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CDB-527F-46E3-849C-E81A27A7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1B6-9322-47AE-9A33-A6B8C01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4E0-DB18-4914-98BD-B7A6849F4B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6280" y="2852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El Frente Estudiantil Revolucionario, la Casas del Estudiante Joven Guardia Revolucionaria y Arturo Gamíz García.</a:t>
            </a:r>
            <a:br>
              <a:rPr sz="1400"/>
            </a:b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(F.E.R.-J.G.R.-A.G.G.)</a:t>
            </a:r>
            <a:br>
              <a:rPr sz="1200"/>
            </a:b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Tienen el honor de invitarlos al </a:t>
            </a:r>
            <a:r>
              <a:rPr b="1" i="1" lang="es-MX" sz="1400" spc="-1" strike="noStrike">
                <a:solidFill>
                  <a:srgbClr val="000000"/>
                </a:solidFill>
                <a:latin typeface="Bell MT"/>
              </a:rPr>
              <a:t>II ANIVERSARIO</a:t>
            </a: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 de Casa de Estudiante ubicada en la calle </a:t>
            </a: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Independencia #439</a:t>
            </a: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 Colonia </a:t>
            </a: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Morelos</a:t>
            </a: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 denominada:</a:t>
            </a:r>
            <a:br>
              <a:rPr sz="1400"/>
            </a:br>
            <a:br>
              <a:rPr sz="1400"/>
            </a:br>
            <a:r>
              <a:rPr b="1" lang="es-MX" sz="2200" spc="-1" strike="noStrike">
                <a:solidFill>
                  <a:srgbClr val="000000"/>
                </a:solidFill>
                <a:latin typeface="Lucida Handwriting"/>
              </a:rPr>
              <a:t>Prof. Arturo Gamíz García</a:t>
            </a:r>
            <a:br>
              <a:rPr sz="2200"/>
            </a:b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El evento se llevará a cabo el día </a:t>
            </a:r>
            <a:r>
              <a:rPr b="1" i="1" lang="es-MX" sz="1200" spc="-1" strike="noStrike">
                <a:solidFill>
                  <a:srgbClr val="000000"/>
                </a:solidFill>
                <a:latin typeface="Bell MT"/>
              </a:rPr>
              <a:t>19 de Septiembre del 2009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, la concentración es a las </a:t>
            </a: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10:00am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 en la Casa del Estudiante Joven Guardia Revolucionaria ubicada en la calle </a:t>
            </a: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Lago de Chapala #221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 en la Colonia </a:t>
            </a: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Ventura Puente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.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Esperamos contar su apreciable asistencia.</a:t>
            </a:r>
            <a:br>
              <a:rPr sz="1200"/>
            </a:br>
            <a:br>
              <a:rPr sz="14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Por la construcción de la nueva sociedad sin explotados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sin explotadores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Sólo el comunismo garantiza la educación pública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gratuita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Estudio, disciplina, dignidad, conciencia y lucha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siempre en guardia!!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ell MT"/>
              </a:rPr>
              <a:t>REVOLUCIONARIAMENTE</a:t>
            </a:r>
            <a:br>
              <a:rPr sz="1400"/>
            </a:br>
            <a:br>
              <a:rPr sz="1400"/>
            </a:b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rente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E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studiantil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R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evolucionario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rturo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amíz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arcía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joven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uardia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R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evolucionaria</a:t>
            </a:r>
            <a:br>
              <a:rPr sz="1400"/>
            </a:br>
            <a:r>
              <a:rPr b="0" lang="es-ES" sz="1000" spc="-1" strike="noStrike">
                <a:solidFill>
                  <a:srgbClr val="000000"/>
                </a:solidFill>
                <a:latin typeface="Bell MT"/>
              </a:rPr>
              <a:t>(</a:t>
            </a:r>
            <a:r>
              <a:rPr b="1" lang="es-ES" sz="1000" spc="-1" strike="noStrike">
                <a:solidFill>
                  <a:srgbClr val="000000"/>
                </a:solidFill>
                <a:latin typeface="Bell MT"/>
              </a:rPr>
              <a:t>F.E.R.- A.G.G.-J.G.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04640" y="2064600"/>
            <a:ext cx="5950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Dejar de luchar por un espacio para que los hijos del pueblo,</a:t>
            </a:r>
            <a:r>
              <a:rPr b="0" i="1" lang="es-ES" sz="1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podamos estudiar, comer, vivir y formarnos como hombres íntegros; es traicionar a nuestros ideas  y raíces, no claudicamos, estamos en guardia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!Siempre en Guardi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19440" y="8520480"/>
            <a:ext cx="464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Bell MT"/>
              </a:rPr>
              <a:t>Desde el corazón de Hidalgo Libertario y Morelos Guerrillero. Ciudad Capital  2009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kñnñnnju"/>
          <p:cNvPicPr/>
          <p:nvPr/>
        </p:nvPicPr>
        <p:blipFill>
          <a:blip r:embed="rId1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kñnñnnju"/>
          <p:cNvPicPr/>
          <p:nvPr/>
        </p:nvPicPr>
        <p:blipFill>
          <a:blip r:embed="rId2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92280" y="1488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P  R  E  S  E  N  T  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9"/>
          <p:cNvSpPr/>
          <p:nvPr/>
        </p:nvSpPr>
        <p:spPr>
          <a:xfrm>
            <a:off x="851040" y="8820000"/>
            <a:ext cx="511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1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2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3" descr="J"/>
          <p:cNvPicPr/>
          <p:nvPr/>
        </p:nvPicPr>
        <p:blipFill>
          <a:blip r:embed="rId3"/>
          <a:stretch/>
        </p:blipFill>
        <p:spPr>
          <a:xfrm>
            <a:off x="5013360" y="7596360"/>
            <a:ext cx="1027080" cy="64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Bandera FER"/>
          <p:cNvPicPr/>
          <p:nvPr/>
        </p:nvPicPr>
        <p:blipFill>
          <a:blip r:embed="rId4"/>
          <a:stretch/>
        </p:blipFill>
        <p:spPr>
          <a:xfrm>
            <a:off x="765000" y="7596360"/>
            <a:ext cx="107964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Arturo Gámiz García"/>
          <p:cNvPicPr/>
          <p:nvPr/>
        </p:nvPicPr>
        <p:blipFill>
          <a:blip r:embed="rId5"/>
          <a:stretch/>
        </p:blipFill>
        <p:spPr>
          <a:xfrm>
            <a:off x="4221000" y="395280"/>
            <a:ext cx="1511640" cy="1668600"/>
          </a:xfrm>
          <a:prstGeom prst="rect">
            <a:avLst/>
          </a:prstGeom>
          <a:ln w="0">
            <a:noFill/>
          </a:ln>
        </p:spPr>
      </p:pic>
      <p:sp>
        <p:nvSpPr>
          <p:cNvPr id="54" name="Oval 26"/>
          <p:cNvSpPr/>
          <p:nvPr/>
        </p:nvSpPr>
        <p:spPr>
          <a:xfrm>
            <a:off x="3357720" y="250920"/>
            <a:ext cx="1425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kñnñnnju"/>
          <p:cNvPicPr/>
          <p:nvPr/>
        </p:nvPicPr>
        <p:blipFill>
          <a:blip r:embed="rId6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kñnñnnju"/>
          <p:cNvPicPr/>
          <p:nvPr/>
        </p:nvPicPr>
        <p:blipFill>
          <a:blip r:embed="rId7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57" name="21 CuadroTexto"/>
          <p:cNvSpPr/>
          <p:nvPr/>
        </p:nvSpPr>
        <p:spPr>
          <a:xfrm>
            <a:off x="785880" y="714240"/>
            <a:ext cx="300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L PUEBLO EN GENE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 LAS ORGANIZACIONES SO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COLECTIVOS ESTUDIAN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92280" y="539640"/>
            <a:ext cx="56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PROGRAMA  DEL SEGUNDO ANIVERSARIO DE LA CASA DE ESTUDIANTE ARTURO GAMIZ GARCIA (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836640" y="8820000"/>
            <a:ext cx="518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kñnñnnju"/>
          <p:cNvPicPr/>
          <p:nvPr/>
        </p:nvPicPr>
        <p:blipFill>
          <a:blip r:embed="rId1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kñnñnnju"/>
          <p:cNvPicPr/>
          <p:nvPr/>
        </p:nvPicPr>
        <p:blipFill>
          <a:blip r:embed="rId2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kñnñnnju"/>
          <p:cNvPicPr/>
          <p:nvPr/>
        </p:nvPicPr>
        <p:blipFill>
          <a:blip r:embed="rId3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kñnñnnju"/>
          <p:cNvPicPr/>
          <p:nvPr/>
        </p:nvPicPr>
        <p:blipFill>
          <a:blip r:embed="rId4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981000" y="3348000"/>
            <a:ext cx="49690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HORARIO: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ACTO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o cív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apertura de la casa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rturo Gamí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Reseña histó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Participación de la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organiz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3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ida en la casa Joven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uardia Revolucion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8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ra de teatro “Monte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v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“El grito de los libr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VOLUCIONARIAMENTE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n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tudianti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tur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míz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í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ve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ardi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.E.R.- J.G.R.-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Ellos sabian por que"/>
          <p:cNvPicPr/>
          <p:nvPr/>
        </p:nvPicPr>
        <p:blipFill>
          <a:blip r:embed="rId5">
            <a:lum contrast="4000"/>
          </a:blip>
          <a:stretch/>
        </p:blipFill>
        <p:spPr>
          <a:xfrm>
            <a:off x="1844640" y="1187280"/>
            <a:ext cx="3216240" cy="159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8" name="Text Box 16"/>
          <p:cNvSpPr/>
          <p:nvPr/>
        </p:nvSpPr>
        <p:spPr>
          <a:xfrm>
            <a:off x="836640" y="2771640"/>
            <a:ext cx="518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Nuestro deseo es cambiar el mundo y eso nos llevará mucho tiem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Mientras mas pronto empecemos a luchar por cambiarlo, mejor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Arturo Gamíz García”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984600" y="8459640"/>
            <a:ext cx="488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de el corazón de Hidalgo Libertario y Morelos Guerrillero. Ciudad Capital  2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Bandera FER"/>
          <p:cNvPicPr/>
          <p:nvPr/>
        </p:nvPicPr>
        <p:blipFill>
          <a:blip r:embed="rId6"/>
          <a:stretch/>
        </p:blipFill>
        <p:spPr>
          <a:xfrm>
            <a:off x="692280" y="7596360"/>
            <a:ext cx="1079280" cy="6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J"/>
          <p:cNvPicPr/>
          <p:nvPr/>
        </p:nvPicPr>
        <p:blipFill>
          <a:blip r:embed="rId7"/>
          <a:stretch/>
        </p:blipFill>
        <p:spPr>
          <a:xfrm>
            <a:off x="5084640" y="7596360"/>
            <a:ext cx="10270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3:07Z</dcterms:created>
  <dc:creator>Joven Guardia</dc:creator>
  <dc:description/>
  <dc:language>en-US</dc:language>
  <cp:lastModifiedBy>MORADORES</cp:lastModifiedBy>
  <dcterms:modified xsi:type="dcterms:W3CDTF">2009-09-15T21:27:13Z</dcterms:modified>
  <cp:revision>24</cp:revision>
  <dc:subject/>
  <dc:title>El Frente Estudiantil Revolucionario y la Casa del Estudiante Joven Guardia Revolucionaria </dc:title>
</cp:coreProperties>
</file>