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B60-2102-43EB-9389-B844B94B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6EE-D347-4C32-A740-452BBA8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582-3659-4171-A6C6-A1411A3F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F0-2E57-4F9F-B5C5-7BB1CED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642-16D6-45D8-9C9D-8D1581F8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7CD-D4A6-4C8D-A851-AC0A66C5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DCE-3F57-4C9E-B08F-350277F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DF7-7FC3-4A79-8903-957F9C3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659-959A-489C-99C9-D47AD63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80D-A5ED-4220-B7CC-B50C68E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AAD-CB24-4637-9873-FBE0338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00B-639F-4CA0-A381-5858834B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CAC0-8408-418D-B872-BDCDEC712C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6280" y="2852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El Frente Estudiantil Revolucionario, la Casas del Estudiante Joven Guardia Revolucionaria y Arturo Gamíz García.</a:t>
            </a:r>
            <a:br>
              <a:rPr sz="1400"/>
            </a:b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(F.E.R.-J.G.R.-A.G.G.)</a:t>
            </a:r>
            <a:br>
              <a:rPr sz="12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Tienen el honor de invitarlos al </a:t>
            </a:r>
            <a:r>
              <a:rPr b="1" i="1" lang="es-MX" sz="1400" spc="-1" strike="noStrike">
                <a:solidFill>
                  <a:srgbClr val="000000"/>
                </a:solidFill>
                <a:latin typeface="Bell MT"/>
              </a:rPr>
              <a:t>II ANIVERSARIO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de Casa de Estudiante ubicada en la calle </a:t>
            </a: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Independencia #439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Colonia </a:t>
            </a: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Morelos</a:t>
            </a:r>
            <a:r>
              <a:rPr b="0" lang="es-MX" sz="1400" spc="-1" strike="noStrike">
                <a:solidFill>
                  <a:srgbClr val="000000"/>
                </a:solidFill>
                <a:latin typeface="Bell MT"/>
              </a:rPr>
              <a:t> denominada:</a:t>
            </a:r>
            <a:br>
              <a:rPr sz="1400"/>
            </a:br>
            <a:br>
              <a:rPr sz="1400"/>
            </a:br>
            <a:r>
              <a:rPr b="1" lang="es-MX" sz="2200" spc="-1" strike="noStrike">
                <a:solidFill>
                  <a:srgbClr val="000000"/>
                </a:solidFill>
                <a:latin typeface="Lucida Handwriting"/>
              </a:rPr>
              <a:t>Prof. Arturo Gamíz García</a:t>
            </a:r>
            <a:br>
              <a:rPr sz="2200"/>
            </a:b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El evento se llevará a cabo el día </a:t>
            </a:r>
            <a:r>
              <a:rPr b="1" i="1" lang="es-MX" sz="1200" spc="-1" strike="noStrike">
                <a:solidFill>
                  <a:srgbClr val="000000"/>
                </a:solidFill>
                <a:latin typeface="Bell MT"/>
              </a:rPr>
              <a:t>19 de Septiembre del 2009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, la concentración es a las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10:00am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en la Casa del Estudiante Joven Guardia Revolucionaria ubicada en la calle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Lago de Chapala #221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en la Colonia </a:t>
            </a: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Ventura Puente</a:t>
            </a: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.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Esperamos contar su apreciable asistencia.</a:t>
            </a:r>
            <a:br>
              <a:rPr sz="1200"/>
            </a:br>
            <a:br>
              <a:rPr sz="14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Por la construcción de la nueva sociedad sin explotados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in explotadores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ólo el comunismo garantiza la educación pública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gratuita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Estudio, disciplina, dignidad, conciencia y lucha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iempre en guardia!!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ell MT"/>
              </a:rPr>
              <a:t>REVOLUCIONARIAMENTE</a:t>
            </a:r>
            <a:br>
              <a:rPr sz="1400"/>
            </a:br>
            <a:br>
              <a:rPr sz="1400"/>
            </a:b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rente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E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tudiantil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evolucionario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rturo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amíz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arcía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joven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uardia </a:t>
            </a:r>
            <a:r>
              <a:rPr b="1" lang="es-ES" sz="12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evolucionaria</a:t>
            </a:r>
            <a:br>
              <a:rPr sz="1400"/>
            </a:br>
            <a:r>
              <a:rPr b="0" lang="es-ES" sz="1000" spc="-1" strike="noStrike">
                <a:solidFill>
                  <a:srgbClr val="000000"/>
                </a:solidFill>
                <a:latin typeface="Bell MT"/>
              </a:rPr>
              <a:t>(</a:t>
            </a:r>
            <a:r>
              <a:rPr b="1" lang="es-ES" sz="1000" spc="-1" strike="noStrike">
                <a:solidFill>
                  <a:srgbClr val="000000"/>
                </a:solidFill>
                <a:latin typeface="Bell MT"/>
              </a:rPr>
              <a:t>F.E.R.- A.G.G.-J.G.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04640" y="2064600"/>
            <a:ext cx="595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Dejar de luchar por un espacio para que los hijos del pueblo,</a:t>
            </a:r>
            <a:r>
              <a:rPr b="0" i="1" lang="es-ES" sz="1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podamos estudiar, comer, vivir y formarnos como hombres íntegros; es traicionar a nuestros ideas  y raíces, no claudicamos, estamos en guardia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i="1" lang="es-ES_tradnl" sz="1000" spc="-1" strike="noStrike">
                <a:solidFill>
                  <a:srgbClr val="000000"/>
                </a:solidFill>
                <a:latin typeface="Bell MT"/>
              </a:rPr>
              <a:t>!Siempre en Guardi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19440" y="8520480"/>
            <a:ext cx="46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Bell MT"/>
              </a:rPr>
              <a:t>Desde el corazón de Hidalgo Libertario y Morelos Guerrillero. Ciudad Capital  2009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kñnñnnju"/>
          <p:cNvPicPr/>
          <p:nvPr/>
        </p:nvPicPr>
        <p:blipFill>
          <a:blip r:embed="rId1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kñnñnnju"/>
          <p:cNvPicPr/>
          <p:nvPr/>
        </p:nvPicPr>
        <p:blipFill>
          <a:blip r:embed="rId2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2280" y="1488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P  R  E  S  E  N  T  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9"/>
          <p:cNvSpPr/>
          <p:nvPr/>
        </p:nvSpPr>
        <p:spPr>
          <a:xfrm>
            <a:off x="851040" y="8820000"/>
            <a:ext cx="51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1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3" descr="J"/>
          <p:cNvPicPr/>
          <p:nvPr/>
        </p:nvPicPr>
        <p:blipFill>
          <a:blip r:embed="rId3"/>
          <a:stretch/>
        </p:blipFill>
        <p:spPr>
          <a:xfrm>
            <a:off x="5013360" y="7596360"/>
            <a:ext cx="1027080" cy="64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Bandera FER"/>
          <p:cNvPicPr/>
          <p:nvPr/>
        </p:nvPicPr>
        <p:blipFill>
          <a:blip r:embed="rId4"/>
          <a:stretch/>
        </p:blipFill>
        <p:spPr>
          <a:xfrm>
            <a:off x="765000" y="7596360"/>
            <a:ext cx="107964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Arturo Gámiz García"/>
          <p:cNvPicPr/>
          <p:nvPr/>
        </p:nvPicPr>
        <p:blipFill>
          <a:blip r:embed="rId5"/>
          <a:stretch/>
        </p:blipFill>
        <p:spPr>
          <a:xfrm>
            <a:off x="4221000" y="395280"/>
            <a:ext cx="1511640" cy="1668600"/>
          </a:xfrm>
          <a:prstGeom prst="rect">
            <a:avLst/>
          </a:prstGeom>
          <a:ln w="0">
            <a:noFill/>
          </a:ln>
        </p:spPr>
      </p:pic>
      <p:sp>
        <p:nvSpPr>
          <p:cNvPr id="54" name="Oval 26"/>
          <p:cNvSpPr/>
          <p:nvPr/>
        </p:nvSpPr>
        <p:spPr>
          <a:xfrm>
            <a:off x="3357720" y="250920"/>
            <a:ext cx="1425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kñnñnnju"/>
          <p:cNvPicPr/>
          <p:nvPr/>
        </p:nvPicPr>
        <p:blipFill>
          <a:blip r:embed="rId6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kñnñnnju"/>
          <p:cNvPicPr/>
          <p:nvPr/>
        </p:nvPicPr>
        <p:blipFill>
          <a:blip r:embed="rId7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21 CuadroTexto"/>
          <p:cNvSpPr/>
          <p:nvPr/>
        </p:nvSpPr>
        <p:spPr>
          <a:xfrm>
            <a:off x="785880" y="714240"/>
            <a:ext cx="300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L PUEBLO EN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 LAS ORGANIZACIONES SO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COLECTIVOS ESTUDIAN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92280" y="53964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PROGRAMA  DEL SEGUNDO ANIVERSARIO DE LA CASA DE ESTUDIANTE ARTURO GAMIZ GARCIA (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836640" y="8820000"/>
            <a:ext cx="51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kñnñnnju"/>
          <p:cNvPicPr/>
          <p:nvPr/>
        </p:nvPicPr>
        <p:blipFill>
          <a:blip r:embed="rId1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kñnñnnju"/>
          <p:cNvPicPr/>
          <p:nvPr/>
        </p:nvPicPr>
        <p:blipFill>
          <a:blip r:embed="rId2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kñnñnnju"/>
          <p:cNvPicPr/>
          <p:nvPr/>
        </p:nvPicPr>
        <p:blipFill>
          <a:blip r:embed="rId3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kñnñnnju"/>
          <p:cNvPicPr/>
          <p:nvPr/>
        </p:nvPicPr>
        <p:blipFill>
          <a:blip r:embed="rId4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981000" y="3348000"/>
            <a:ext cx="4969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HORARIO: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ACTO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o cív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pertura de la casa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rturo Gamí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Reseña histó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Participación de la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organiz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3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ida en la casa Joven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uardia Revolucio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8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ra de teatro “Monte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v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“El grito de los libr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VOLUCIONARIAMENTE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n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tudianti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tur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mí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í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ve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ard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.E.R.- J.G.R.-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Ellos sabian por que"/>
          <p:cNvPicPr/>
          <p:nvPr/>
        </p:nvPicPr>
        <p:blipFill>
          <a:blip r:embed="rId5">
            <a:lum contrast="4000"/>
          </a:blip>
          <a:stretch/>
        </p:blipFill>
        <p:spPr>
          <a:xfrm>
            <a:off x="1844640" y="1187280"/>
            <a:ext cx="3216240" cy="159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Text Box 16"/>
          <p:cNvSpPr/>
          <p:nvPr/>
        </p:nvSpPr>
        <p:spPr>
          <a:xfrm>
            <a:off x="836640" y="277164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Mientras mas pronto empecemos a luchar por cambiarlo, mejor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Arturo Gamíz García”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984600" y="8459640"/>
            <a:ext cx="488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de el corazón de Hidalgo Libertario y Morelos Guerrillero. Ciudad Capital 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Bandera FER"/>
          <p:cNvPicPr/>
          <p:nvPr/>
        </p:nvPicPr>
        <p:blipFill>
          <a:blip r:embed="rId6"/>
          <a:stretch/>
        </p:blipFill>
        <p:spPr>
          <a:xfrm>
            <a:off x="692280" y="759636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J"/>
          <p:cNvPicPr/>
          <p:nvPr/>
        </p:nvPicPr>
        <p:blipFill>
          <a:blip r:embed="rId7"/>
          <a:stretch/>
        </p:blipFill>
        <p:spPr>
          <a:xfrm>
            <a:off x="5084640" y="7596360"/>
            <a:ext cx="10270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3:07Z</dcterms:created>
  <dc:creator>Joven Guardia</dc:creator>
  <dc:description/>
  <dc:language>en-US</dc:language>
  <cp:lastModifiedBy>MORADORES</cp:lastModifiedBy>
  <dcterms:modified xsi:type="dcterms:W3CDTF">2009-09-15T21:27:13Z</dcterms:modified>
  <cp:revision>24</cp:revision>
  <dc:subject/>
  <dc:title>El Frente Estudiantil Revolucionario y la Casa del Estudiante Joven Guardia Revolucionaria </dc:title>
</cp:coreProperties>
</file>