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7F3-138F-4979-A988-D5BFCE26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26D-1078-421F-824E-54D3ADCF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F5D-806B-453A-8D58-04B5F5F7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F8D-CF53-4A56-B6D2-DE57AB6B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A46-C290-437E-9E39-84F92063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29A-DAAE-4787-AD06-608C71C6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B31-EF37-4B02-B02B-7D634293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D10-6B29-44EB-8239-7202667B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B77-DF28-4C52-8128-596EBEF3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A42-30B0-4E07-85C1-053D4D15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295-69D6-4C5A-990B-D1E3D1F4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5D7-9098-45E5-B6D8-04CC0F99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03A5-42D2-4030-9E5E-B6A9582D33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image" Target="../media/image4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Arturo Gámiz García"/>
          <p:cNvPicPr/>
          <p:nvPr/>
        </p:nvPicPr>
        <p:blipFill>
          <a:blip r:embed="rId1"/>
          <a:stretch/>
        </p:blipFill>
        <p:spPr>
          <a:xfrm>
            <a:off x="4365720" y="395280"/>
            <a:ext cx="1120680" cy="136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2280" y="2555640"/>
            <a:ext cx="5473440" cy="59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es-MX" sz="1400" spc="-1" strike="noStrike">
                <a:solidFill>
                  <a:srgbClr val="000000"/>
                </a:solidFill>
                <a:latin typeface="Bell MT"/>
              </a:rPr>
              <a:t>El Frente Estudiantil Revolucionario, las Casas del Estudiante Joven Guardia Revolucionaria y Arturo Gámiz García.</a:t>
            </a:r>
            <a:br>
              <a:rPr sz="1400"/>
            </a:b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(F.E.R.-J.G.R.-A.G.G.)</a:t>
            </a:r>
            <a:br>
              <a:rPr sz="1200"/>
            </a:br>
            <a:br>
              <a:rPr sz="1400"/>
            </a:b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Tienen el honor de invitarlos a una </a:t>
            </a:r>
            <a:r>
              <a:rPr b="1" i="1" lang="es-MX" sz="1100" spc="-1" strike="noStrike">
                <a:solidFill>
                  <a:srgbClr val="000000"/>
                </a:solidFill>
                <a:latin typeface="Bell MT"/>
              </a:rPr>
              <a:t>Reunión Previa 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en el marco del  </a:t>
            </a:r>
            <a:r>
              <a:rPr b="1" i="1" lang="es-MX" sz="1100" spc="-1" strike="noStrike">
                <a:solidFill>
                  <a:srgbClr val="000000"/>
                </a:solidFill>
                <a:latin typeface="Bell MT"/>
              </a:rPr>
              <a:t> 45 ANIVERSARIO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1" lang="es-MX" sz="1100" spc="-1" strike="noStrike">
                <a:solidFill>
                  <a:srgbClr val="000000"/>
                </a:solidFill>
                <a:latin typeface="Bell MT"/>
              </a:rPr>
              <a:t>del Inicio por la Lucha por el Socialismo en México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. </a:t>
            </a:r>
            <a:r>
              <a:rPr b="0" i="1" lang="es-MX" sz="1100" spc="-1" strike="noStrike" u="sng">
                <a:solidFill>
                  <a:srgbClr val="000000"/>
                </a:solidFill>
                <a:uFillTx/>
                <a:latin typeface="Bell MT"/>
              </a:rPr>
              <a:t>Lunes 13 de septiembre del 2010 a las 9:00 pm.</a:t>
            </a:r>
            <a:r>
              <a:rPr b="0" i="1" lang="es-MX" sz="11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Para llevarse acabo en  Casa de Estudiante </a:t>
            </a:r>
            <a:r>
              <a:rPr b="1" lang="es-MX" sz="1100" spc="-1" strike="noStrike">
                <a:solidFill>
                  <a:srgbClr val="000000"/>
                </a:solidFill>
                <a:latin typeface="Bell MT"/>
              </a:rPr>
              <a:t>Joven Guardia Revolucionaria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 ubicada en la calle Lago de Chápala </a:t>
            </a:r>
            <a:r>
              <a:rPr b="1" lang="es-MX" sz="1100" spc="-1" strike="noStrike">
                <a:solidFill>
                  <a:srgbClr val="000000"/>
                </a:solidFill>
                <a:latin typeface="Bell MT"/>
              </a:rPr>
              <a:t>#221. 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 Colonia Ventura Puente. Morelia, Michoacán. </a:t>
            </a:r>
            <a:br>
              <a:rPr sz="1400"/>
            </a:b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Así mismo hacemos una invitación extensa a la:</a:t>
            </a:r>
            <a:br>
              <a:rPr sz="1100"/>
            </a:b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      </a:t>
            </a:r>
            <a:r>
              <a:rPr b="1" lang="es-MX" sz="1100" spc="-1" strike="noStrike">
                <a:solidFill>
                  <a:srgbClr val="000000"/>
                </a:solidFill>
                <a:latin typeface="Bell MT"/>
              </a:rPr>
              <a:t>Marcha-mitin el 23 de septiembre a las 16:00 hrs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.           </a:t>
            </a:r>
            <a:br>
              <a:rPr sz="1100"/>
            </a:b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          Partiendo del Monumento a Lázaro Cárdenas a Palacio de Gobierno.</a:t>
            </a:r>
            <a:br>
              <a:rPr sz="1100"/>
            </a:br>
            <a:br>
              <a:rPr sz="11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Todos a la Marcha del 23 de septiembre por: </a:t>
            </a:r>
            <a:br>
              <a:rPr sz="1200"/>
            </a:b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Por un cambio de Política social, a una mas justa!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 ¡Para vivir mejor, que se valla Calderón ! 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Reinstalación de las fuentes de empleo y Solución al SME!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Alto a la Represión del pueblo, por la falsa izquierda, del Gobierno Leonel Godoy Rangel!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Por la aparición con vida, de los desaparecidos políticos y de conciencia de todo el país!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Por la cancelación de todas las ordenes de aprensión, en contra de los luchadores sociales! 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Por el Reconocimiento de la Casa del Estudiante Arturo Gámiz García!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Por la construcción de la nueva sociedad sin explotados y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sin explotadores!!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Sólo el comunismo garantiza la educación pública y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gratuita!!</a:t>
            </a:r>
            <a:br>
              <a:rPr sz="1200"/>
            </a:br>
            <a:br>
              <a:rPr sz="14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92280" y="65088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ell MT"/>
              </a:rPr>
              <a:t>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0720" y="1738800"/>
            <a:ext cx="595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ell MT"/>
              </a:rPr>
              <a:t>45 Aniversario del ataque al cuartel Madera, Chihuah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919440" y="8520480"/>
            <a:ext cx="464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Bell MT"/>
              </a:rPr>
              <a:t>Desde el corazón de Hidalgo Libertario y Morelos Guerrillero. Ciudad Capital  2010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kñnñnnju"/>
          <p:cNvPicPr/>
          <p:nvPr/>
        </p:nvPicPr>
        <p:blipFill>
          <a:blip r:embed="rId2"/>
          <a:stretch/>
        </p:blipFill>
        <p:spPr>
          <a:xfrm>
            <a:off x="6093000" y="252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kñnñnnju"/>
          <p:cNvPicPr/>
          <p:nvPr/>
        </p:nvPicPr>
        <p:blipFill>
          <a:blip r:embed="rId3"/>
          <a:stretch/>
        </p:blipFill>
        <p:spPr>
          <a:xfrm>
            <a:off x="609300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48" name="Line 14"/>
          <p:cNvSpPr/>
          <p:nvPr/>
        </p:nvSpPr>
        <p:spPr>
          <a:xfrm>
            <a:off x="749160" y="938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692280" y="13842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P  R  E  S  E  N  T  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879480" y="324000"/>
            <a:ext cx="511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851040" y="8820000"/>
            <a:ext cx="511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1"/>
          <p:cNvSpPr/>
          <p:nvPr/>
        </p:nvSpPr>
        <p:spPr>
          <a:xfrm>
            <a:off x="638172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"/>
          <p:cNvSpPr/>
          <p:nvPr/>
        </p:nvSpPr>
        <p:spPr>
          <a:xfrm>
            <a:off x="47628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3" descr="J"/>
          <p:cNvPicPr/>
          <p:nvPr/>
        </p:nvPicPr>
        <p:blipFill>
          <a:blip r:embed="rId4"/>
          <a:stretch/>
        </p:blipFill>
        <p:spPr>
          <a:xfrm>
            <a:off x="5157720" y="8028000"/>
            <a:ext cx="91908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Bandera FER"/>
          <p:cNvPicPr/>
          <p:nvPr/>
        </p:nvPicPr>
        <p:blipFill>
          <a:blip r:embed="rId5"/>
          <a:stretch/>
        </p:blipFill>
        <p:spPr>
          <a:xfrm>
            <a:off x="765000" y="7956720"/>
            <a:ext cx="959040" cy="576000"/>
          </a:xfrm>
          <a:prstGeom prst="rect">
            <a:avLst/>
          </a:prstGeom>
          <a:ln w="0">
            <a:noFill/>
          </a:ln>
        </p:spPr>
      </p:pic>
      <p:sp>
        <p:nvSpPr>
          <p:cNvPr id="56" name="Oval 26"/>
          <p:cNvSpPr/>
          <p:nvPr/>
        </p:nvSpPr>
        <p:spPr>
          <a:xfrm>
            <a:off x="3357720" y="250920"/>
            <a:ext cx="1425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7"/>
          <p:cNvSpPr/>
          <p:nvPr/>
        </p:nvSpPr>
        <p:spPr>
          <a:xfrm>
            <a:off x="763560" y="1154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0"/>
          <p:cNvSpPr/>
          <p:nvPr/>
        </p:nvSpPr>
        <p:spPr>
          <a:xfrm>
            <a:off x="765000" y="140796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kñnñnnju"/>
          <p:cNvPicPr/>
          <p:nvPr/>
        </p:nvPicPr>
        <p:blipFill>
          <a:blip r:embed="rId6"/>
          <a:stretch/>
        </p:blipFill>
        <p:spPr>
          <a:xfrm>
            <a:off x="333360" y="2379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kñnñnnju"/>
          <p:cNvPicPr/>
          <p:nvPr/>
        </p:nvPicPr>
        <p:blipFill>
          <a:blip r:embed="rId7"/>
          <a:stretch/>
        </p:blipFill>
        <p:spPr>
          <a:xfrm>
            <a:off x="33336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61" name="21 Rectángulo"/>
          <p:cNvSpPr/>
          <p:nvPr/>
        </p:nvSpPr>
        <p:spPr>
          <a:xfrm>
            <a:off x="2176560" y="5235480"/>
            <a:ext cx="2879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68440" y="2384280"/>
            <a:ext cx="56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Nuestro deseo es cambiar el mundo y eso nos llevará mucho tiempo. Mientras más pronto empecemos a luchar por cambiarlo, mejor” </a:t>
            </a:r>
            <a:r>
              <a:rPr b="0" i="1" lang="es-ES" sz="900" spc="-1" strike="noStrike">
                <a:solidFill>
                  <a:srgbClr val="000000"/>
                </a:solidFill>
                <a:latin typeface="Arial"/>
              </a:rPr>
              <a:t>Arturo Gámiz Garcí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92280" y="539640"/>
            <a:ext cx="56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PROGRAMA  DEL II ANIVERSARIO DE LA CASA DE ESTUDIANTE ARTURO GAMIZ GARCIA (A.G.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879480" y="324000"/>
            <a:ext cx="511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836640" y="8820000"/>
            <a:ext cx="518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47628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kñnñnnju"/>
          <p:cNvPicPr/>
          <p:nvPr/>
        </p:nvPicPr>
        <p:blipFill>
          <a:blip r:embed="rId1"/>
          <a:stretch/>
        </p:blipFill>
        <p:spPr>
          <a:xfrm>
            <a:off x="333360" y="2379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kñnñnnju"/>
          <p:cNvPicPr/>
          <p:nvPr/>
        </p:nvPicPr>
        <p:blipFill>
          <a:blip r:embed="rId2"/>
          <a:stretch/>
        </p:blipFill>
        <p:spPr>
          <a:xfrm>
            <a:off x="333360" y="8388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kñnñnnju"/>
          <p:cNvPicPr/>
          <p:nvPr/>
        </p:nvPicPr>
        <p:blipFill>
          <a:blip r:embed="rId3"/>
          <a:stretch/>
        </p:blipFill>
        <p:spPr>
          <a:xfrm>
            <a:off x="6093000" y="252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kñnñnnju"/>
          <p:cNvPicPr/>
          <p:nvPr/>
        </p:nvPicPr>
        <p:blipFill>
          <a:blip r:embed="rId4"/>
          <a:stretch/>
        </p:blipFill>
        <p:spPr>
          <a:xfrm>
            <a:off x="609300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4"/>
          <p:cNvSpPr/>
          <p:nvPr/>
        </p:nvSpPr>
        <p:spPr>
          <a:xfrm>
            <a:off x="981000" y="3348000"/>
            <a:ext cx="49690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HORARIO: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ACTO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to cív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apertura de la casa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rturo Gamí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Reseña histó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Participación de las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organiz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3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ida en la casa Joven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uardia Revolucion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8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ra de teatro “Monte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lvo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1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4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“El grito de los libr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VOLUCIONARIAMENTE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nt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tudianti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olucionari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tur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míz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í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ven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ardi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olucionaria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.E.R.- J.G.R.-A.G.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5" descr="Ellos sabian por que"/>
          <p:cNvPicPr/>
          <p:nvPr/>
        </p:nvPicPr>
        <p:blipFill>
          <a:blip r:embed="rId5">
            <a:lum contrast="4000"/>
          </a:blip>
          <a:stretch/>
        </p:blipFill>
        <p:spPr>
          <a:xfrm>
            <a:off x="1844640" y="1187280"/>
            <a:ext cx="3216240" cy="159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3" name="Text Box 16"/>
          <p:cNvSpPr/>
          <p:nvPr/>
        </p:nvSpPr>
        <p:spPr>
          <a:xfrm>
            <a:off x="836640" y="2771640"/>
            <a:ext cx="518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Nuestro deseo es cambiar el mundo y eso nos llevará mucho tiemp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Mientras mas pronto empecemos a luchar por cambiarlo, mejor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Arturo Gamíz García”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984600" y="8459640"/>
            <a:ext cx="488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de el corazón de Hidalgo Libertario y Morelos Guerrillero. Ciudad Capital  2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638172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9" descr="Bandera FER"/>
          <p:cNvPicPr/>
          <p:nvPr/>
        </p:nvPicPr>
        <p:blipFill>
          <a:blip r:embed="rId6"/>
          <a:stretch/>
        </p:blipFill>
        <p:spPr>
          <a:xfrm>
            <a:off x="692280" y="7596360"/>
            <a:ext cx="1079280" cy="64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J"/>
          <p:cNvPicPr/>
          <p:nvPr/>
        </p:nvPicPr>
        <p:blipFill>
          <a:blip r:embed="rId7"/>
          <a:stretch/>
        </p:blipFill>
        <p:spPr>
          <a:xfrm>
            <a:off x="5084640" y="7596360"/>
            <a:ext cx="1027080" cy="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33:07Z</dcterms:created>
  <dc:creator>Joven Guardia</dc:creator>
  <dc:description/>
  <dc:language>en-US</dc:language>
  <cp:lastModifiedBy>Comite de Prensa</cp:lastModifiedBy>
  <dcterms:modified xsi:type="dcterms:W3CDTF">2010-09-10T18:09:24Z</dcterms:modified>
  <cp:revision>34</cp:revision>
  <dc:subject/>
  <dc:title>El Frente Estudiantil Revolucionario y la Casa del Estudiante Joven Guardia Revolucionaria </dc:title>
</cp:coreProperties>
</file>