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3.gif" ContentType="image/gif"/>
  <Override PartName="/ppt/media/image6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sonidos-%20expedientes%20secretos%20x.wav" ContentType="audio/x-wav"/>
  <Override PartName="/ppt/media/image19.png" ContentType="image/png"/>
  <Override PartName="/ppt/media/image2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45C-E4C4-40A2-892D-FFE862FF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BC1-6339-490E-864A-77D284B8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014-5111-456E-A388-9AD9D3F7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CB2-32E2-4A2D-BF2B-17ACCAA2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BDD-4E86-4C84-BF87-EE60AE9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7A1-A0E9-46B5-B7E8-271D8266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F52-0602-45B3-8FCD-A1A9E83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18A-63A9-464E-93E8-B9D8C12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D7A-75B1-4783-AFA3-6E63E75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8AF-1916-492D-80EC-B03B010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AB7-CED4-4C7E-8A83-1D11038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145-9F2F-47FC-BB7A-CFEA35F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2C2-5449-449C-A7ED-6A728A25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nidos-%20expedientes%20secretos%20x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692280"/>
            <a:ext cx="755964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SIGUIENTES IMÁGENES PUEDEN NO IMPORTARTE NI HOY NI NUNC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ERO A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TUS HIJOS</a:t>
            </a: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 LES IMPORTARÁ MÁS DE LO QUE TÚ C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2832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ADA SERÁ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ALIR A LA CALLE SIN BLOQUEADOR PRONTO SERÁ IMPO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100 AÑOS, ESO ESTIMABAN EN LA O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ERO HOY SE ESTIMAN 5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MAÑANA, TAL VEZ COM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781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58640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R FAVOR AYÚD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00720" y="2924280"/>
            <a:ext cx="2644920" cy="374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433680" cy="27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3528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811600" cy="2735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9640" y="2781360"/>
            <a:ext cx="4390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3f830"/>
                </a:solidFill>
                <a:latin typeface="Arial"/>
              </a:rPr>
              <a:t>POR EL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2952720" cy="254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29240" y="2825640"/>
            <a:ext cx="271476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76720" y="3716280"/>
            <a:ext cx="2950920" cy="295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715000" y="189000"/>
            <a:ext cx="342900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S FÁCIL 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TU CASA, SI TIENES FOCOS PRENDIDOS QUE NO UTILIZAS, APÁG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 PUEDES CAMINAR O USAR BICICLETA PARA LLEGAR A UN LUGAR, ÚS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IRES BASURA EN LA C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E BAÑES CON AGUA MUY CALIENTE (EL VAPOR ES UN GAS INVERNADER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"/>
                            </p:stCondLst>
                            <p:childTnLst>
                              <p:par>
                                <p:cTn id="4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100"/>
                            </p:stCondLst>
                            <p:childTnLst>
                              <p:par>
                                <p:cTn id="4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100"/>
                            </p:stCondLst>
                            <p:childTnLst>
                              <p:par>
                                <p:cTn id="4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10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NO TE ASUSTES, ESTO NO ES UNA CADE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NO TENDRÁS AÑOS DE MALA SUER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ERO TE QUIERO PEDIR QUE ANALICES LAS COSAS Y PIENSES EN EL FUT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 u="sng">
                <a:solidFill>
                  <a:srgbClr val="ffffff"/>
                </a:solidFill>
                <a:uFillTx/>
                <a:latin typeface="Arial"/>
              </a:rPr>
              <a:t>POR FAVOR NO TE QUEDES CON ESTE CORREO Y REENVÍA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TIENES EL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848040" cy="293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EN TUS MAN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00"/>
                            </p:stCondLst>
                            <p:childTnLst>
                              <p:par>
                                <p:cTn id="4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5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493704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0000"/>
                </a:solidFill>
                <a:latin typeface="Arial"/>
              </a:rPr>
              <a:t>EL PLANETA H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 DERRITEN LOS P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05440" cy="448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384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¿HAS  VISTO E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QUÍ HAY UNA CONSECUENCIA EN OTRO LADO DEL PL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500720" cy="237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00720" cy="216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443700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14972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2360" y="407664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STO ES PAN DE CADA DÍA EN LAS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¿Has notado que hace mas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73440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m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locura de unos meteorólogos en busca de f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un problem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4789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¿TIRAS BASURA EN LA CA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S FRASES ¿LAS HAS DICHO ALGUNA VE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A BASURITA NO ES 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 LA GENTE TIRA BASURA, UNA MÁS NO PASA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50"/>
                            </p:stCondLst>
                            <p:childTnLst>
                              <p:par>
                                <p:cTn id="1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5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5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6920" y="764640"/>
            <a:ext cx="4330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AQUÍ HACE UNOS AÑOS HABÍA NI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0668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¿CREES QUE ES MENTIRA?</a:t>
            </a:r>
            <a:br>
              <a:rPr sz="4000"/>
            </a:b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AQUÍ TIENES PRUEB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94200" y="1773360"/>
            <a:ext cx="424980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33960" cy="366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08360" y="2924280"/>
            <a:ext cx="865080" cy="7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848040"/>
            <a:ext cx="3419640" cy="300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5796000" cy="378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1008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419640" y="3860640"/>
            <a:ext cx="572436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843280" y="5516640"/>
            <a:ext cx="129528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27:32Z</dcterms:created>
  <dc:creator> </dc:creator>
  <dc:description/>
  <dc:language>en-US</dc:language>
  <cp:lastModifiedBy>Colossus User</cp:lastModifiedBy>
  <dcterms:modified xsi:type="dcterms:W3CDTF">2009-02-06T00:51:19Z</dcterms:modified>
  <cp:revision>2</cp:revision>
  <dc:subject/>
  <dc:title>Diapositiva 1</dc:title>
</cp:coreProperties>
</file>