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8903-4982-482F-A2FD-2EB3BD7E8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8784-746C-4D20-BA66-56BF18CAD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EA9F-5FA4-4FF8-A369-526F3E3B7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6FAB-CCC9-42E8-90EE-04F248B04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A522-BDF2-4F12-B78D-44F4EF9C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4B1C-3EF1-4A5B-859B-65A8567E2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6696-1090-451B-8251-EF1455AD4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8716-ECCA-4D46-8033-A5FE0110D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6B70-5539-495E-9CE9-A853193CA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5BE2-2CB9-4552-A303-2994D27C7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D36E-AD0D-4956-9ECD-24142DA82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47BE-011C-4437-A167-95ACAB10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7264-ACF0-448E-8328-0C1ECC94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7380-EF70-4669-B8F3-F14207EA8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C73-0D0A-4399-9605-02275068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EC1-08B9-484C-8CB0-E7F4E228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0ED-9A41-48C9-9908-2464CE55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1FF-A6DF-465A-85E4-3215A681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DA61-EB85-42C0-93C9-2F978A22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516B-977A-4E0C-88B3-093E56B4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6849-35E5-4B7B-A498-A0FC4E41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142B-866D-490C-BB2A-432F3664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2AA9-E2B9-4BA7-BB69-573742D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000A-0112-4FCC-8230-E918698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9109-0618-4227-BDC3-35D5701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AB6-F24B-4F00-BE27-7FF18F68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2402-9127-4D4F-B415-F8420573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3EC4-56EA-4DAA-9E6E-E8A6E00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142C-3B55-4FE0-90D0-A21BF2D8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6D49-5AC4-413D-8FAF-1DA0C6BE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CB37-F69E-47CE-A68C-042802AE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31F5-0D1A-423F-9C2D-27E38E5A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DFD3-4119-49A8-A233-E748F5CF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F477-B861-4E31-ACA8-8B73239B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A87A-1D96-4E27-942E-90673746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1538-BE0B-4995-A20F-72B482E4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9C1-BCA4-4F39-B0F5-8D0495CB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7AFB-3E64-4715-B05D-9D401E6C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C873-2095-4ACC-BB0A-31F57896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66E5-A315-497C-85E4-86D2BB6A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FD09A-66C1-4F36-80A8-DD866114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F826-6673-43E7-BE65-F96ED47D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30D4A-3843-464E-98BE-3DDB7EB2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28FA-6762-482C-BF1D-7C4D2900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837B-BB0E-43BD-834A-9694B851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FE14F-B3D1-4A2F-9366-1A426C03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AA20-8170-4D65-A6AF-A12E3DBD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FC4-E76F-4186-9F1D-5D67F322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21F5-AA07-4F43-A1D5-F875856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FCB01-BE8A-49C1-A338-4B299001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0930-56AD-4123-ADC4-03CA8CEA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E966-466D-406B-8FCD-1F347F3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715A6-52C9-489F-A836-E41F0413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C7EB-E448-465D-92E8-9B6873A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06D2-96B5-4F2F-BC25-C31D9E7B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C150-3491-446F-BDA4-D915B7AF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5DEB-8EFF-4E6F-A2BD-B5507252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1018-C4E8-46EE-9315-8D673507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419-2C42-4C12-AED6-FDD936D5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91F63-ADEB-4293-A566-7CA25384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F6C94-6C9C-4D51-8692-59EF6A4E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84514-2D46-4CB8-B221-59357575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AF520-069C-4F09-91C2-C7C696B2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D1A7-2897-4CA1-B64A-F0661601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D6F0-C059-4E0B-87C5-BED74CAD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DB265-AF23-403A-9920-AEAB7245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0E4F-1FBD-41C9-A6AD-DB603DFD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C20D6-7505-47A3-BE3D-3AB801DE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B155-3A2C-4A1E-A982-7EC8DB4A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64D-7092-43B6-A177-BB5B2A86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A5142-9D02-49B8-B9C6-C6F1A817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2F83F-04E5-4F9D-9CEE-8531A838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1AA53-AAFC-44C3-B3BF-C60242FA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1FE6B-886A-49BD-BB83-8DD1EE85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FE5EB-B3C4-4077-B154-2DAB233A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D491F-67E8-4FDD-8ABE-3BD833DE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78C23-B493-4688-8E8E-3230AD03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1CD25-8EA1-4790-AE7D-B015765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44548-5D5B-4D8D-88B0-FD7EC79F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82EB-E0BF-42BA-A6A0-1842B611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AEA-C936-43BD-934C-9C8F5B74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9BA74-7963-4459-A6ED-0ACEC716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1A326-B4F0-4CD0-B713-FFE8DE6E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4B15A-5B1C-42C1-B320-FFAFFE8D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846-FF65-4F8E-ADAC-1C9B4FF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A8C-6B23-43E6-ACE2-C7FB695A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0893-9FD4-4061-ACCC-ECA44C8B72F4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BF3E-10C8-40DE-AC76-C698FD8F792A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75DF-AC65-4FEF-9585-8E9DB2211FCB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FEA-3ADC-409F-8337-0425AEFAEE36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4CC2-2178-4E5B-9C3C-8DC60A464A57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FE3F-5CE7-4FB6-9992-BA2EDC3CFAA9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Unit 2: Organis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ure of organiz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isation levels and span of managemen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tors determining span –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izational design and structure: departmentalisation, line and staff concepts, staffing delegation, decentralization and recentralisation of authority - responsive organization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aning and types of powe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mpowerment –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s Vs. Team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ure of groups dynamics ,of informal groups, dysfunctions of groups and team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ams in modern work pla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Pros and Cons of Different Structur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is depends on the business type, size and structure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t’s look at a functional struct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Freeform 13"/>
          <p:cNvSpPr/>
          <p:nvPr/>
        </p:nvSpPr>
        <p:spPr>
          <a:xfrm>
            <a:off x="7848720" y="5105520"/>
            <a:ext cx="4680" cy="726840"/>
          </a:xfrm>
          <a:custGeom>
            <a:avLst/>
            <a:gdLst/>
            <a:ahLst/>
            <a:rect l="l" t="t" r="r" b="b"/>
            <a:pathLst>
              <a:path w="3" h="458">
                <a:moveTo>
                  <a:pt x="3" y="0"/>
                </a:moveTo>
                <a:lnTo>
                  <a:pt x="0" y="4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4"/>
          <p:cNvSpPr/>
          <p:nvPr/>
        </p:nvSpPr>
        <p:spPr>
          <a:xfrm>
            <a:off x="6170760" y="5105520"/>
            <a:ext cx="1440" cy="766800"/>
          </a:xfrm>
          <a:custGeom>
            <a:avLst/>
            <a:gdLst/>
            <a:ahLst/>
            <a:rect l="l" t="t" r="r" b="b"/>
            <a:pathLst>
              <a:path w="1" h="483">
                <a:moveTo>
                  <a:pt x="1" y="0"/>
                </a:moveTo>
                <a:lnTo>
                  <a:pt x="0" y="4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15"/>
          <p:cNvSpPr/>
          <p:nvPr/>
        </p:nvSpPr>
        <p:spPr>
          <a:xfrm>
            <a:off x="2741760" y="5105520"/>
            <a:ext cx="1440" cy="766800"/>
          </a:xfrm>
          <a:custGeom>
            <a:avLst/>
            <a:gdLst/>
            <a:ahLst/>
            <a:rect l="l" t="t" r="r" b="b"/>
            <a:pathLst>
              <a:path w="1" h="483">
                <a:moveTo>
                  <a:pt x="1" y="0"/>
                </a:moveTo>
                <a:lnTo>
                  <a:pt x="0" y="4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16"/>
          <p:cNvSpPr/>
          <p:nvPr/>
        </p:nvSpPr>
        <p:spPr>
          <a:xfrm>
            <a:off x="988920" y="5105520"/>
            <a:ext cx="1800" cy="766800"/>
          </a:xfrm>
          <a:custGeom>
            <a:avLst/>
            <a:gdLst/>
            <a:ahLst/>
            <a:rect l="l" t="t" r="r" b="b"/>
            <a:pathLst>
              <a:path w="1" h="483">
                <a:moveTo>
                  <a:pt x="1" y="0"/>
                </a:moveTo>
                <a:lnTo>
                  <a:pt x="0" y="4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17"/>
          <p:cNvSpPr/>
          <p:nvPr/>
        </p:nvSpPr>
        <p:spPr>
          <a:xfrm>
            <a:off x="4521240" y="3983040"/>
            <a:ext cx="1440" cy="2028960"/>
          </a:xfrm>
          <a:custGeom>
            <a:avLst/>
            <a:gdLst/>
            <a:ahLst/>
            <a:rect l="l" t="t" r="r" b="b"/>
            <a:pathLst>
              <a:path w="1" h="1278">
                <a:moveTo>
                  <a:pt x="0" y="0"/>
                </a:moveTo>
                <a:lnTo>
                  <a:pt x="0" y="12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380880" y="5562720"/>
            <a:ext cx="1371600" cy="53316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2057400" y="5562720"/>
            <a:ext cx="1371600" cy="53316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3809880" y="5562720"/>
            <a:ext cx="1371600" cy="53316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5486400" y="5562720"/>
            <a:ext cx="1371600" cy="53316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2"/>
          <p:cNvSpPr/>
          <p:nvPr/>
        </p:nvSpPr>
        <p:spPr>
          <a:xfrm>
            <a:off x="7162920" y="5562720"/>
            <a:ext cx="1371600" cy="53316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3"/>
          <p:cNvSpPr/>
          <p:nvPr/>
        </p:nvSpPr>
        <p:spPr>
          <a:xfrm>
            <a:off x="985680" y="5105520"/>
            <a:ext cx="6880320" cy="2880"/>
          </a:xfrm>
          <a:custGeom>
            <a:avLst/>
            <a:gdLst/>
            <a:ahLst/>
            <a:rect l="l" t="t" r="r" b="b"/>
            <a:pathLst>
              <a:path w="4334" h="2">
                <a:moveTo>
                  <a:pt x="0" y="0"/>
                </a:moveTo>
                <a:lnTo>
                  <a:pt x="4334" y="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4"/>
          <p:cNvSpPr/>
          <p:nvPr/>
        </p:nvSpPr>
        <p:spPr>
          <a:xfrm>
            <a:off x="3581280" y="4495680"/>
            <a:ext cx="1828800" cy="38124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6"/>
          <p:cNvSpPr/>
          <p:nvPr/>
        </p:nvSpPr>
        <p:spPr>
          <a:xfrm>
            <a:off x="3581280" y="3886200"/>
            <a:ext cx="1828800" cy="38088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hief 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fficiencies from putting together similar specialties and people with common skills, knowledge, and orien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ordination within functional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n-depth speci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oor communication across functional a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Limited view of organisational goa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unctional Structur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alisation – each department focuses on its own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ability – someone is responsible for the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arity – know your and others’ ro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3430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osed communication  could lead to lack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foc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partments can become resistan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rdin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take too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ap between top and bot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reeform 16"/>
          <p:cNvSpPr/>
          <p:nvPr/>
        </p:nvSpPr>
        <p:spPr>
          <a:xfrm>
            <a:off x="7848720" y="3429000"/>
            <a:ext cx="4680" cy="727200"/>
          </a:xfrm>
          <a:custGeom>
            <a:avLst/>
            <a:gdLst/>
            <a:ahLst/>
            <a:rect l="l" t="t" r="r" b="b"/>
            <a:pathLst>
              <a:path w="3" h="458">
                <a:moveTo>
                  <a:pt x="3" y="0"/>
                </a:moveTo>
                <a:lnTo>
                  <a:pt x="0" y="4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5"/>
          <p:cNvSpPr/>
          <p:nvPr/>
        </p:nvSpPr>
        <p:spPr>
          <a:xfrm>
            <a:off x="6170760" y="3429000"/>
            <a:ext cx="1440" cy="766800"/>
          </a:xfrm>
          <a:custGeom>
            <a:avLst/>
            <a:gdLst/>
            <a:ahLst/>
            <a:rect l="l" t="t" r="r" b="b"/>
            <a:pathLst>
              <a:path w="1" h="483">
                <a:moveTo>
                  <a:pt x="1" y="0"/>
                </a:moveTo>
                <a:lnTo>
                  <a:pt x="0" y="4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2741760" y="3429000"/>
            <a:ext cx="1440" cy="766800"/>
          </a:xfrm>
          <a:custGeom>
            <a:avLst/>
            <a:gdLst/>
            <a:ahLst/>
            <a:rect l="l" t="t" r="r" b="b"/>
            <a:pathLst>
              <a:path w="1" h="483">
                <a:moveTo>
                  <a:pt x="1" y="0"/>
                </a:moveTo>
                <a:lnTo>
                  <a:pt x="0" y="4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3"/>
          <p:cNvSpPr/>
          <p:nvPr/>
        </p:nvSpPr>
        <p:spPr>
          <a:xfrm>
            <a:off x="988920" y="3429000"/>
            <a:ext cx="1800" cy="766800"/>
          </a:xfrm>
          <a:custGeom>
            <a:avLst/>
            <a:gdLst/>
            <a:ahLst/>
            <a:rect l="l" t="t" r="r" b="b"/>
            <a:pathLst>
              <a:path w="1" h="483">
                <a:moveTo>
                  <a:pt x="1" y="0"/>
                </a:moveTo>
                <a:lnTo>
                  <a:pt x="0" y="4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An Example of Organisation by Product/Activity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4510080" y="3056040"/>
            <a:ext cx="1440" cy="1290600"/>
          </a:xfrm>
          <a:custGeom>
            <a:avLst/>
            <a:gdLst/>
            <a:ahLst/>
            <a:rect l="l" t="t" r="r" b="b"/>
            <a:pathLst>
              <a:path w="1" h="813">
                <a:moveTo>
                  <a:pt x="0" y="0"/>
                </a:moveTo>
                <a:lnTo>
                  <a:pt x="0" y="8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880" y="3886200"/>
            <a:ext cx="1371600" cy="53352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maging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int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2057400" y="3886200"/>
            <a:ext cx="1371600" cy="53352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ystems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09880" y="3886200"/>
            <a:ext cx="1371600" cy="53352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ystems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5486400" y="3886200"/>
            <a:ext cx="1371600" cy="53352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HP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7162920" y="3886200"/>
            <a:ext cx="1371600" cy="53352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HP Fina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0"/>
          <p:cNvSpPr/>
          <p:nvPr/>
        </p:nvSpPr>
        <p:spPr>
          <a:xfrm>
            <a:off x="985680" y="3429000"/>
            <a:ext cx="6880320" cy="3240"/>
          </a:xfrm>
          <a:custGeom>
            <a:avLst/>
            <a:gdLst/>
            <a:ahLst/>
            <a:rect l="l" t="t" r="r" b="b"/>
            <a:pathLst>
              <a:path w="4334" h="2">
                <a:moveTo>
                  <a:pt x="0" y="0"/>
                </a:moveTo>
                <a:lnTo>
                  <a:pt x="4334" y="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809880" y="2590920"/>
            <a:ext cx="1371600" cy="53316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Hewlett Pack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Organisation by Product/Activity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ear focus on market segment helps meet customers’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itive competition between div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tter control as each division can act as separate profit cent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plication of functions (e.g. different sales force for each divis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effects of compet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ck of central control over each separate di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6934320" cy="961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8d3e"/>
                </a:solidFill>
                <a:latin typeface="Verdana"/>
              </a:rPr>
              <a:t>Organisation by Area</a:t>
            </a:r>
            <a:r>
              <a:rPr b="1" lang="en-GB" sz="41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202860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9766f"/>
                </a:solidFill>
                <a:latin typeface="Verdana"/>
              </a:rPr>
              <a:t>Hewlett-Packard’s Headquarters Worldw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Freeform 8"/>
          <p:cNvSpPr/>
          <p:nvPr/>
        </p:nvSpPr>
        <p:spPr>
          <a:xfrm>
            <a:off x="6783480" y="4267080"/>
            <a:ext cx="6120" cy="830520"/>
          </a:xfrm>
          <a:custGeom>
            <a:avLst/>
            <a:gdLst/>
            <a:ahLst/>
            <a:rect l="l" t="t" r="r" b="b"/>
            <a:pathLst>
              <a:path w="4" h="523">
                <a:moveTo>
                  <a:pt x="0" y="0"/>
                </a:moveTo>
                <a:lnTo>
                  <a:pt x="4" y="52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2208240" y="4267080"/>
            <a:ext cx="1440" cy="766800"/>
          </a:xfrm>
          <a:custGeom>
            <a:avLst/>
            <a:gdLst/>
            <a:ahLst/>
            <a:rect l="l" t="t" r="r" b="b"/>
            <a:pathLst>
              <a:path w="1" h="483">
                <a:moveTo>
                  <a:pt x="1" y="0"/>
                </a:moveTo>
                <a:lnTo>
                  <a:pt x="0" y="4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1"/>
          <p:cNvSpPr/>
          <p:nvPr/>
        </p:nvSpPr>
        <p:spPr>
          <a:xfrm>
            <a:off x="4510080" y="3894120"/>
            <a:ext cx="1440" cy="1290600"/>
          </a:xfrm>
          <a:custGeom>
            <a:avLst/>
            <a:gdLst/>
            <a:ahLst/>
            <a:rect l="l" t="t" r="r" b="b"/>
            <a:pathLst>
              <a:path w="1" h="813">
                <a:moveTo>
                  <a:pt x="0" y="0"/>
                </a:moveTo>
                <a:lnTo>
                  <a:pt x="0" y="8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1371600" y="4724280"/>
            <a:ext cx="1523880" cy="53352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me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Houston,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3276720" y="4724280"/>
            <a:ext cx="2438280" cy="53352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Europe, Middle East,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neva,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6095880" y="4724280"/>
            <a:ext cx="1371600" cy="53352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a Pa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Hong K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7"/>
          <p:cNvSpPr/>
          <p:nvPr/>
        </p:nvSpPr>
        <p:spPr>
          <a:xfrm>
            <a:off x="2209680" y="4267080"/>
            <a:ext cx="4589640" cy="11160"/>
          </a:xfrm>
          <a:custGeom>
            <a:avLst/>
            <a:gdLst/>
            <a:ahLst/>
            <a:rect l="l" t="t" r="r" b="b"/>
            <a:pathLst>
              <a:path w="2891" h="7">
                <a:moveTo>
                  <a:pt x="0" y="7"/>
                </a:moveTo>
                <a:lnTo>
                  <a:pt x="28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3733920" y="3429000"/>
            <a:ext cx="1523880" cy="533520"/>
          </a:xfrm>
          <a:prstGeom prst="rect">
            <a:avLst/>
          </a:prstGeom>
          <a:solidFill>
            <a:srgbClr val="f07f0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ewlett Pack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rganisation by Are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rve local needs bet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itive compet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effective communication between firm and local custo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flict between local and central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plication of resources and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5410080" y="2057400"/>
            <a:ext cx="3124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Other Organisational Structur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Custom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ilar effects to structur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produ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Proc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ilar to structuring by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ustomers’ needs and problems can be met by specia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Duplication of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Limited view of organisational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ome Key Ter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at or tall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an of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ain of comm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ierarc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mpowermen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8d3e"/>
                </a:solidFill>
                <a:latin typeface="Verdana"/>
              </a:rPr>
              <a:t>Organisational Structures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rganisational Structur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w go to the Activity for more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rganisational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signing organisational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actors affecting Organisational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organisation enviro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ypes of technolo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ob desig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rouping jobs into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ivisional 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ypes of divisional 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trix design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duct Team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ybrid 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ordinating functions abro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all and Flat organis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tegrating mechanis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rategic allia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2B Network 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Chain of comman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continuous line of authority that extends from upper levels of an organisation to the lowest levels of the organisation and clarifies who reports to wh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utho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rights inherent in a managerial position to tell people what to do and to expect them to do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pon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obligation or expectation to per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ity of comm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concept that a person should have one boss and should report only to that per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pan of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he number of employees who can be effectively and efficiently supervised by a manag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Width of span is affected 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kills and abilities of the manag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mployee characteris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racteristics of the work being d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imilarity of t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lexity of t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hysical proximity of subordin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tandardization of tas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rganisation structur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ntr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degree to which decision-making is concentrated at a single point in the organis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ganisations in which top managers make all the decisions and lower-level employees simply carry out those or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entr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ganisations in which decision-making is pushed down to the managers who are closest 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ployee Empower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ing the decision-m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Factors that influence the amount of centralisatio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ore Central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nvironment is st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ower-level managers are not as capable or experienced at making decisions as upper-level manag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ower-level managers do not want to have a say in deci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cisions are significa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rganisation is facing a crisis or the risk of company fail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any is lar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ffective implementation of company strategies depends on managers retaining say over what happe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Factors that influence the amount of decentralisatio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decentr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vironment is complex, uncert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-level managers are capable and experienced at making decis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-level managers want a voice in decis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isions are relatively min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rporate culture is open to allowing managers to have a say in what happe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any is geographically disper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ective implementation of company strategies depends on managers having involvement and flexibility to make decis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y Have a Structu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businesses have to organis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they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clear structure makes it easier to see which part of the business does wh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re are many way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structure a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mali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degree to which jobs within the organisation are standardized and the extent to which employee behaviour is guided by rules and proced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ighly formalized jobs offer little discretion over what is to be do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w formalization means fewer constraints on how employees do their wo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Mechanistic versus organic organisatio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echanis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rga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gh speci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gid department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ear chain of com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rrow span of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ntr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gh Form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ss-functional t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ss-Hierarchical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ee Flow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ide span of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entr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 Form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ructural contingency facto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tructural decisions are influenced 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verall strategy of the organ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ganisational structure follows strate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ize of the organ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rms change from organic to mechanistic organisations as they grow in siz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echnology use by the organ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rms adapt their structure to the technology they 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gree of environmental uncertain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ynamic environments require organic structures; mechanistic structures need stable environ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Structural contingency factors (cont’d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rategy and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ment of strategic goals is facilitated by changes in organisational structure that accommodate and support chan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ze and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 an organisation grows larger, its structure tends to change from organic to mechanistic with increased specialization, departmentalization, centralisation, and rules and regul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Structural contingency factors (cont’d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echnology and stru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 organisations adapt their structures to their technolog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 Woodward’s classification of firms based on the complexity of the technology employ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 Unit production of single units or small bat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 Mass production of large batches of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 Process production in continuous process of out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 Routine technology = mechanistic organis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 Non-routine technology = organic organis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Structural contingency factors (cont’d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vironmental uncertainty and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chanistic organisational structures tend to be most effective in stable and simple environ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flexibility of organic organisational structures is better suited for dynamic and complex environ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Common organisational desig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tional desig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ow departmentalization, wide spans of control, centralised authority, little formal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al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partmentalization by fun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†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Operations, finance, human resources, and product research and develop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visional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osed of separate business units or divisions with limited autonomy under the coordination and control the parent corpor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Common organisational desig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ditional desig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 Simple struc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 Strengths: Fast; flexible; inexpensive to maintain; clear account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eakness: Not appropriate as organisation grows; reliance on one person is risk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 Functional struc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 Strengths: Cost-saving advantages from specialisation (economies of scale; minimal duplication of people and equipment) and employees are grouped with others who have similar task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eaknesses: Pursuit of functional goals can cause managers to lose sight of what’s best for overall organisation; functional specialists become insulated and have little understanding of what othet units are do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 Divisional struc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 Strengths: Focuses on results – divisional mangers are responsible for what happens to their products and servi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eaknesses: Duplication of activities and resources increase costs and reduces efficien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d3e"/>
                </a:solidFill>
                <a:latin typeface="Verdana"/>
              </a:rPr>
              <a:t>Contemporary organisational designs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eam struc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entire organisation is made up of groups or self-management teams of empowered employ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Matrix and Project Struc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alists for different functional departments are assigned to work on projects led by project man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trix participants have two manag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roject structu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ployees work continuously on projects;moving on to another project as each project is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d3e"/>
                </a:solidFill>
                <a:latin typeface="Verdana"/>
              </a:rPr>
              <a:t>Contemporary organisational designs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oundaryless organi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n flexible and unstructured organisational design that is intended to break down external barriers between the organisation and its customers and suppli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Removes internal (horizontal) boundari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†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liminates the chain of comm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†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as limitless spans of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†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ses empowered teams rather than depart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liminates external boundari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†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ses virtual, network, and modular organisational structures to get closer to stakehol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Defining organisational structure and desig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4360" y="530280"/>
            <a:ext cx="7991280" cy="441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rganisational structur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formal arrangement of jobs within an organi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moving boundari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Virtual organi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n organisation that consists of a small core of full-time employees and that temporarily hires specialists to work on opportunities that ari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Network organi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small core organisation that outsources its major business functions (e.g., manufacturing) in order to concentrate what it does be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Modular organi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manufacturing organisation that uses outside suppliers to provide product components for its final assembly oper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The learning organis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An organisation that has developed the capacity to continuously learn, adapt, and change through the practice of knowledge management by employe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 Characteristics of a learning organisa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 An open team-based organisation design that empowers employ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 Extensive and open information sha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 Leadership that provides a shared vision of the organisation’s future, support and encour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 A strong culture of shared values, trust, openness, and a sense of commun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Characteristics of a learning organisatio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8" name="Rectangle 4"/>
          <p:cNvGrpSpPr/>
          <p:nvPr/>
        </p:nvGrpSpPr>
        <p:grpSpPr>
          <a:xfrm>
            <a:off x="2882880" y="658800"/>
            <a:ext cx="3048120" cy="1255680"/>
            <a:chOff x="2882880" y="658800"/>
            <a:chExt cx="3048120" cy="1255680"/>
          </a:xfrm>
        </p:grpSpPr>
        <p:pic>
          <p:nvPicPr>
            <p:cNvPr id="399" name="Rectangle 4" descr=""/>
            <p:cNvPicPr/>
            <p:nvPr/>
          </p:nvPicPr>
          <p:blipFill>
            <a:blip r:embed="rId1"/>
            <a:stretch/>
          </p:blipFill>
          <p:spPr>
            <a:xfrm>
              <a:off x="2882880" y="658800"/>
              <a:ext cx="30481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968560" y="706320"/>
              <a:ext cx="28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Organisational Desig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085760" indent="-1713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Boundary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085760" indent="-1713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085760" indent="-1713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Empower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Rectangle 6"/>
          <p:cNvSpPr/>
          <p:nvPr/>
        </p:nvSpPr>
        <p:spPr>
          <a:xfrm>
            <a:off x="6012000" y="1785960"/>
            <a:ext cx="2663640" cy="1787400"/>
          </a:xfrm>
          <a:prstGeom prst="rect">
            <a:avLst/>
          </a:prstGeom>
          <a:gradFill rotWithShape="0">
            <a:gsLst>
              <a:gs pos="0">
                <a:srgbClr val="004068"/>
              </a:gs>
              <a:gs pos="100000">
                <a:srgbClr val="4680b8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formation 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Tim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Accu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2968560" y="3606840"/>
            <a:ext cx="2879640" cy="1008000"/>
          </a:xfrm>
          <a:prstGeom prst="rect">
            <a:avLst/>
          </a:prstGeom>
          <a:gradFill rotWithShape="0">
            <a:gsLst>
              <a:gs pos="0">
                <a:srgbClr val="004068"/>
              </a:gs>
              <a:gs pos="100000">
                <a:srgbClr val="4680b8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hared 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Rectangle 9"/>
          <p:cNvGrpSpPr/>
          <p:nvPr/>
        </p:nvGrpSpPr>
        <p:grpSpPr>
          <a:xfrm>
            <a:off x="457200" y="1712880"/>
            <a:ext cx="2762280" cy="1974960"/>
            <a:chOff x="457200" y="1712880"/>
            <a:chExt cx="2762280" cy="1974960"/>
          </a:xfrm>
        </p:grpSpPr>
        <p:pic>
          <p:nvPicPr>
            <p:cNvPr id="404" name="Rectangle 9" descr=""/>
            <p:cNvPicPr/>
            <p:nvPr/>
          </p:nvPicPr>
          <p:blipFill>
            <a:blip r:embed="rId2"/>
            <a:stretch/>
          </p:blipFill>
          <p:spPr>
            <a:xfrm>
              <a:off x="457200" y="1712880"/>
              <a:ext cx="276228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39640" y="1758960"/>
              <a:ext cx="2592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Organisational Cul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trong Mutual Relationsh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ense of commun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Ca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Tru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Diamond 3"/>
          <p:cNvGrpSpPr/>
          <p:nvPr/>
        </p:nvGrpSpPr>
        <p:grpSpPr>
          <a:xfrm>
            <a:off x="2730600" y="1719360"/>
            <a:ext cx="3359160" cy="1877760"/>
            <a:chOff x="2730600" y="1719360"/>
            <a:chExt cx="3359160" cy="1877760"/>
          </a:xfrm>
        </p:grpSpPr>
        <p:pic>
          <p:nvPicPr>
            <p:cNvPr id="407" name="Diamond 3" descr=""/>
            <p:cNvPicPr/>
            <p:nvPr/>
          </p:nvPicPr>
          <p:blipFill>
            <a:blip r:embed="rId3"/>
            <a:stretch/>
          </p:blipFill>
          <p:spPr>
            <a:xfrm>
              <a:off x="2730600" y="1719360"/>
              <a:ext cx="3359160" cy="18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598920" y="2209680"/>
              <a:ext cx="16207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THE LEARNING ORGAN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ays to Structure a Busines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function: arranging the business according to what each sec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r department do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product or activity: organising according to the different product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area: geographical or regional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ays to Structure a Busines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customer: where different customer groups have different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process: where products have to go through stages as they are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are the advantages/disadvantages of different types of business struc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Organisational design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process involving decisions about six key elem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ork speci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artment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ain of comm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an of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entralisation and decentrali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m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Work specialisation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degree to which tasks in the organisation are divided into separate jobs with each step completed by a different per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specialization can result in human diseconomies from boredom, fatigue, stress, poor quality, increased absenteeism, and higher turno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Departmentalisation by type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Functiona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ouping jobs by functions perform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ouping jobs by product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Geograph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ouping jobs on the basis of territory or geograph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roces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ouping jobs on the basis of product or customer fl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ustom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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ouping jobs by type of customer and nee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9:16:33Z</dcterms:created>
  <dc:creator>cmajh</dc:creator>
  <dc:description/>
  <dc:language>en-US</dc:language>
  <cp:lastModifiedBy>Naren Sukurdeep</cp:lastModifiedBy>
  <dcterms:modified xsi:type="dcterms:W3CDTF">2013-10-16T05:03:45Z</dcterms:modified>
  <cp:revision>44</cp:revision>
  <dc:subject/>
  <dc:title>###Organisational Structures - PowerPoint Presentation###</dc:title>
</cp:coreProperties>
</file>