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0E9D-81D2-4D07-9797-8D45F6CD7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F99C-7BAD-427C-9BE1-19263C78F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444-C205-45C4-8D0D-642BD0DD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042-8735-49CB-A472-8410A982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D85-6FCD-4DC5-A1A5-3EE21B53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A23-7BEA-4BFC-B24B-4B39CBDC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86A-FD4B-4A51-80E1-78C2F055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E66-5B72-4A26-981E-A54F9203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E4A-5D76-4352-AC6E-BD4D9A51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F22-4F7C-45D9-8495-945D5CBE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8C1-07B6-4F1C-BF55-9A4BC889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6B0-DF34-432B-92C6-7186DB20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2C0-F276-4099-8C18-D26A31F2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635-B902-4B70-996D-983EA5F4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9753-2C5D-4F65-B16E-84656B34F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790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INTERVIUL  DE  ANGAJA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Raluca\Desktop\Untitled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MBAJUL VERB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lemente  de for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3657600"/>
            <a:ext cx="9144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35160" indent="-533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Nu folo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i vocabular prea elevat sau arg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Nu folos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i termeni de specialitate pe care intervievatorul nu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i înţele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i pentru voi filozofiile person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Raluca\Desktop\debate.jpg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elemente de fo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rbeste respectuos, nu priete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Nu destainui mai mult decat trebu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Ai gri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l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amanuntele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Nu-ti da mai multa importanta decat trebu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 exage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9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MBAJUL </a:t>
            </a: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BAL implic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CHII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YE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XPRESIA FETE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GRUE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GESTUR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ZITIA CORPULU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ICIOARE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urved Right Arrow 6"/>
          <p:cNvSpPr/>
          <p:nvPr/>
        </p:nvSpPr>
        <p:spPr>
          <a:xfrm>
            <a:off x="914400" y="228600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64160 h 914400"/>
              <a:gd name="textAreaBottom" fmla="*/ 6645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63" stAng="-5400000" swAng="-5400000"/>
                <a:lnTo>
                  <a:pt x="0" y="11813"/>
                </a:lnTo>
                <a:arcTo wR="21600" hR="7763" stAng="10800000" swAng="-3258241"/>
                <a:lnTo>
                  <a:pt x="16200" y="21354"/>
                </a:lnTo>
                <a:lnTo>
                  <a:pt x="21600" y="17550"/>
                </a:lnTo>
                <a:lnTo>
                  <a:pt x="16200" y="13254"/>
                </a:lnTo>
                <a:lnTo>
                  <a:pt x="16200" y="15279"/>
                </a:lnTo>
                <a:arcTo wR="21600" hR="7763" stAng="7541759" swAng="2925436"/>
                <a:lnTo>
                  <a:pt x="748" y="9788"/>
                </a:lnTo>
                <a:arcTo wR="21600" hR="7763" stAng="-10467195" swAng="5067195"/>
                <a:close/>
              </a:path>
              <a:path fill="darkenLess" w="21600" h="21600">
                <a:moveTo>
                  <a:pt x="21600" y="0"/>
                </a:moveTo>
                <a:arcTo wR="21600" hR="7763" stAng="-5400000" swAng="-5400000"/>
                <a:lnTo>
                  <a:pt x="0" y="7763"/>
                </a:lnTo>
                <a:arcTo wR="21600" hR="7763" stAng="10800000" swAng="-332805"/>
                <a:lnTo>
                  <a:pt x="748" y="9788"/>
                </a:lnTo>
                <a:arcTo wR="21600" hR="7763" stAng="-10467195" swAng="506719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urved Right Arrow 9"/>
          <p:cNvSpPr/>
          <p:nvPr/>
        </p:nvSpPr>
        <p:spPr>
          <a:xfrm>
            <a:off x="838080" y="335268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64160 h 914400"/>
              <a:gd name="textAreaBottom" fmla="*/ 6645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63" stAng="-5400000" swAng="-5400000"/>
                <a:lnTo>
                  <a:pt x="0" y="11813"/>
                </a:lnTo>
                <a:arcTo wR="21600" hR="7763" stAng="10800000" swAng="-3258241"/>
                <a:lnTo>
                  <a:pt x="16200" y="21354"/>
                </a:lnTo>
                <a:lnTo>
                  <a:pt x="21600" y="17550"/>
                </a:lnTo>
                <a:lnTo>
                  <a:pt x="16200" y="13254"/>
                </a:lnTo>
                <a:lnTo>
                  <a:pt x="16200" y="15279"/>
                </a:lnTo>
                <a:arcTo wR="21600" hR="7763" stAng="7541759" swAng="2925436"/>
                <a:lnTo>
                  <a:pt x="748" y="9788"/>
                </a:lnTo>
                <a:arcTo wR="21600" hR="7763" stAng="-10467195" swAng="5067195"/>
                <a:close/>
              </a:path>
              <a:path fill="darkenLess" w="21600" h="21600">
                <a:moveTo>
                  <a:pt x="21600" y="0"/>
                </a:moveTo>
                <a:arcTo wR="21600" hR="7763" stAng="-5400000" swAng="-5400000"/>
                <a:lnTo>
                  <a:pt x="0" y="7763"/>
                </a:lnTo>
                <a:arcTo wR="21600" hR="7763" stAng="10800000" swAng="-332805"/>
                <a:lnTo>
                  <a:pt x="748" y="9788"/>
                </a:lnTo>
                <a:arcTo wR="21600" hR="7763" stAng="-10467195" swAng="506719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952880" y="1379520"/>
            <a:ext cx="41911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  <a:ea typeface="Arial"/>
              </a:rPr>
              <a:t>G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  <a:ea typeface="Arial"/>
              </a:rPr>
              <a:t>elile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Arial"/>
                <a:ea typeface="Arial"/>
              </a:rPr>
              <a:t>examinatorulu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erespectarea timpului celuilal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ecitirea informatiilor din C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  <a:ea typeface="Arial"/>
              </a:rPr>
              <a:t>Preju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  <a:ea typeface="Arial"/>
              </a:rPr>
              <a:t>i person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psa d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tentie fata de ceea ce vorbeste            candidatu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vitarea raspunsului la intrebaril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use de candid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Jarg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Calibri"/>
              </a:rPr>
              <a:t>Intreruperea constanta a candidatulu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C:\Users\Raluca\Desktop\MRU INTERVIU\employee.JPG"/>
          <p:cNvPicPr/>
          <p:nvPr/>
        </p:nvPicPr>
        <p:blipFill>
          <a:blip r:embed="rId1"/>
          <a:stretch/>
        </p:blipFill>
        <p:spPr>
          <a:xfrm>
            <a:off x="6364440" y="0"/>
            <a:ext cx="2779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rebar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vievatorulu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Raluca\Desktop\MRU INTERVIU\pune intrebari.jpg"/>
          <p:cNvPicPr/>
          <p:nvPr/>
        </p:nvPicPr>
        <p:blipFill>
          <a:blip r:embed="rId1"/>
          <a:stretch/>
        </p:blipFill>
        <p:spPr>
          <a:xfrm>
            <a:off x="4702320" y="0"/>
            <a:ext cx="444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Spune-mi despre ti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Spune-mi care sunt punctele tale for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De ce ar trebui sa te angajez pe t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Unde te vezi în 5 a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Care este cel mai mare ese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Care este cea mai mare realiz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De ce vrei sa lucrezi pentru no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Arial"/>
              </a:rPr>
              <a:t>La ce</a:t>
            </a:r>
            <a:r>
              <a:rPr b="1" i="1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salariu te astepti pentru po</a:t>
            </a:r>
            <a:r>
              <a:rPr b="1" i="1" lang="ro-RO" sz="3200" spc="-1" strike="noStrike">
                <a:solidFill>
                  <a:srgbClr val="000000"/>
                </a:solidFill>
                <a:latin typeface="Arial"/>
              </a:rPr>
              <a:t>stul</a:t>
            </a:r>
            <a:r>
              <a:rPr b="1" i="1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aces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Din ce motiv ai renuntat la slujba actua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 sa NU faci la intervi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Raluca\Desktop\MRU INTERVIU\employee2.jpg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P 10 greseli ale candidatulu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a nu iei in serios interviu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a te imbraci necorespunz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a nu arati de ce esti TU cea mai buna persoana pentru acest p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a fii prea mod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a vorbesti prea mul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a fii prea centrat pe salari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a barfe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a nu pui intrebar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a fii lipsit de entuzia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a ui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Raluca\Desktop\922811570.jpg"/>
          <p:cNvPicPr/>
          <p:nvPr/>
        </p:nvPicPr>
        <p:blipFill>
          <a:blip r:embed="rId1"/>
          <a:stretch/>
        </p:blipFill>
        <p:spPr>
          <a:xfrm>
            <a:off x="5410080" y="3324240"/>
            <a:ext cx="37339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Raluca\Desktop\interzis-telefoane-mobile.jpg"/>
          <p:cNvPicPr/>
          <p:nvPr/>
        </p:nvPicPr>
        <p:blipFill>
          <a:blip r:embed="rId1"/>
          <a:stretch/>
        </p:blipFill>
        <p:spPr>
          <a:xfrm>
            <a:off x="6629400" y="4648320"/>
            <a:ext cx="2514600" cy="220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286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3516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z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esteca g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u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ainte sa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 timpul interviulu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iscu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despre s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relig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p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 cap sa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 alte zone ale corpulu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fu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orice a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t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 af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e 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hideti-va telefonul mob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iscu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probleme perso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refe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 nega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minţiţ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negativ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VIUL  este o etapa obligatorie in procesul de angajare a unui salaria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Raluca\Desktop\job-interview-skills.jpg"/>
          <p:cNvPicPr/>
          <p:nvPr/>
        </p:nvPicPr>
        <p:blipFill>
          <a:blip r:embed="rId1"/>
          <a:stretch/>
        </p:blipFill>
        <p:spPr>
          <a:xfrm>
            <a:off x="0" y="1805040"/>
            <a:ext cx="80010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iectivele interviulu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Raluca\Desktop\big_20.jpg"/>
          <p:cNvPicPr/>
          <p:nvPr/>
        </p:nvPicPr>
        <p:blipFill>
          <a:blip r:embed="rId1"/>
          <a:stretch/>
        </p:blipFill>
        <p:spPr>
          <a:xfrm>
            <a:off x="1981080" y="1633680"/>
            <a:ext cx="510552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rnizarea catre candidati a unor informatii despre companie si locul vac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scrierea de catre candidati a trecutului profesional si aspiratiilor viito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iped Right Arrow 3"/>
          <p:cNvSpPr/>
          <p:nvPr/>
        </p:nvSpPr>
        <p:spPr>
          <a:xfrm>
            <a:off x="838080" y="1447920"/>
            <a:ext cx="978120" cy="484200"/>
          </a:xfrm>
          <a:prstGeom prst="pie">
            <a:avLst/>
          </a:prstGeom>
          <a:solidFill>
            <a:srgbClr val="77933c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iped Right Arrow 4"/>
          <p:cNvSpPr/>
          <p:nvPr/>
        </p:nvSpPr>
        <p:spPr>
          <a:xfrm>
            <a:off x="838080" y="3733920"/>
            <a:ext cx="978120" cy="484200"/>
          </a:xfrm>
          <a:prstGeom prst="pie">
            <a:avLst/>
          </a:prstGeom>
          <a:solidFill>
            <a:srgbClr val="77933c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IPS &amp; TRI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Raluca\Desktop\success-cartoon.jpg"/>
          <p:cNvPicPr/>
          <p:nvPr/>
        </p:nvPicPr>
        <p:blipFill>
          <a:blip r:embed="rId1"/>
          <a:stretch/>
        </p:blipFill>
        <p:spPr>
          <a:xfrm>
            <a:off x="2844720" y="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stimentatia si comportamentul candidatulu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bajul verbal, limbajul nonverb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reselile examinatorulu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rebarile intervievatorulu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e sa NU faci la intervi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:\Users\Raluca\Desktop\MRU INTERVIU\confused_employee.jpg"/>
          <p:cNvPicPr/>
          <p:nvPr/>
        </p:nvPicPr>
        <p:blipFill>
          <a:blip r:embed="rId1"/>
          <a:stretch/>
        </p:blipFill>
        <p:spPr>
          <a:xfrm>
            <a:off x="6000840" y="3048120"/>
            <a:ext cx="3143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ress for su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Raluca\Desktop\MRU INTERVIU\detalii.jpg"/>
          <p:cNvPicPr/>
          <p:nvPr/>
        </p:nvPicPr>
        <p:blipFill>
          <a:blip r:embed="rId1"/>
          <a:stretch/>
        </p:blipFill>
        <p:spPr>
          <a:xfrm>
            <a:off x="2666880" y="1295280"/>
            <a:ext cx="5935680" cy="4341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228600" y="5715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Nu exista o a doua sansa pentru a face o      prima impresie bu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360" y="-360"/>
            <a:ext cx="7467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 alege o imbracaminte prea luxoas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e sa demotiveze/ inferiorizeze auditor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 incerca sa creezi “filtre ” psihologice capabile sa genereze compasiunea intervievatorulu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i adecvat domeniulu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 activitate al firme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:\Users\Raluca\Desktop\MRU INTERVIU\optimism.jpg"/>
          <p:cNvPicPr/>
          <p:nvPr/>
        </p:nvPicPr>
        <p:blipFill>
          <a:blip r:embed="rId1"/>
          <a:stretch/>
        </p:blipFill>
        <p:spPr>
          <a:xfrm>
            <a:off x="5029200" y="2435400"/>
            <a:ext cx="41148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um te porti la un interviu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ambeste si ofera o strangere de ma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iteste comportamentul intervievatorulu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nele manie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i atent la postura 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ţine contactul privirii cu intervievator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ne intreb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Raluca\Desktop\1209bow_tie.jpg"/>
          <p:cNvPicPr/>
          <p:nvPr/>
        </p:nvPicPr>
        <p:blipFill>
          <a:blip r:embed="rId1"/>
          <a:stretch/>
        </p:blipFill>
        <p:spPr>
          <a:xfrm>
            <a:off x="3276720" y="838080"/>
            <a:ext cx="21333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9:49:11Z</dcterms:created>
  <dc:creator>Raluca</dc:creator>
  <dc:description/>
  <dc:language>en-US</dc:language>
  <cp:lastModifiedBy>Ultra</cp:lastModifiedBy>
  <dcterms:modified xsi:type="dcterms:W3CDTF">2010-04-24T11:59:20Z</dcterms:modified>
  <cp:revision>52</cp:revision>
  <dc:subject/>
  <dc:title>Slide 1</dc:title>
</cp:coreProperties>
</file>