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BAB-26CF-4463-A6A3-902393BB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384-7DFC-48EA-8F96-A9E7E16D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972-6BD9-4BE1-9B75-6FD85B7F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952-5826-4262-B3F5-7F397BCA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510-BF95-40C4-9EC4-62BDF78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A2C-28EC-4E36-BBFB-09753B4C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C4E-4E2F-42FE-A9EE-6A056050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FA2-C8E5-4724-8B2B-522D48D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3A0-0EA5-4DB6-8010-AC566869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EF0-B316-4A45-88E4-84A607D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8FC-BC36-4A86-ACBB-72AA5D5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90B-0618-4E2D-ADA6-DDA57200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F6D-65A2-41A5-9304-D5D64121621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5821-9285-4F8D-89FE-D40D6AE41AEC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TANDARDUL  INTERNATIONAL  PRIVIND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ERVICIILE  CONEX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ISRS  4400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MISIUNI  PENTRU  EFECTUAREA PROCEDURILOR  CONVENITE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PRIVIND  INFORMATIILE  FINANCIARE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52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0F30-EF50-4DD3-8DCB-B5568E4D14BA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8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18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87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exa 1 –exemplu de scrisoare de angajament (misiune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atre conducerea clientului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onfirma intelegerea dintre auditor si client privind termenii angajamentului, natura si limitarile serviciilor, stadardele aplicabile, documentele utilizate, persoanele implicate etc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odul de colaborare/documentar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Onorariil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0A7-28D6-45BF-8412-8CD7BCA37179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200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02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exa 2 –exemplu de raport al constatarilor efectiv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itlu: Raport de constatari efective privind cheltuielile eligibile efectuate in cadrul proiectului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aragraf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Am efectuat procedurile convenite cu ... , conform contractului (scrisorii de angajament), privind revizuirea si verificarea documentelor ce au stat la baza inregistrarii in contabilitate a cheltuielolor aferente realizarii Proiectului ... , pentru perioada ... .</a:t>
            </a: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Misiunea noastra a fost planificata si efectuata conform ISRS 4400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A39-72C8-43F4-AE9B-B2BF148B45AB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21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17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exa 2 –exemplu de raport al constatarilor efectiv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aragraf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Procedurile convenite s-au aplicat cu scopul de a putea constata indeplinirea conditiilor cerute de ... privind eligibilitatea cheltuielilor aferente Proiectului ... , constand in principal in urmatoarel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Verificarea (prin sondaj/exhaustiv) a documentelor justificative privind salarizarea/remunerarea personalului, deplasarea/cazarea, taxe de autorizare/acreditari, cheltuieli cu serviciile prestate de terti specializati(experti), cheltuieli cu chiriile, alte cheltuieli de administratie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Obtinerea unor confirmai (declaratii) ale tertilor implicati in avizarea/atestarea unor operatiuni, conform ... 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Compararea principalelor categorii de cheltuieli cu cele similare ale Proiectului ... 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Verificarea(reconcilierea) sumelor mentionate in ... cu cele confirmate (din evidenta) ... 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0008-0997-42B6-BA3D-660624A4656E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29" name="Group 11"/>
          <p:cNvGrpSpPr/>
          <p:nvPr/>
        </p:nvGrpSpPr>
        <p:grpSpPr>
          <a:xfrm>
            <a:off x="0" y="6083280"/>
            <a:ext cx="9144000" cy="928800"/>
            <a:chOff x="0" y="6083280"/>
            <a:chExt cx="9144000" cy="928800"/>
          </a:xfrm>
        </p:grpSpPr>
        <p:sp>
          <p:nvSpPr>
            <p:cNvPr id="230" name="Text Box 12"/>
            <p:cNvSpPr/>
            <p:nvPr/>
          </p:nvSpPr>
          <p:spPr>
            <a:xfrm>
              <a:off x="1440" y="6553080"/>
              <a:ext cx="820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32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exa 2 –exemplu de raport al constatarilor efectiv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aragraf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Constatarile noastre in urma aplicarii procedurilor convenite susmentionate, sunt urmatoarel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Privitor la cele mentionate la punctul (alineatul) 1., din paragraful precedent, am constatat ca, cu exceptia ... , toate documentele verificate au fost corect intocmite si cheltuielile care le-au general indeplinesc conditiile de eligibilitate cerute de ... 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Privitor la cele mentionate la punctul (alineatul) 2 ... , din paragraful precedent, am constatat ... 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buClr>
                <a:srgbClr val="00ccff"/>
              </a:buClr>
              <a:buSzPct val="6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Times New Roman"/>
                <a:ea typeface="Arial"/>
              </a:rPr>
              <a:t>…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Intrucat procedurile susmentionate nu constituie un audit sau o revizuire, nu exprimam nici o asigurare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BB2-EA96-46D5-99A2-987500C2C6B0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4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24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47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exa 2 –exemplu de raport al constatarilor efectiv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aragraf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Daca s-ar fi efectuat proceduri suplimentare, un audit sau o revizuire a situatiilor financiare conform... , ne-ar fi putut atrage atentia si alte aspecte ce sa vi le raportam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Raportul nostru are exclusiv scopul ... si nu trebuie utilizat (distribuit) ... 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Acest raport se refera numai la informatii din contul de (profit/  pierderi) rezultate,  respectiv la cheltuielile cu ... si nu se extinde asupra altor componente ale situatiilor financiare intocmite de ... pentru ... perioada ... 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BB3-4449-4E15-8245-AEA10AE55C1E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59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260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V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Ă MUL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T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UME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S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C</a:t>
            </a:r>
            <a:br>
              <a:rPr sz="6000"/>
            </a:b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PENTRU ATEN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T</a:t>
            </a:r>
            <a:r>
              <a:rPr b="0" lang="ro-RO" sz="6000" spc="-1" strike="noStrike">
                <a:solidFill>
                  <a:srgbClr val="800080"/>
                </a:solidFill>
                <a:latin typeface="comic"/>
              </a:rPr>
              <a:t>IE</a:t>
            </a:r>
            <a:r>
              <a:rPr b="0" lang="en-US" sz="6000" spc="-1" strike="noStrike">
                <a:solidFill>
                  <a:srgbClr val="800080"/>
                </a:solidFill>
                <a:latin typeface="comic"/>
              </a:rPr>
              <a:t> 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7E6-A734-49D4-84E2-C2228BF324A2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6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6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67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OBIECTIV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Obiectivul unei misiuni privind procedurile convenite il constituie efectuarea de catre auditor a procedurilor ce tin de natura unui audit asupra car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ora</a:t>
            </a: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 auditorul, entitatea si oricare terte parti indreptatite au convenit, precum si raportarea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 </a:t>
            </a: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catre auditor a constatarilor efectiv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Nu este exprimata nici o asigurare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 utilizatorii raportului urmand sa evalueze procedurile si concluziile</a:t>
            </a: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Raportul este adresat in mod strict acelor parti care au convenit asupra procedurilor ce trebuie efectuat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B33-7519-4363-8D17-EA5A2C2620DE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79" name="Group 14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80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82" name="Rectangle 18"/>
          <p:cNvSpPr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isiunile privesc elemente individuale/componente/set situatii financiar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isiunile pot privi si informatii nefinanciare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espectarea principiilor de etica (integritate/obiectivitate/ competenta/confidentialitate/conduita/standarde tehnice)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ndependenta nu este o cerinta, dar in cazul in care este afectata, situatia va fi mentionata in raport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LANIFICARE,  DOCUMENTARE,  PROCEDURI,  PROB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96AC-6ABC-43F7-9327-4EDE5D77049B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9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97" name="Rectangle 1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LANIFICARE,  DOCUMENTARE,  PROCEDURI,  PROB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Trebuie aplicate cerintele standardelor privind planificarea si documentarea misiunii (colectarea probelor)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Procedurile aplicabile sunt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Investigari si analiz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Recalculari, comparari / alte verificari ale acuratetei datelor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bservar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Inspecti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btinerea de confirmar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B4D-F676-4975-A41E-E9FB8D742D5B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110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12" name="Rectangle 16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ntelegerea partilor (efectuare proceduri / raportare constatari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sigurarea faptului ca partile (tertii) au inteles clar (fara echivoc) procedurile convenite si termenii misiunii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Invocarea standardului ISRS 4400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dentificarea informatiilor financiare (nefinanciare) asupra carora se vor aplica proceduril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Natura, durata si intinderea procedurilor, inclusiv documentele (informatiile)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ce urmeaza a fi primite</a:t>
            </a: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 si persoanele ce vor fi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contactat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CRISOAREA  DE  ANGAJAMENT (TERMENII MISIUNII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248E-B59C-4922-8906-EC9F6FCA90F7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2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12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27" name="Rectangle 14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Scopul misiunii (raportului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Precizarea ca misiunea nu reprezinta un audit (revizuire) si nu ofera nici o asigurar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orma (anticipata) a raportului privind constataril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Limitari in distribuirea (utilizarea) raportului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larificarea pe cat posibil cu toti utilizatorii (reprezentantii) a procedurilor/raportului, inclusiv prin transmiterea scrisorii de angajament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CRISOAREA  DE  ANGAJAMENT (TERMENII MISIUNII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AAB-A7CF-42A7-9EC4-1055399AE004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 le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140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42" name="Rectangle 16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APORTAREA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Raportul trebuie sa descrie scopul si procedurile aplicabile asupra carora partile au convenit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Raportul de constatari efective trebuie sa contin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(mentioneze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Titlu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l</a:t>
            </a: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 (“</a:t>
            </a:r>
            <a:r>
              <a:rPr b="1" i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Raport de constatari efective</a:t>
            </a: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”)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Destinatar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ul (clientul)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Identificarea informatiilor financiare / nefinanciare asupra carora au fost aplicate procedurile conveni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Identificarea scopului pentru care s-au efectuat procedurile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conveni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Descrierea procedurilor specifice efectu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Mentiuni privind independenta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501D-94B0-4F51-95D7-B33705F3057A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155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57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APORTAREA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Raportul de constatari efective trebuie sa contin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(mentioneze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Descrierea constatarilor efectiv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 declaratie asupra faptului ca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Procedurile efectuate au fost acelea asupra carora s-a convenit cu clientul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Misiunea a fost efectuata in conformitate cu ISRS 4400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Auditorul nu este independent fata de entitate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 (</a:t>
            </a: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daca este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 relevant)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Procedurile efectuate nu constituie nici audit, nici revizuire, si de aceea nu se exprima nici o asigurar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Daca auditorul ar fi efectuat proceduri suplimentare, un audit sau o revizuire, ar fi putut aparea alte probleme care ar fi fost rapor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EFB-D17E-4655-9D51-C83DBC03D4B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04920" y="152280"/>
            <a:ext cx="86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481160" y="0"/>
            <a:ext cx="16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Audit financiar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Contabilit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8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4944960" y="52560"/>
            <a:ext cx="2448000" cy="81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logo"/>
          <p:cNvPicPr/>
          <p:nvPr/>
        </p:nvPicPr>
        <p:blipFill>
          <a:blip r:embed="rId2"/>
          <a:stretch/>
        </p:blipFill>
        <p:spPr>
          <a:xfrm>
            <a:off x="228600" y="1440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228600" y="609480"/>
            <a:ext cx="990720" cy="216000"/>
          </a:xfrm>
          <a:prstGeom prst="rect">
            <a:avLst/>
          </a:prstGeom>
          <a:solidFill>
            <a:srgbClr val="eef5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-228600" y="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800080"/>
                </a:solidFill>
                <a:latin typeface="Times New Roman"/>
              </a:rPr>
              <a:t>Camera Auditorilor Financiari din Romania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0" y="6083280"/>
            <a:ext cx="9144000" cy="746280"/>
            <a:chOff x="0" y="6083280"/>
            <a:chExt cx="9144000" cy="746280"/>
          </a:xfrm>
        </p:grpSpPr>
        <p:sp>
          <p:nvSpPr>
            <p:cNvPr id="170" name="Text Box 12"/>
            <p:cNvSpPr/>
            <p:nvPr/>
          </p:nvSpPr>
          <p:spPr>
            <a:xfrm>
              <a:off x="1440" y="6553080"/>
              <a:ext cx="820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Cursuri de pregatire profesionala continua                                                       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	</a:t>
              </a:r>
              <a:r>
                <a:rPr b="1" lang="en-GB" sz="1200" spc="-1" strike="noStrike">
                  <a:solidFill>
                    <a:srgbClr val="800080"/>
                  </a:solidFill>
                  <a:latin typeface="Times New Roman"/>
                </a:rPr>
                <a:t>                octombrie 2009</a:t>
              </a:r>
              <a:r>
                <a:rPr b="1" i="1" lang="en-GB" sz="12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0" y="608328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ISRS 4400 - MISIUNI PENTRU EFECTUAREA PROCEDURILOR CONVENITE 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80"/>
                  </a:solidFill>
                  <a:latin typeface="Times New Roman"/>
                </a:rPr>
                <a:t>PRIVIND INFORMATIILE FINANCIARE</a:t>
              </a:r>
              <a:endParaRPr b="0" lang="en-US" sz="1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172" name="Rectangle 14"/>
          <p:cNvSpPr/>
          <p:nvPr/>
        </p:nvSpPr>
        <p:spPr>
          <a:xfrm>
            <a:off x="152280" y="990720"/>
            <a:ext cx="8839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APORTAREA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imes New Roman"/>
              </a:rPr>
              <a:t>Raportul de constatari efective trebuie sa contin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(mentioneze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O declaratie asupra faptului ca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Raportul este adresat in mod strict acelor parti care au convenit asupra procedurilor ce trebuie efectuate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Raportul se refera numai la elementele, conturile, posturile sau informatiile financiare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/</a:t>
            </a:r>
            <a:r>
              <a:rPr b="1" lang="ro-RO" sz="1800" spc="-1" strike="noStrike">
                <a:solidFill>
                  <a:srgbClr val="800080"/>
                </a:solidFill>
                <a:latin typeface="Times New Roman"/>
                <a:ea typeface="Arial"/>
              </a:rPr>
              <a:t>nefinanciare specificate si ca acesta nu se extinde asupra situatiilor financiare ale entitatii considerate in ansamblul lor (daca este cazul)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Constatarile efective, pe fiecare procedura (obiectiv)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Data raportulu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80"/>
                </a:solidFill>
                <a:latin typeface="Times New Roman"/>
                <a:ea typeface="Arial"/>
              </a:rPr>
              <a:t>Adresa si semnatura auditorului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7:49:07Z</dcterms:created>
  <dc:creator>Sanda Codreanu</dc:creator>
  <dc:description/>
  <dc:language>en-US</dc:language>
  <cp:lastModifiedBy>User</cp:lastModifiedBy>
  <dcterms:modified xsi:type="dcterms:W3CDTF">2009-09-10T13:21:34Z</dcterms:modified>
  <cp:revision>480</cp:revision>
  <dc:subject/>
  <dc:title>IFRS 1   Prezentare genera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