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1C5-8D60-4944-A454-BCD147AA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DDB-FF29-4022-B7F7-D77A3041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760-7C85-4F6B-87E3-D74FB8E8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C33-7D25-4569-A695-D2AA01C8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EDC-1A48-438E-A532-93E4B5DE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BC5-3BAC-4A3E-93C8-8D98FD15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162-BA2A-4F03-9C55-448C0112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689-8366-4638-B43E-032371A0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661-7E25-462D-B74A-39CA3F07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D1C-8697-47A5-A865-98F8D2B9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1AD-9CDF-4584-9FCA-F5DC36BA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411-564E-4EC4-B687-3CDC7B7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EEAB-0B64-417E-951A-7529A58ACA1D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A859-8423-4FF7-B589-CEA67132CEDB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Line 17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" name="Line 18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Text Box 73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6" name="Picture 80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3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4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Text Box 85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Rectangle 87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CODUL  ETIC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ONORARII SI ALTE TIPURI DE REMUNERATII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51" name="Group 95"/>
          <p:cNvGrpSpPr/>
          <p:nvPr/>
        </p:nvGrpSpPr>
        <p:grpSpPr>
          <a:xfrm>
            <a:off x="0" y="6095880"/>
            <a:ext cx="9144000" cy="923760"/>
            <a:chOff x="0" y="6095880"/>
            <a:chExt cx="9144000" cy="923760"/>
          </a:xfrm>
        </p:grpSpPr>
        <p:sp>
          <p:nvSpPr>
            <p:cNvPr id="52" name="Text Box 96"/>
            <p:cNvSpPr/>
            <p:nvPr/>
          </p:nvSpPr>
          <p:spPr>
            <a:xfrm>
              <a:off x="1440" y="6438960"/>
              <a:ext cx="820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" name="Text Box 97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097F-602A-43D7-AA1E-900025CA0418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9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7200" y="20574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aca un cabinet/ societate de audit angajeaza o misiune pentru un onorariu mult mai mic decat cel al auditurului precedent sau fata de cele utilizate de alte cabinete/ societati, amenintarea generata de interesul propriu va putea fi redusa la un nivel acceptabil numai daca: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poate demonstra ca a alocat misiunii respective suficient timp si resurse umane calificate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se respecta toate standardele aplicabile.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77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4"/>
          <p:cNvSpPr/>
          <p:nvPr/>
        </p:nvSpPr>
        <p:spPr>
          <a:xfrm>
            <a:off x="152280" y="14479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Tarif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0" y="6095880"/>
            <a:ext cx="9144000" cy="923760"/>
            <a:chOff x="0" y="6095880"/>
            <a:chExt cx="9144000" cy="923760"/>
          </a:xfrm>
        </p:grpSpPr>
        <p:sp>
          <p:nvSpPr>
            <p:cNvPr id="183" name="Text Box 32"/>
            <p:cNvSpPr/>
            <p:nvPr/>
          </p:nvSpPr>
          <p:spPr>
            <a:xfrm>
              <a:off x="1440" y="6438960"/>
              <a:ext cx="820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4" name="Text Box 33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3F7-5F60-400A-8A46-BF9B414E1D98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9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57200" y="20574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menintare generata de interesul propriu (personal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norariile calculate pe o baza predeterminata cu privire la rezultatul unei tranzactii sau al muncii efectuate (onorariile contingente)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menintare generata de interesul propriu si de favorizar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Un onorariu contingent aplicat de catre o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societate (cabinet)</a:t>
            </a: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pentru un serviciu de non-asigurare furnizat unui client de asigurare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92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4"/>
          <p:cNvSpPr/>
          <p:nvPr/>
        </p:nvSpPr>
        <p:spPr>
          <a:xfrm>
            <a:off x="152280" y="14479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Onorarii contingent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97" name="Group 31"/>
          <p:cNvGrpSpPr/>
          <p:nvPr/>
        </p:nvGrpSpPr>
        <p:grpSpPr>
          <a:xfrm>
            <a:off x="0" y="6095880"/>
            <a:ext cx="9144000" cy="923760"/>
            <a:chOff x="0" y="6095880"/>
            <a:chExt cx="9144000" cy="923760"/>
          </a:xfrm>
        </p:grpSpPr>
        <p:sp>
          <p:nvSpPr>
            <p:cNvPr id="198" name="Text Box 32"/>
            <p:cNvSpPr/>
            <p:nvPr/>
          </p:nvSpPr>
          <p:spPr>
            <a:xfrm>
              <a:off x="1440" y="6438960"/>
              <a:ext cx="820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99" name="Text Box 33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A7D-CCC0-4140-8E19-53BC396F148E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9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57200" y="20574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asuri de protecti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societate (cabinet)</a:t>
            </a: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nu trebuie sa incheie nici un acord privind onorariile pentru o misiune de asigurare in care valoarea onorariului depinde de rezultatul muncii de asigurare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Prezentarea complexitatii si a naturii onorariilor utilizate comitetului de audit sau altor persoane insarcinate cu guvernanta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Examinarea sau determinarea onorariului final de catre o terta parte independenta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Politicile si procedurile de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control al calitati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07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4"/>
          <p:cNvSpPr/>
          <p:nvPr/>
        </p:nvSpPr>
        <p:spPr>
          <a:xfrm>
            <a:off x="152280" y="14479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Onorarii contingent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12" name="Group 31"/>
          <p:cNvGrpSpPr/>
          <p:nvPr/>
        </p:nvGrpSpPr>
        <p:grpSpPr>
          <a:xfrm>
            <a:off x="0" y="6095880"/>
            <a:ext cx="9144000" cy="923760"/>
            <a:chOff x="0" y="6095880"/>
            <a:chExt cx="9144000" cy="923760"/>
          </a:xfrm>
        </p:grpSpPr>
        <p:sp>
          <p:nvSpPr>
            <p:cNvPr id="213" name="Text Box 32"/>
            <p:cNvSpPr/>
            <p:nvPr/>
          </p:nvSpPr>
          <p:spPr>
            <a:xfrm>
              <a:off x="1440" y="6438960"/>
              <a:ext cx="820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4" name="Text Box 33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9571-52E0-4C7A-914A-AA0BA64AA50F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V</a:t>
            </a: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Ă MUL</a:t>
            </a: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T</a:t>
            </a: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UME</a:t>
            </a: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S</a:t>
            </a: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C</a:t>
            </a:r>
            <a:br>
              <a:rPr sz="6000"/>
            </a:b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PENTRU ATEN</a:t>
            </a: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T</a:t>
            </a: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IE</a:t>
            </a: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 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20" name="Picture 17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23" name="Picture 22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50"/>
          <p:cNvGrpSpPr/>
          <p:nvPr/>
        </p:nvGrpSpPr>
        <p:grpSpPr>
          <a:xfrm>
            <a:off x="0" y="6095880"/>
            <a:ext cx="9144000" cy="923760"/>
            <a:chOff x="0" y="6095880"/>
            <a:chExt cx="9144000" cy="923760"/>
          </a:xfrm>
        </p:grpSpPr>
        <p:sp>
          <p:nvSpPr>
            <p:cNvPr id="225" name="Text Box 51"/>
            <p:cNvSpPr/>
            <p:nvPr/>
          </p:nvSpPr>
          <p:spPr>
            <a:xfrm>
              <a:off x="1440" y="6438960"/>
              <a:ext cx="820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E95C-EF68-486E-B867-3538564C8666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4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 pot oferi (solicita) orice onorarii considerate corespunzatoare de catre auditorul financiar, iar faptul de a practica un onorariu mai mic decat altul, in sine nu este lipsit de etica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Totusi atunci cand un onorariu este atat de mic incat ar fi dificil (imposibil) sa fie realizata misiunea conform standardelor, exista o amenintare la adresa conformitatii cu principiile fundamentale generata de interesul propriu, respectiv sunt puse sub semnul intrebarii competenta profesionala si rigurozitatea (responsabilitatea, constiinciozitatea) cu care se efectueaza misiunea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1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33"/>
          <p:cNvGrpSpPr/>
          <p:nvPr/>
        </p:nvGrpSpPr>
        <p:grpSpPr>
          <a:xfrm>
            <a:off x="0" y="6095880"/>
            <a:ext cx="9144000" cy="680400"/>
            <a:chOff x="0" y="6095880"/>
            <a:chExt cx="9144000" cy="680400"/>
          </a:xfrm>
        </p:grpSpPr>
        <p:sp>
          <p:nvSpPr>
            <p:cNvPr id="66" name="Text Box 34"/>
            <p:cNvSpPr/>
            <p:nvPr/>
          </p:nvSpPr>
          <p:spPr>
            <a:xfrm>
              <a:off x="1440" y="6438960"/>
              <a:ext cx="820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67" name="Text Box 35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47D3-BFB9-4F3B-9FD8-B87A7E33F170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4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asuri de protecti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atentionarea clientului privind termenii angajamentului (fundamentarea onorariilor)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planificarea/ programarea si calificarile membrilor echipe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menintarea obiectivitatii prin practicarea onorariilor contingente, functie de natura misiunii, cuantumul si fundamentarea onorariilor si (eventual) implicarea unui tert in evaluarea tranzactiei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5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0"/>
          <p:cNvGrpSpPr/>
          <p:nvPr/>
        </p:nvGrpSpPr>
        <p:grpSpPr>
          <a:xfrm>
            <a:off x="0" y="6095880"/>
            <a:ext cx="9144000" cy="680400"/>
            <a:chOff x="0" y="6095880"/>
            <a:chExt cx="9144000" cy="680400"/>
          </a:xfrm>
        </p:grpSpPr>
        <p:sp>
          <p:nvSpPr>
            <p:cNvPr id="80" name="Text Box 31"/>
            <p:cNvSpPr/>
            <p:nvPr/>
          </p:nvSpPr>
          <p:spPr>
            <a:xfrm>
              <a:off x="1440" y="6438960"/>
              <a:ext cx="820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81" name="Text Box 32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4CE8-393A-43E6-99AD-61FDB9B273DB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4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asuri de protecti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precontract privind baza remunerari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transparenta fata de utilizator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controlul calitatii (proceduri specifice)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revizuirea de catre un tert a activitatii.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rimirea unor onorarii/ comisioane conexe de la clientul unui alt auditor financiar sau de la o terta parte, ameninta obiectivitatea, competenta si rigurozitatea (responsabilitatea, constiinciozitatea)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9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0"/>
          <p:cNvGrpSpPr/>
          <p:nvPr/>
        </p:nvGrpSpPr>
        <p:grpSpPr>
          <a:xfrm>
            <a:off x="0" y="6095880"/>
            <a:ext cx="9144000" cy="680400"/>
            <a:chOff x="0" y="6095880"/>
            <a:chExt cx="9144000" cy="680400"/>
          </a:xfrm>
        </p:grpSpPr>
        <p:sp>
          <p:nvSpPr>
            <p:cNvPr id="94" name="Text Box 31"/>
            <p:cNvSpPr/>
            <p:nvPr/>
          </p:nvSpPr>
          <p:spPr>
            <a:xfrm>
              <a:off x="1440" y="6438960"/>
              <a:ext cx="820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95" name="Text Box 32"/>
            <p:cNvSpPr/>
            <p:nvPr/>
          </p:nvSpPr>
          <p:spPr>
            <a:xfrm>
              <a:off x="0" y="609588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9F35-2227-46D5-B83F-682E90A222F2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4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latirea unor servicii conexe pentru castigarea unui client (alte servicii spefifice solicitate de client)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rimirea unor onorarii/ comisioane sau platirea unor servicii, obliga la masuri de protecti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informarea clientului cu privire la primirea/ platirea acelor onorarii/ comisioane/ servicii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obtinerea unui acord prealabil in acest sens din partea clientului.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latile pentru achizitionarea integrala sau partiala a unei societati de la detinatorii acesteia, nu sunt considerate onorarii/ comisioane conexe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3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33"/>
          <p:cNvGrpSpPr/>
          <p:nvPr/>
        </p:nvGrpSpPr>
        <p:grpSpPr>
          <a:xfrm>
            <a:off x="0" y="6095880"/>
            <a:ext cx="9144000" cy="680400"/>
            <a:chOff x="0" y="6095880"/>
            <a:chExt cx="9144000" cy="680400"/>
          </a:xfrm>
        </p:grpSpPr>
        <p:sp>
          <p:nvSpPr>
            <p:cNvPr id="108" name="Text Box 34"/>
            <p:cNvSpPr/>
            <p:nvPr/>
          </p:nvSpPr>
          <p:spPr>
            <a:xfrm>
              <a:off x="1440" y="6438960"/>
              <a:ext cx="820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09" name="Text Box 35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87B1-B3F6-411A-B2C1-3FCC04452D77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9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57200" y="20574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menintari generate de interesul propriu (personal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norariile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datorate</a:t>
            </a: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de un client reprezinta o proportie semnificativa din onorariile totale ale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societatii (cabinetului)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norariile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datorate</a:t>
            </a: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de clientul de audit reprezinta o proportie mare din veniturile unui partener individual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7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152280" y="14479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Onorarii - marim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22" name="Group 31"/>
          <p:cNvGrpSpPr/>
          <p:nvPr/>
        </p:nvGrpSpPr>
        <p:grpSpPr>
          <a:xfrm>
            <a:off x="0" y="6095880"/>
            <a:ext cx="9144000" cy="923760"/>
            <a:chOff x="0" y="6095880"/>
            <a:chExt cx="9144000" cy="923760"/>
          </a:xfrm>
        </p:grpSpPr>
        <p:sp>
          <p:nvSpPr>
            <p:cNvPr id="123" name="Text Box 32"/>
            <p:cNvSpPr/>
            <p:nvPr/>
          </p:nvSpPr>
          <p:spPr>
            <a:xfrm>
              <a:off x="1440" y="6438960"/>
              <a:ext cx="820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068B-FF64-48B4-A375-7A3094B1EA9D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9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57200" y="20574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asuri de protecti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Discutarea complexitatii si naturii onorariilor percepute cu comitetul de audit sau cu conducerea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clientulu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Luarea de masuri pentru a reduce dependenta de client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Revizuirea controalelor externe de calitate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Consultarea unei terte part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Implementarea si monitorizarea controlului calitatii misiunilor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Implicarea unui auditor suplimentar care nu a fost un membru al echipei, pentru a revizui munca efectuata sau pentru a oferi consultanta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32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4"/>
          <p:cNvSpPr/>
          <p:nvPr/>
        </p:nvSpPr>
        <p:spPr>
          <a:xfrm>
            <a:off x="152280" y="14479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Onorarii - marim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37" name="Group 31"/>
          <p:cNvGrpSpPr/>
          <p:nvPr/>
        </p:nvGrpSpPr>
        <p:grpSpPr>
          <a:xfrm>
            <a:off x="0" y="6095880"/>
            <a:ext cx="9144000" cy="923760"/>
            <a:chOff x="0" y="6095880"/>
            <a:chExt cx="9144000" cy="923760"/>
          </a:xfrm>
        </p:grpSpPr>
        <p:sp>
          <p:nvSpPr>
            <p:cNvPr id="138" name="Text Box 32"/>
            <p:cNvSpPr/>
            <p:nvPr/>
          </p:nvSpPr>
          <p:spPr>
            <a:xfrm>
              <a:off x="1440" y="6438960"/>
              <a:ext cx="820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39" name="Text Box 33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5A93-5ECA-46B3-965C-95AC29AEDB17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9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" y="20574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menintare generata de interesul propriu (personal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norariile datorate de un client de audit pentru servicii profesionale raman restante pentru o perioada lunga de timp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societate (cabinet) angajeaza</a:t>
            </a: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o misiune de asigurare pentru un onorariu mult mai mic decat cel aplicat de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auditorul</a:t>
            </a: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anterior sau fata de cel utilizat de alte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societati (cabinete)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7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4"/>
          <p:cNvSpPr/>
          <p:nvPr/>
        </p:nvSpPr>
        <p:spPr>
          <a:xfrm>
            <a:off x="152280" y="14479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Onorarii restant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52" name="Group 31"/>
          <p:cNvGrpSpPr/>
          <p:nvPr/>
        </p:nvGrpSpPr>
        <p:grpSpPr>
          <a:xfrm>
            <a:off x="0" y="6095880"/>
            <a:ext cx="9144000" cy="923760"/>
            <a:chOff x="0" y="6095880"/>
            <a:chExt cx="9144000" cy="923760"/>
          </a:xfrm>
        </p:grpSpPr>
        <p:sp>
          <p:nvSpPr>
            <p:cNvPr id="153" name="Text Box 32"/>
            <p:cNvSpPr/>
            <p:nvPr/>
          </p:nvSpPr>
          <p:spPr>
            <a:xfrm>
              <a:off x="1440" y="6438960"/>
              <a:ext cx="820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4" name="Text Box 33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DB74-ED07-47BA-888A-019FD10BA53D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CTIUNEA 29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" y="20574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asuri de protecti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Discutarea nivelului onorariilor r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e</a:t>
            </a: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stante cu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comitetul</a:t>
            </a: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de audit sau cu conducerea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clientulu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Implicarea unui auditor suplimentar care nu a fost un membru al echipei de asigurare, pentru a revizui munca efectuata sau pentru a oferi consultanta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Societatea (cabinetul)</a:t>
            </a: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 poate sa demonstreze ca aloca misiunii respective suficient timp si resurse umane calificate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Sunt respectate toate standardele aplicabile de asigurare, indrumarile si procedurile de control al calitati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62" name="Picture 8" descr="logo"/>
          <p:cNvPicPr/>
          <p:nvPr/>
        </p:nvPicPr>
        <p:blipFill>
          <a:blip r:embed="rId1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8380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4"/>
          <p:cNvSpPr/>
          <p:nvPr/>
        </p:nvSpPr>
        <p:spPr>
          <a:xfrm>
            <a:off x="152280" y="14479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Onorarii restant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67" name="Group 34"/>
          <p:cNvGrpSpPr/>
          <p:nvPr/>
        </p:nvGrpSpPr>
        <p:grpSpPr>
          <a:xfrm>
            <a:off x="0" y="6095880"/>
            <a:ext cx="9144000" cy="923760"/>
            <a:chOff x="0" y="6095880"/>
            <a:chExt cx="9144000" cy="923760"/>
          </a:xfrm>
        </p:grpSpPr>
        <p:sp>
          <p:nvSpPr>
            <p:cNvPr id="168" name="Text Box 35"/>
            <p:cNvSpPr/>
            <p:nvPr/>
          </p:nvSpPr>
          <p:spPr>
            <a:xfrm>
              <a:off x="1440" y="6438960"/>
              <a:ext cx="820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  octombrie 2009</a:t>
              </a:r>
              <a:r>
                <a:rPr b="1" i="1" lang="en-GB" sz="16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1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69" name="Text Box 36"/>
            <p:cNvSpPr/>
            <p:nvPr/>
          </p:nvSpPr>
          <p:spPr>
            <a:xfrm>
              <a:off x="0" y="609588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80"/>
                  </a:solidFill>
                  <a:latin typeface="Times New Roman"/>
                </a:rPr>
                <a:t>ONORARII SI ALTE TIPURI DE REMUNERATII </a:t>
              </a:r>
              <a:endParaRPr b="0" lang="en-US" sz="1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7:49:07Z</dcterms:created>
  <dc:creator>Sanda Codreanu</dc:creator>
  <dc:description/>
  <dc:language>en-US</dc:language>
  <cp:lastModifiedBy>User</cp:lastModifiedBy>
  <dcterms:modified xsi:type="dcterms:W3CDTF">2009-09-11T06:46:18Z</dcterms:modified>
  <cp:revision>462</cp:revision>
  <dc:subject/>
  <dc:title>IFRS 1   Prezentare genera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