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E3A3-7F27-4B77-B265-310F29D4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AC82-AFF0-4E7C-B31D-B26B950C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C1C5-86AA-4227-B6E7-CE16557C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769A-CD15-4631-9D44-D0724F42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9B3B-360D-4B33-9C46-3926A9E5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16B9-D055-4BCA-8D17-A6124791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3B79-FF7B-43CF-9D90-C6FA62C9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A140-EDA5-46D6-A59F-8BC0A720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1EF5-F576-4018-8DD0-A6952D38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91E8-7D37-49CF-9AB4-C747AA7D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A474-79AB-40D9-80E9-D853415D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8794-3D3A-4336-AF6C-D44FE4A8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DAB3-E19C-43AA-A14F-2950C910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E461-45AF-4A11-8362-4B5C5FF0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96E6-422B-4000-9A8C-3E9C6C93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3489-EE98-4396-AA5F-CECB1F9D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800A-79E5-482B-92F7-C8B0F514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DF59-0FA3-449F-B456-B6AA1E36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2EE-BD18-4825-A5A7-9F250571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AE1E-364A-428A-ACB5-E61D19C7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B350-ED99-42CE-92E9-DCB571C8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CF78-2C1E-4657-9CAD-6D4377E6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569-D771-4059-963F-005253D5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709F-BD65-4612-822A-3BA31DB2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9148-4D48-4178-8C76-5FB339102B9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9239-FB50-4BD1-AF2B-D0027ABE5AC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alary Increment Surve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s year your Company has decided to give the increment as per your wish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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lease answer the following ques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7162920" y="1143000"/>
            <a:ext cx="17524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162920" y="838080"/>
            <a:ext cx="1828800" cy="762120"/>
          </a:xfrm>
          <a:prstGeom prst="wedgeRoundRectCallout">
            <a:avLst>
              <a:gd name="adj1" fmla="val -119967"/>
              <a:gd name="adj2" fmla="val 2308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y Incremen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lect the Tenure with this company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1 Yea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2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3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>
            <a:hlinkClick r:id="rId4" action="ppaction://hlinksldjump"/>
          </p:cNvPr>
          <p:cNvSpPr/>
          <p:nvPr/>
        </p:nvSpPr>
        <p:spPr>
          <a:xfrm>
            <a:off x="4648320" y="4191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5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>
            <a:hlinkClick r:id="rId5" action="ppaction://hlinksldjump"/>
          </p:cNvPr>
          <p:cNvSpPr/>
          <p:nvPr/>
        </p:nvSpPr>
        <p:spPr>
          <a:xfrm>
            <a:off x="4648320" y="48769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>
            <a:hlinkClick r:id="rId6" action="ppaction://hlinksldjump"/>
          </p:cNvPr>
          <p:cNvSpPr/>
          <p:nvPr/>
        </p:nvSpPr>
        <p:spPr>
          <a:xfrm>
            <a:off x="4648320" y="5562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Greater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rital Statu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ingl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rie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 you have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 of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ore than 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">
            <a:hlinkClick r:id="rId1" action="ppaction://hlinksldjump"/>
          </p:cNvPr>
          <p:cNvSpPr/>
          <p:nvPr/>
        </p:nvSpPr>
        <p:spPr>
          <a:xfrm>
            <a:off x="76212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87692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>
            <a:hlinkClick r:id="rId1" action="ppaction://hlinksldjump"/>
          </p:cNvPr>
          <p:cNvSpPr/>
          <p:nvPr/>
        </p:nvSpPr>
        <p:spPr>
          <a:xfrm>
            <a:off x="60948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 am glad to know that you are happy with your current salary. We will have your increment done next year (with the same survey)……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2666880" y="5334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bmit the Surve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9:01:45Z</dcterms:created>
  <dc:creator>Stephen</dc:creator>
  <dc:description/>
  <dc:language>en-US</dc:language>
  <cp:lastModifiedBy>Stephen</cp:lastModifiedBy>
  <dcterms:modified xsi:type="dcterms:W3CDTF">2008-02-18T19:46:28Z</dcterms:modified>
  <cp:revision>2</cp:revision>
  <dc:subject/>
  <dc:title>Salary Increment</dc:title>
</cp:coreProperties>
</file>