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4.jpeg" ContentType="image/jpeg"/>
  <Override PartName="/ppt/media/image13.jpeg" ContentType="image/jpeg"/>
  <Override PartName="/ppt/media/06-One%20Man's%20dream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1AF-515C-419E-A261-0A2F9BC6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F76-71FC-42FE-9FEB-434D382F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C7D-1A57-4C8E-8245-23C08D30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265-6D5E-4DFF-8A8A-CE1C9651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9DB-3EA2-4FFA-88C2-E5016A93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80E-9DC5-4CBA-865B-013FF2E1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4AB-EECC-4DD5-A1F1-78F27BE4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461-80A8-4B90-9814-4BB4F385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0AF-ECC9-4F07-9E11-D3C455C4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6D8-8726-427E-BE59-CC5A52A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2B5-F68F-4C24-A87E-4DE6CAD3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3AD-0238-47C3-B870-B83F059F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53D7-9FFE-4915-BEB4-3444D3000D7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6-One%20Man&apos;s%20dream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ão tenha pressa para ler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sta apresentação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á clicando com calma e refletindo no conteúdo de cada slid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gue o som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música é muito boni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303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Você tem reservado pelo menos cinco minutinhos diários para ter um diálogo sincero com você me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057720" cy="45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3333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Você tem agradecido a Deus pelo milagre de sua vida e por todos os “anjos” que Ele coloca em seu caminh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30880" y="1125360"/>
            <a:ext cx="4713120" cy="55296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611280" y="1413000"/>
            <a:ext cx="3705120" cy="4857480"/>
            <a:chOff x="611280" y="1413000"/>
            <a:chExt cx="3705120" cy="4857480"/>
          </a:xfrm>
        </p:grpSpPr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611280" y="1413000"/>
              <a:ext cx="2276280" cy="28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2195640" y="4149720"/>
              <a:ext cx="2120760" cy="2120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111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5000"/>
            <a:ext cx="9144000" cy="59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Escute a sua al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Ela tem a orientação correta sobre qual o caminho a seguir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 Unicode MS"/>
              </a:rPr>
              <a:t>Tudo na vida é um convite para o avanço e a conquist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Arial Unicode MS"/>
              </a:rPr>
              <a:t>valores, na harmonia e na glória do bem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 Unicode MS"/>
              </a:rPr>
              <a:t>E lembra-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 Unicode MS"/>
              </a:rPr>
              <a:t>“</a:t>
            </a:r>
            <a:r>
              <a:rPr b="1" lang="es-ES" sz="2400" spc="-1" strike="noStrike">
                <a:solidFill>
                  <a:srgbClr val="333399"/>
                </a:solidFill>
                <a:latin typeface="Arial Unicode MS"/>
              </a:rPr>
              <a:t>Tudo o que chega, chega sempre por alguma razã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834160" y="-124200"/>
            <a:ext cx="32749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 Unicode MS"/>
              </a:rPr>
              <a:t>Tenho sido, nesta vida, um buscador de minha luz. Por isso tenho encontrado nesta caminhada, mais sombras internas do que a minha tão esperada luz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 Unicode MS"/>
              </a:rPr>
              <a:t>O passar dos anos, o tempo, a vivência do dia-a-dia vão me ensinando que por trás de toda sombra que sempre aparece e enfrento, dá-se automaticamente o sentimento da libertação, a percepção da existência da minha plenitude, da minha parte melh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 Unicode MS"/>
              </a:rPr>
              <a:t>o meu Eu div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4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6678" t="0" r="6678" b="2768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602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CONSCIÊNCIA DE SUA MISSÃ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"/>
              </a:rPr>
              <a:t>Freqüentemente, eu me pergunto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"/>
              </a:rPr>
              <a:t>"O que cada um de nós está fazendo neste planeta?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33360"/>
            <a:ext cx="914400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 Unicode MS"/>
                <a:ea typeface="Arial"/>
              </a:rPr>
              <a:t>Se a vida for somente tentar aproveitar o máximo possível as horas e os minutos, esse filme é bobo.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333399"/>
                </a:solidFill>
                <a:latin typeface="Arial Unicode MS"/>
                <a:ea typeface="Arial"/>
              </a:rPr>
              <a:t>Tenho certeza de que existe um sentido melhor em tudo o que vivem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 Unicode MS"/>
                <a:ea typeface="Arial"/>
              </a:rPr>
              <a:t>Para mim, nossa vinda ao planeta Terra te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 Unicode MS"/>
                <a:ea typeface="Arial"/>
              </a:rPr>
              <a:t>basicamente, dois motivo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 Unicode MS"/>
                <a:ea typeface="Arial"/>
              </a:rPr>
              <a:t>evoluir espiritualmente e aprender a amar melh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333399"/>
                </a:solidFill>
                <a:latin typeface="Arial Unicode MS"/>
                <a:ea typeface="Arial"/>
              </a:rPr>
              <a:t>Todos os nossos bens, na verdade, não são nossos.</a:t>
            </a:r>
            <a:br>
              <a:rPr sz="2200"/>
            </a:br>
            <a:r>
              <a:rPr b="1" lang="en-US" sz="2200" spc="-1" strike="noStrike">
                <a:solidFill>
                  <a:srgbClr val="333399"/>
                </a:solidFill>
                <a:latin typeface="Arial Unicode MS"/>
                <a:ea typeface="Arial"/>
              </a:rPr>
              <a:t>Somos apenas as nossas almas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 Unicode MS"/>
                <a:ea typeface="Arial"/>
              </a:rPr>
              <a:t>E devemos aproveitar todas as oportunidades que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vida nos dá para nos aprimorarmos como pesso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83822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Portanto, lembre-se sempre 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os seus fracassos são sempre os melhores profess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e que é nos momentos difíce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que as pessoas precisam encont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uma razão maior para continuar em fr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As nossas açõ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especialmente quando temos de nos super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fazem de nós pessoas melhores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A  nossa capacidade de resistir às tentaçõ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aos desânimos, para continuar o caminho, é que nos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torna pessoas especi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14036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Unicode MS"/>
                <a:ea typeface="Arial"/>
              </a:rPr>
              <a:t>Ninguém veio a essa vida com a missão de juntar dinheiro e comer do bom e do melh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Unicode MS"/>
                <a:ea typeface="Arial"/>
              </a:rPr>
              <a:t>Ganhar dinheiro, ter bom padrão de vida e alimentar-se bem fazem parte da vida, mas, não podem ser a razão de viver.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ffff66"/>
                </a:solidFill>
                <a:latin typeface="Arial Unicode MS"/>
                <a:ea typeface="Arial"/>
              </a:rPr>
              <a:t>Tenho certeza de que pessoas como Martin Luther King,</a:t>
            </a:r>
            <a:br>
              <a:rPr sz="1800"/>
            </a:br>
            <a:r>
              <a:rPr b="1" lang="pt-BR" sz="1800" spc="-1" strike="noStrike">
                <a:solidFill>
                  <a:srgbClr val="ffff66"/>
                </a:solidFill>
                <a:latin typeface="Arial Unicode MS"/>
                <a:ea typeface="Arial"/>
              </a:rPr>
              <a:t>Mahatma Ghandi, Nelson Mandela, Madre Tereza de Calcutá, Irmã Dulce, Chico Xavier, Betinho e tantos(as) outros(as) anônimos(as), que lutaram e lutam para melhorar a vida dos mais fracos e dos mais pobres, </a:t>
            </a:r>
            <a:r>
              <a:rPr b="1" lang="pt-BR" sz="1800" spc="-1" strike="noStrike">
                <a:solidFill>
                  <a:srgbClr val="ffff66"/>
                </a:solidFill>
                <a:latin typeface="Arial Unicode MS"/>
                <a:ea typeface="Times New Roman"/>
              </a:rPr>
              <a:t>não estavam motivadas pela idéia de ganhar dinhei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O que move, então, essas pessoas generosas a trabalhar</a:t>
            </a:r>
            <a:br>
              <a:rPr sz="2200"/>
            </a:br>
            <a:r>
              <a:rPr b="1" lang="pt-BR" sz="2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diariamente, sem jamais desistir?</a:t>
            </a:r>
            <a:r>
              <a:rPr b="1" lang="pt-BR" sz="2400" spc="-1" strike="noStrike">
                <a:solidFill>
                  <a:srgbClr val="ffff66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76280"/>
            <a:ext cx="781200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"/>
              </a:rPr>
              <a:t>A resposta é uma s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Unicode MS"/>
                <a:ea typeface="Arial"/>
              </a:rPr>
              <a:t>A CONSCIÊNCIA DE SUA MISSÃO NESTA V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Quando você tem a consciência de que, através do seu trabalho, está realizando sua missão, você desenvolve uma força extra, 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capaz de levá-lo ao cume da montanha  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mais alta do planeta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Infelizmente, 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muita gente se perde nesta viagem e distorce o sentido de sua existência, pensando que acumular bens materiais é o objetivo d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E quando chega no final do caminho percebe que o caixão não tem gavetas e que só vai poder 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Times New Roman"/>
              </a:rPr>
              <a:t>levar daqui o bem que fez às pesso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0"/>
            <a:ext cx="8381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"/>
              </a:rPr>
              <a:t>Se você tem estado angustiado sem motivo aparente, está aí um aviso para parar e refletir sobre o seu estilo de vida.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 Unicode MS"/>
                <a:ea typeface="Arial"/>
              </a:rPr>
              <a:t>Responda com honest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702240" cy="282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35360" y="1484280"/>
            <a:ext cx="3969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</a:rPr>
              <a:t>Como você vem trat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</a:rPr>
              <a:t>seus pa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</a:rPr>
              <a:t>seus irmã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</a:rPr>
              <a:t>seus filh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</a:rPr>
              <a:t>seus am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</a:rPr>
              <a:t>e seus amig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4668840"/>
            <a:ext cx="1457280" cy="2189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773840" y="5049720"/>
            <a:ext cx="140652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651640" y="5084640"/>
            <a:ext cx="192240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971640" y="4581360"/>
            <a:ext cx="2400120" cy="17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260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Como anda sua disposição para “emprestar” sua atenção a quem precisa desabafar sua dor, a quem precisa receber um gesto de carin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437600" cy="42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3333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"/>
              </a:rPr>
              <a:t>Você está engajado em algum movimento voluntari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1222200"/>
            <a:ext cx="6705360" cy="4438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1:35:23Z</dcterms:created>
  <dc:creator>****</dc:creator>
  <dc:description/>
  <dc:language>en-US</dc:language>
  <cp:lastModifiedBy>****</cp:lastModifiedBy>
  <dcterms:modified xsi:type="dcterms:W3CDTF">2008-02-06T01:45:19Z</dcterms:modified>
  <cp:revision>1</cp:revision>
  <dc:subject/>
  <dc:title>Não tenha pressa para ler esta apresentação.  Vá clicando com calma e refletindo no conteúdo de cada slide.  Ligue o som. A música é muito bonita.</dc:title>
</cp:coreProperties>
</file>