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Corciolli%20-%20Branco%20(Paz).wav" ContentType="audio/x-wav"/>
  <Override PartName="/ppt/media/image4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605-345D-45A6-AD0A-41057F3A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785-BBE5-404E-B1BF-A4A748FF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9AF-9C47-4858-B324-F946EB17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68A-AE55-4993-8B4A-7503DA3E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4AB-B2E0-4286-BFB7-175B4691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A7F-A31B-4B23-A75E-A48F2560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653-AA32-4CCE-B75A-D007018B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7E8-BC7A-4BBC-A686-A09AF51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C72-4792-4C0D-AB97-B9570C01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5FF-BC5E-4B1C-ABC0-87D33DB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383-4478-4BBA-9E1C-C5115FA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CF1-CF11-47E0-8C7F-93A4914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0C9B-4C62-4E26-9F01-57A2CDD162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orciolli%20-%20Branco%20(Paz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bertura"/>
          <p:cNvPicPr/>
          <p:nvPr/>
        </p:nvPicPr>
        <p:blipFill>
          <a:blip r:embed="rId1"/>
          <a:stretch/>
        </p:blipFill>
        <p:spPr>
          <a:xfrm>
            <a:off x="1295280" y="2514600"/>
            <a:ext cx="6480360" cy="1096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2413080" y="4869000"/>
            <a:ext cx="56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á clicando à medida que fores le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mais confort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2240" y="3870360"/>
            <a:ext cx="8093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Olha Senhor, preciso terminar agora. Esta oração está demorando muito mais do que costuma ser. Vou continuar:                                                    "o pão nosso de cada dia, nos dai hoje...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Pare aí! Você está me pedindo pão material? Não só de pão vive o homem, mas também da minha palavra. Quando me pedires o pão, lembre-se daqueles que nem conhecem pão. Pode pedir-me o que quiser, desde que me veja como um Pai amoroso! Eu estou interessado na próxima parte de sua oração. Continue!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orando"/>
          <p:cNvPicPr/>
          <p:nvPr/>
        </p:nvPicPr>
        <p:blipFill>
          <a:blip r:embed="rId1"/>
          <a:stretch/>
        </p:blipFill>
        <p:spPr>
          <a:xfrm>
            <a:off x="3352680" y="220680"/>
            <a:ext cx="2719440" cy="34369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46280" y="3429000"/>
            <a:ext cx="80928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"Perdoai as nossas ofensas, assim como nós perdoamos a                       quem nos tem ofendido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E o seu irmão desprezado?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Está vendo? Olhe Senhor, ele já me criticou várias vezes e não                    era verdade o que dizia. Agora não consigo perdoar. Preciso me vingar. 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Mas, e sua oração? O que quer dizer sua oração? Você me chamou,                 e Eu estou aqui. Quero que saias daqui transfigurado. Estou gostando de você ser honesto. Mas não é bom carregar o peso da ira dentro de você, não acha?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orando"/>
          <p:cNvPicPr/>
          <p:nvPr/>
        </p:nvPicPr>
        <p:blipFill>
          <a:blip r:embed="rId1"/>
          <a:stretch/>
        </p:blipFill>
        <p:spPr>
          <a:xfrm>
            <a:off x="3352680" y="220680"/>
            <a:ext cx="2719440" cy="34369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127160" y="3870360"/>
            <a:ext cx="7635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Acho que iria me sentir melhor se me vingasse!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Não vai não! Vai se sentir pior. A vingança não é tão doce quanto parece. Pense na tristeza que me causaria, pense na sua tristeza agora. Eu posso mudar tudo para você. Basta você querer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Pode? Mas como?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Perdoe seu irmão, Eu perdoarei você e te aliviarei.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bf0235-001"/>
          <p:cNvPicPr/>
          <p:nvPr/>
        </p:nvPicPr>
        <p:blipFill>
          <a:blip r:embed="rId1"/>
          <a:stretch/>
        </p:blipFill>
        <p:spPr>
          <a:xfrm>
            <a:off x="2743200" y="380880"/>
            <a:ext cx="3556080" cy="35053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90720" y="409896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Mas Senhor, eu não posso perdoá-lo.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Então não me peças perdão também!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Mais uma vez o Senhor está certo! Mais do que quero vingar-me, quero a paz com o Senhor. Está bem, está bem, eu perdôo a todos, mas ajude-me Senhor. Mostre-me o caminho certo para mim e meus inimigos.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Isto que você pede é maravilhoso. Estou muito feliz com você.               E você como está se sentindo?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bf0235-001"/>
          <p:cNvPicPr/>
          <p:nvPr/>
        </p:nvPicPr>
        <p:blipFill>
          <a:blip r:embed="rId1"/>
          <a:stretch/>
        </p:blipFill>
        <p:spPr>
          <a:xfrm>
            <a:off x="2743200" y="380880"/>
            <a:ext cx="3556080" cy="35053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4251240"/>
            <a:ext cx="8398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Bem, muito bem mesmo! Para falar a verdade, nunca havia me sentido assim! É tão bom falar com Deus.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Ainda não terminamos a oração. Prossiga..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"E não nos deixeis cair em tentações, mas livrai-nos do mal..." 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Ótimo, vou fazer justamente isso, mas não se ponha                                  em situações onde possa ser tentad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829937-003"/>
          <p:cNvPicPr/>
          <p:nvPr/>
        </p:nvPicPr>
        <p:blipFill>
          <a:blip r:embed="rId1"/>
          <a:stretch/>
        </p:blipFill>
        <p:spPr>
          <a:xfrm>
            <a:off x="3365640" y="330120"/>
            <a:ext cx="2806560" cy="3556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27160" y="3946680"/>
            <a:ext cx="7864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O que quer dizer com isso?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Deixe de andar na companhia de pessoas que o levam a               participar de coisas sujas, intrigas, fofocas. Abandone a maldade,                 o ódio. Isso tudo vai levá-lo para o caminho errado.                                                                   Não use tudo isso como saída de emergênci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Não estou entendendo!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Claro que entende! Você já fez isso comigo várias vezes.                Entra no erro, depois corre para me pedir socorr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829937-003"/>
          <p:cNvPicPr/>
          <p:nvPr/>
        </p:nvPicPr>
        <p:blipFill>
          <a:blip r:embed="rId1"/>
          <a:stretch/>
        </p:blipFill>
        <p:spPr>
          <a:xfrm>
            <a:off x="3365640" y="330120"/>
            <a:ext cx="2806560" cy="3556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08040" y="3946680"/>
            <a:ext cx="7026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Puxa, como estou envergonhado!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Você me pede ajuda, mas logo em seguida volta a errar                       de novo, para mais uma vez vir fazer negócios comigo!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Estou com muita vergonha, perdoe-me Senhor!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Claro que perdôo! Sempre perdôo a quem está disposto                           a perdoar também. Mas não esqueça:, quando me chamar,                             lembre-se de nossa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a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, medite cada palavra que fala!                 Termine sua or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Fé"/>
          <p:cNvPicPr/>
          <p:nvPr/>
        </p:nvPicPr>
        <p:blipFill>
          <a:blip r:embed="rId1"/>
          <a:stretch/>
        </p:blipFill>
        <p:spPr>
          <a:xfrm>
            <a:off x="3282840" y="152280"/>
            <a:ext cx="2737080" cy="365760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762120" y="3733920"/>
            <a:ext cx="79405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Terminar? Ah! Sim: "Amém!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O que quer dizer amém?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Não sei. É o final da oração.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Você só deve dizer amém quando aceita dizer tudo o  que Eu quero, quando concorda com minha vontade, quando segue os meus mandamentos, porque AMÉM! Quer dizer: assim seja, concordo com tudo</a:t>
            </a:r>
            <a:r>
              <a:rPr b="0" lang="pt-BR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que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ei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.</a:t>
            </a:r>
            <a:r>
              <a:rPr b="0" lang="pt-BR" sz="24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Fé"/>
          <p:cNvPicPr/>
          <p:nvPr/>
        </p:nvPicPr>
        <p:blipFill>
          <a:blip r:embed="rId1"/>
          <a:stretch/>
        </p:blipFill>
        <p:spPr>
          <a:xfrm>
            <a:off x="3282840" y="152280"/>
            <a:ext cx="2737080" cy="365760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71680" y="3071880"/>
            <a:ext cx="82296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Senhor, obrigado por ensinar-me esta oração e agora                             obrigado por fazer-me entendê-la.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Eu amo cada um dos meus filhos, amo mais ain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aqueles que querem sair do erro, que querem ser livres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pecado. Eu te abençôo e fique com minha paz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Obrigado, Senhor! Estou muito feliz em saber que és meu amigo e que posso todos os dias conversar com o Senhor e falar dos meus problemas, das minhas dificuldades e necessidades, creio agora que está oração do Pai Nosso será e fará diferença na minha vida. OBRIGADO SENH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pt-BR" sz="1800" spc="-1" strike="noStrike">
                <a:solidFill>
                  <a:srgbClr val="0066ff"/>
                </a:solidFill>
                <a:latin typeface="Times New Roman"/>
              </a:rPr>
              <a:t>Autor: Desconhec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829933-003"/>
          <p:cNvPicPr/>
          <p:nvPr/>
        </p:nvPicPr>
        <p:blipFill>
          <a:blip r:embed="rId1"/>
          <a:stretch/>
        </p:blipFill>
        <p:spPr>
          <a:xfrm>
            <a:off x="3276720" y="330120"/>
            <a:ext cx="2152440" cy="26672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829933-002"/>
          <p:cNvPicPr/>
          <p:nvPr/>
        </p:nvPicPr>
        <p:blipFill>
          <a:blip r:embed="rId1"/>
          <a:stretch/>
        </p:blipFill>
        <p:spPr>
          <a:xfrm>
            <a:off x="228600" y="152280"/>
            <a:ext cx="1789200" cy="2210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78" name="Picture 3" descr="829935-001"/>
          <p:cNvPicPr/>
          <p:nvPr/>
        </p:nvPicPr>
        <p:blipFill>
          <a:blip r:embed="rId2"/>
          <a:stretch/>
        </p:blipFill>
        <p:spPr>
          <a:xfrm>
            <a:off x="2438280" y="152280"/>
            <a:ext cx="1905120" cy="2210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79" name="Picture 4" descr="829937-005"/>
          <p:cNvPicPr/>
          <p:nvPr/>
        </p:nvPicPr>
        <p:blipFill>
          <a:blip r:embed="rId3"/>
          <a:stretch/>
        </p:blipFill>
        <p:spPr>
          <a:xfrm>
            <a:off x="4724280" y="152280"/>
            <a:ext cx="1905120" cy="2210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0" name="Picture 5" descr="orando"/>
          <p:cNvPicPr/>
          <p:nvPr/>
        </p:nvPicPr>
        <p:blipFill>
          <a:blip r:embed="rId4"/>
          <a:stretch/>
        </p:blipFill>
        <p:spPr>
          <a:xfrm>
            <a:off x="7047000" y="152280"/>
            <a:ext cx="1792080" cy="2210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1" name="Picture 6" descr="bf0235-001"/>
          <p:cNvPicPr/>
          <p:nvPr/>
        </p:nvPicPr>
        <p:blipFill>
          <a:blip r:embed="rId5"/>
          <a:stretch/>
        </p:blipFill>
        <p:spPr>
          <a:xfrm>
            <a:off x="223920" y="4419720"/>
            <a:ext cx="1985760" cy="22096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2" name="Picture 7" descr="829937-003"/>
          <p:cNvPicPr/>
          <p:nvPr/>
        </p:nvPicPr>
        <p:blipFill>
          <a:blip r:embed="rId6"/>
          <a:stretch/>
        </p:blipFill>
        <p:spPr>
          <a:xfrm>
            <a:off x="4876920" y="4419720"/>
            <a:ext cx="1904760" cy="22096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3" name="Picture 8" descr="Fé"/>
          <p:cNvPicPr/>
          <p:nvPr/>
        </p:nvPicPr>
        <p:blipFill>
          <a:blip r:embed="rId7"/>
          <a:stretch/>
        </p:blipFill>
        <p:spPr>
          <a:xfrm>
            <a:off x="7132680" y="4419720"/>
            <a:ext cx="1782720" cy="22096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4" name="Picture 9" descr="829933-003"/>
          <p:cNvPicPr/>
          <p:nvPr/>
        </p:nvPicPr>
        <p:blipFill>
          <a:blip r:embed="rId8"/>
          <a:stretch/>
        </p:blipFill>
        <p:spPr>
          <a:xfrm>
            <a:off x="2590920" y="4419720"/>
            <a:ext cx="1904760" cy="22096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5" name="Text Box 10"/>
          <p:cNvSpPr/>
          <p:nvPr/>
        </p:nvSpPr>
        <p:spPr>
          <a:xfrm>
            <a:off x="609480" y="2743200"/>
            <a:ext cx="815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Essa mensagem servirá para nossa reflexão, se realmente estamos                  fazendo a oração do Pai Nosso como Jesus nos ensino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Para que, assim, possamos estar em perfeita comunhão 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o Pai Maior: que é Justiça, Amor e Misericórd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46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1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1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66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1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76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828800" y="4708440"/>
            <a:ext cx="609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“Pai nosso que estais no céu...”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Sim? Estou aqui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Por favor, não me interrompa. Estou rezando!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Mas você me chamou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829933-002"/>
          <p:cNvPicPr/>
          <p:nvPr/>
        </p:nvPicPr>
        <p:blipFill>
          <a:blip r:embed="rId1"/>
          <a:stretch/>
        </p:blipFill>
        <p:spPr>
          <a:xfrm>
            <a:off x="3200400" y="254160"/>
            <a:ext cx="2755800" cy="35557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ixaDeTexto 1"/>
          <p:cNvSpPr/>
          <p:nvPr/>
        </p:nvSpPr>
        <p:spPr>
          <a:xfrm>
            <a:off x="1214280" y="1714680"/>
            <a:ext cx="678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Rod"/>
                <a:ea typeface="Rod"/>
              </a:rPr>
              <a:t>REPASSE ESTA MENSAGEM PARA AS PESSOAS QUE VOCÊ CONHECE, CREIO QUE VAI FAZER DIFERENÇA NA VIDA DELAS. VOCÊ PODE SER UM CANAL DE BENÇÃO NA VIDA DESSAS PESSOAS, LEMBRA-SE DISSO, LEMBRE-SE DA ORAÇÃO QUE ACABOU DE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Rod"/>
                <a:ea typeface="Rod"/>
              </a:rPr>
              <a:t>QUE DEUS CONTINUE TE ABENÇO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508040" y="4251240"/>
            <a:ext cx="717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Chamei? Eu não chamei ninguém. Estou rezando.               “Pai nosso que estais no céu...”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Aí, você chamou de novo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Fiz o quê?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Me chamou. Você disse: Pai nosso que estais no céu.               Estou aqui. Como é que posso ajudá-lo?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829933-002"/>
          <p:cNvPicPr/>
          <p:nvPr/>
        </p:nvPicPr>
        <p:blipFill>
          <a:blip r:embed="rId1"/>
          <a:stretch/>
        </p:blipFill>
        <p:spPr>
          <a:xfrm>
            <a:off x="3200400" y="254160"/>
            <a:ext cx="2755800" cy="35557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203480" y="4079880"/>
            <a:ext cx="7178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Mas eu não quis dizer isso. É que estou rezando. Rezo       o Pai Nosso todos os dias. Sinto-me bem rezando assim. É como se fosse um dever. E não me sinto bem até cumpri-lo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Mas como podes dizer Pai Nosso, sem lembrar que todos são seus irmãos? Como podes dizer que estais no céu, se você não sabe  que o céu é a paz, que o céu é ter amor a todos?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829934-002"/>
          <p:cNvPicPr/>
          <p:nvPr/>
        </p:nvPicPr>
        <p:blipFill>
          <a:blip r:embed="rId1"/>
          <a:stretch/>
        </p:blipFill>
        <p:spPr>
          <a:xfrm>
            <a:off x="2971800" y="254160"/>
            <a:ext cx="3556080" cy="34034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285920" y="2928960"/>
            <a:ext cx="7407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É, realmente. Ainda não havia pensado nisso.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Pois então, você está rezando, e rezar é ler ou falar alguma coisa que decorou, sem ao menos meditar e vivenciar o que está falando, então você deve orar quando for falar de Mim, pois orar é falar, é conversar  Comigo. Mas, prossiga sua oração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“Santificado seja o Vosso nome...”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Espere aí! O que você quer dizer com isso?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Quero dizer... quer dizer, é... sei lá o que significa!              Como é que vou saber? Faz parte da oração, só isso!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Santificado significa digno de respeito. Santo. Sagrado.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829934-002"/>
          <p:cNvPicPr/>
          <p:nvPr/>
        </p:nvPicPr>
        <p:blipFill>
          <a:blip r:embed="rId1"/>
          <a:stretch/>
        </p:blipFill>
        <p:spPr>
          <a:xfrm>
            <a:off x="3214800" y="142920"/>
            <a:ext cx="2786040" cy="26668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432080" y="4022640"/>
            <a:ext cx="710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Agora entendi. Mas nunca havia pensado no sentido dessa palavra SANTIFICADO... "Venha a nós o vosso reino, seja feita a vossa vontade, assim na terra como no céu..."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Está falando sério?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Claro! Por que não?</a:t>
            </a:r>
            <a:br>
              <a:rPr sz="2000"/>
            </a:b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E o que você faz para que isso aconteça?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829935-001"/>
          <p:cNvPicPr/>
          <p:nvPr/>
        </p:nvPicPr>
        <p:blipFill>
          <a:blip r:embed="rId1"/>
          <a:stretch/>
        </p:blipFill>
        <p:spPr>
          <a:xfrm>
            <a:off x="3576600" y="254160"/>
            <a:ext cx="2494080" cy="31748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447920" y="3505320"/>
            <a:ext cx="7315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O que faço? Nada! É que faz parte da oração.             Além disso, seria bom que o Senhor tivesse um contro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tudo o que acontecesse no céu e na terra també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Tenho controle sobre você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Bem, eu freqüento a igrej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Não foi isso que Eu perguntei. Que tal o jeito que você                                           trata os seus irmãos, a maneira com que você gasta o seu dinheiro,                                        o muito tempo que você dá à televisão, as propagandas que                                             você corre atrás, e o pouco tempo que você dedica a Mim?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829935-001"/>
          <p:cNvPicPr/>
          <p:nvPr/>
        </p:nvPicPr>
        <p:blipFill>
          <a:blip r:embed="rId1"/>
          <a:stretch/>
        </p:blipFill>
        <p:spPr>
          <a:xfrm>
            <a:off x="3576600" y="254160"/>
            <a:ext cx="2494080" cy="31748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203480" y="4156200"/>
            <a:ext cx="7026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Por favor. Pare de me criticar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Desculpe. Pensei que você estava pedindo para que fosse feita a minha vontade. Se isso for acontecer tem que ser com aqueles que rezam, mas que aceitam a minha vontade, o frio, o sol, a chuva, a natureza, a comunidade.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829937-005"/>
          <p:cNvPicPr/>
          <p:nvPr/>
        </p:nvPicPr>
        <p:blipFill>
          <a:blip r:embed="rId1"/>
          <a:stretch/>
        </p:blipFill>
        <p:spPr>
          <a:xfrm>
            <a:off x="3098880" y="330120"/>
            <a:ext cx="3149640" cy="3556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3886200"/>
            <a:ext cx="8474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TÃO: Está certo, tem razão. Acho que nunca aceito a sua vontade, pois reclamo de tudo: se manda chuva, peço sol; se manda o sol reclamo do calor;         se manda frio, continuo reclamando; se estou doente peço saúde, mas não cuido            dela, deixo de me alimentar ou como muito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DEUS: Ótimo reconhecer tudo isso. Vamos trabalhar juntos Eu e você, mas olha, vamos ter vitórias e derrotas. Eu estou gostando dessa nova atitude sua.</a:t>
            </a:r>
            <a:r>
              <a:rPr b="0" lang="pt-BR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829937-005"/>
          <p:cNvPicPr/>
          <p:nvPr/>
        </p:nvPicPr>
        <p:blipFill>
          <a:blip r:embed="rId1"/>
          <a:stretch/>
        </p:blipFill>
        <p:spPr>
          <a:xfrm>
            <a:off x="3098880" y="330120"/>
            <a:ext cx="3149640" cy="3556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3:09:50Z</dcterms:created>
  <dc:creator>Simone P. Rodrigues</dc:creator>
  <dc:description/>
  <dc:language>en-US</dc:language>
  <cp:lastModifiedBy>Rodrigo Vinhal</cp:lastModifiedBy>
  <dcterms:modified xsi:type="dcterms:W3CDTF">2008-04-15T21:49:38Z</dcterms:modified>
  <cp:revision>18</cp:revision>
  <dc:subject/>
  <dc:title>Pai Nosso Meditado</dc:title>
</cp:coreProperties>
</file>