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4.jpeg" ContentType="image/jpeg"/>
  <Override PartName="/ppt/media/image13.jpeg" ContentType="image/jpeg"/>
  <Override PartName="/ppt/media/image1.jpeg" ContentType="image/jpeg"/>
  <Override PartName="/ppt/media/image2.jpeg" ContentType="image/jpeg"/>
  <Override PartName="/ppt/media/corciolli%20-highlander.wav" ContentType="audio/x-wav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7F8B5-3A0C-46FD-9026-B03B4A44B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CED58-C0D4-4A90-BB3E-1570FE947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36CCF-FB36-4886-8AAA-0F00D3B23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F1B1A-D4A7-4A80-A9E7-40F6653A1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E0ECA-76D7-4E03-BF3A-FE2B153B0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A8BDD-ED8F-49CF-A874-1775ADA52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16ED9-0AE0-4713-8CF8-43FF27CE0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DF2A5-4292-4E25-90C5-312123E98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E0D5E-9116-4A6B-828F-C9BC8E77C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CFD71-9DE7-4198-986E-1B4CD177F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588A8-C292-45F5-B66C-8956EFD9E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CE945-B5DA-4D89-B2DD-ECB1EFBE6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28141-53A3-49B2-B40A-405AB75043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audio" Target="../media/corciolli%20-highlander.wav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hyperlink" Target="http://www.esnips.com/web/MensagensEspritas-PPS" TargetMode="External"/><Relationship Id="rId4" Type="http://schemas.openxmlformats.org/officeDocument/2006/relationships/hyperlink" Target="http://www.livrarianossolar.com.br/ecom/default.php" TargetMode="External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012000" cy="6858000"/>
          </a:xfrm>
          <a:prstGeom prst="rect">
            <a:avLst/>
          </a:prstGeom>
          <a:solidFill>
            <a:srgbClr val="80008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11280" y="404640"/>
            <a:ext cx="6481800" cy="612000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755640" y="620640"/>
            <a:ext cx="3816360" cy="5689800"/>
          </a:xfrm>
          <a:prstGeom prst="rect">
            <a:avLst/>
          </a:prstGeom>
          <a:blipFill rotWithShape="0">
            <a:blip r:embed="rId2"/>
            <a:srcRect/>
            <a:stretch/>
          </a:blipFill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4571640" y="3141720"/>
            <a:ext cx="4321080" cy="622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60033"/>
            </a:outerShdw>
          </a:effectLst>
        </p:spPr>
        <p:txBody>
          <a:bodyPr lIns="90000" rIns="90000" tIns="46800" bIns="4680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a sua garganta é um sepulcro aberto”  Paulo – Rom 3: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859280" y="2205000"/>
            <a:ext cx="3800520" cy="85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22320">
                  <a:solidFill>
                    <a:srgbClr val="ffffff"/>
                  </a:solidFill>
                  <a:miter/>
                </a:ln>
                <a:solidFill>
                  <a:srgbClr val="800080"/>
                </a:solidFill>
                <a:effectLst>
                  <a:outerShdw dist="107932" dir="2700000" blurRad="0" rotWithShape="0">
                    <a:srgbClr val="ffccff">
                      <a:alpha val="50000"/>
                    </a:srgbClr>
                  </a:outerShdw>
                </a:effectLst>
                <a:latin typeface="Arial Black"/>
              </a:rPr>
              <a:t>SEPULCROS ABERTOS</a:t>
            </a:r>
            <a:endParaRPr b="0" lang="en-US" sz="2400" spc="1" strike="noStrike">
              <a:ln w="22320">
                <a:solidFill>
                  <a:srgbClr val="ffffff"/>
                </a:solidFill>
                <a:miter/>
              </a:ln>
              <a:solidFill>
                <a:srgbClr val="800080"/>
              </a:solidFill>
              <a:effectLst>
                <a:outerShdw dist="107932" dir="2700000" blurRad="0" rotWithShape="0">
                  <a:srgbClr val="ffccff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4000"/>
                            </p:stCondLst>
                            <p:childTnLst>
                              <p:par>
                                <p:cTn id="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6012000" cy="6858000"/>
          </a:xfrm>
          <a:prstGeom prst="rect">
            <a:avLst/>
          </a:prstGeom>
          <a:solidFill>
            <a:srgbClr val="80008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411280" y="404640"/>
            <a:ext cx="6481800" cy="612000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55640" y="620640"/>
            <a:ext cx="3816360" cy="5689800"/>
          </a:xfrm>
          <a:prstGeom prst="rect">
            <a:avLst/>
          </a:prstGeom>
          <a:blipFill rotWithShape="0">
            <a:blip r:embed="rId2"/>
            <a:srcRect/>
            <a:stretch/>
          </a:blipFill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1640" y="2862000"/>
            <a:ext cx="43210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60033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Semelhantes aprendizes, profundamente desventurados pela conduta a que se acolhem, afiguram-se-nos, de fato, sepulcros abertos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0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1000"/>
                            </p:stCondLst>
                            <p:childTnLst>
                              <p:par>
                                <p:cTn id="253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500"/>
                            </p:stCondLst>
                            <p:childTnLst>
                              <p:par>
                                <p:cTn id="261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012000" cy="6858000"/>
          </a:xfrm>
          <a:prstGeom prst="rect">
            <a:avLst/>
          </a:prstGeom>
          <a:solidFill>
            <a:srgbClr val="80008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404640"/>
            <a:ext cx="6481800" cy="612000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55640" y="620640"/>
            <a:ext cx="3816360" cy="5689800"/>
          </a:xfrm>
          <a:prstGeom prst="rect">
            <a:avLst/>
          </a:prstGeom>
          <a:blipFill rotWithShape="0">
            <a:blip r:embed="rId2"/>
            <a:srcRect/>
            <a:stretch/>
          </a:blipFill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1640" y="2862000"/>
            <a:ext cx="43210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60033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alam ruínas e tóxicos de mor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8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8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8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8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8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8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8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8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2000"/>
                            </p:stCondLst>
                            <p:childTnLst>
                              <p:par>
                                <p:cTn id="29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8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8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8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8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3000"/>
                            </p:stCondLst>
                            <p:childTnLst>
                              <p:par>
                                <p:cTn id="29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8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8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8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8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012000" cy="6858000"/>
          </a:xfrm>
          <a:prstGeom prst="rect">
            <a:avLst/>
          </a:prstGeom>
          <a:solidFill>
            <a:srgbClr val="80008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411280" y="404640"/>
            <a:ext cx="6481800" cy="612000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55640" y="620640"/>
            <a:ext cx="3816360" cy="5689800"/>
          </a:xfrm>
          <a:prstGeom prst="rect">
            <a:avLst/>
          </a:prstGeom>
          <a:blipFill rotWithShape="0">
            <a:blip r:embed="rId2"/>
            <a:srcRect/>
            <a:stretch/>
          </a:blipFill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1640" y="2862000"/>
            <a:ext cx="43210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60033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Quando te desviares, pois, para o resvaladiço terreno das lamentações e das acusações, quase sempre indébitas, reconsidera os teus passos espirituais e recorda que a nossa garganta deve ser consagrada ao bem, só assim se expressará, por ela, o verbo sublime do Senh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0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13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000"/>
                            </p:stCondLst>
                            <p:childTnLst>
                              <p:par>
                                <p:cTn id="315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17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4000"/>
                            </p:stCondLst>
                            <p:childTnLst>
                              <p:par>
                                <p:cTn id="319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21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6000"/>
                            </p:stCondLst>
                            <p:childTnLst>
                              <p:par>
                                <p:cTn id="323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25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012000" cy="6858000"/>
          </a:xfrm>
          <a:prstGeom prst="rect">
            <a:avLst/>
          </a:prstGeom>
          <a:solidFill>
            <a:srgbClr val="80008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411280" y="404640"/>
            <a:ext cx="6481800" cy="612000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55640" y="620640"/>
            <a:ext cx="3816360" cy="5689800"/>
          </a:xfrm>
          <a:prstGeom prst="rect">
            <a:avLst/>
          </a:prstGeom>
          <a:blipFill rotWithShape="0">
            <a:blip r:embed="rId2"/>
            <a:srcRect/>
            <a:stretch/>
          </a:blipFill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900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57200" y="3147840"/>
            <a:ext cx="8229600" cy="11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Mensagem do livro</a:t>
            </a:r>
            <a:br>
              <a:rPr sz="2000"/>
            </a:b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FONTE VIVA</a:t>
            </a:r>
            <a:br>
              <a:rPr sz="2000"/>
            </a:b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Editado por: FEB</a:t>
            </a:r>
            <a:br>
              <a:rPr sz="2000"/>
            </a:b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Médium: Chico Xavier</a:t>
            </a:r>
            <a:br>
              <a:rPr sz="2000"/>
            </a:b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Espírito: Emmanuel</a:t>
            </a:r>
            <a:br>
              <a:rPr sz="2000"/>
            </a:b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Música: Highlander</a:t>
            </a:r>
            <a:br>
              <a:rPr sz="2000"/>
            </a:b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Intérprete: Corciolli </a:t>
            </a:r>
            <a:br>
              <a:rPr sz="2000"/>
            </a:b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Imagens: Internet</a:t>
            </a:r>
            <a:br>
              <a:rPr sz="2000"/>
            </a:b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Formatação: Manolo Quesada</a:t>
            </a:r>
            <a:br>
              <a:rPr sz="2000"/>
            </a:b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Contato: manolo@livrarianossolar.com.br</a:t>
            </a:r>
            <a:br>
              <a:rPr sz="2000"/>
            </a:b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Tamanho do Arquivo: 1.0 MB</a:t>
            </a:r>
            <a:br>
              <a:rPr sz="2000"/>
            </a:b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Data: 07/07/2009</a:t>
            </a:r>
            <a:br>
              <a:rPr sz="2000"/>
            </a:b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mais mensagens? clique aqui</a:t>
            </a:r>
            <a:br>
              <a:rPr sz="2000"/>
            </a:b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livros espíritas? clique aqui</a:t>
            </a:r>
            <a:br>
              <a:rPr sz="2000"/>
            </a:b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>
            <a:hlinkClick r:id="rId3"/>
          </p:cNvPr>
          <p:cNvSpPr/>
          <p:nvPr/>
        </p:nvSpPr>
        <p:spPr>
          <a:xfrm>
            <a:off x="5076720" y="5157720"/>
            <a:ext cx="1295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>
            <a:hlinkClick r:id="rId4"/>
          </p:cNvPr>
          <p:cNvSpPr/>
          <p:nvPr/>
        </p:nvSpPr>
        <p:spPr>
          <a:xfrm>
            <a:off x="4932360" y="5445000"/>
            <a:ext cx="1295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2643120" y="333360"/>
            <a:ext cx="3800520" cy="85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22320">
                  <a:solidFill>
                    <a:srgbClr val="ffffff"/>
                  </a:solidFill>
                  <a:miter/>
                </a:ln>
                <a:solidFill>
                  <a:srgbClr val="800080"/>
                </a:solidFill>
                <a:effectLst>
                  <a:outerShdw dist="107932" dir="2700000" blurRad="0" rotWithShape="0">
                    <a:srgbClr val="ffccff">
                      <a:alpha val="50000"/>
                    </a:srgbClr>
                  </a:outerShdw>
                </a:effectLst>
                <a:latin typeface="Arial Black"/>
              </a:rPr>
              <a:t>SEPULCROS ABERTOS</a:t>
            </a:r>
            <a:endParaRPr b="0" lang="en-US" sz="2400" spc="1" strike="noStrike">
              <a:ln w="22320">
                <a:solidFill>
                  <a:srgbClr val="ffffff"/>
                </a:solidFill>
                <a:miter/>
              </a:ln>
              <a:solidFill>
                <a:srgbClr val="800080"/>
              </a:solidFill>
              <a:effectLst>
                <a:outerShdw dist="107932" dir="2700000" blurRad="0" rotWithShape="0">
                  <a:srgbClr val="ffccff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>
    <p:circle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4000"/>
                            </p:stCondLst>
                            <p:childTnLst>
                              <p:par>
                                <p:cTn id="34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6000"/>
                            </p:stCondLst>
                            <p:childTnLst>
                              <p:par>
                                <p:cTn id="34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1100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012000" cy="6858000"/>
          </a:xfrm>
          <a:prstGeom prst="rect">
            <a:avLst/>
          </a:prstGeom>
          <a:solidFill>
            <a:srgbClr val="80008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411280" y="404640"/>
            <a:ext cx="6481800" cy="612000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55640" y="620640"/>
            <a:ext cx="3816360" cy="5689800"/>
          </a:xfrm>
          <a:prstGeom prst="rect">
            <a:avLst/>
          </a:prstGeom>
          <a:blipFill rotWithShape="0">
            <a:blip r:embed="rId2"/>
            <a:srcRect/>
            <a:stretch/>
          </a:blipFill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1640" y="2862000"/>
            <a:ext cx="43210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60033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Reportando-se aos espíritos transviados da luz, asseverou Paulo que tem a garganta semelhante a sepulcro aberto e, nessa imagem, podemos emoldurar muitos companheiros, quando se afastam da Estrada Real do Evangelho para os trilhos escabrosos do personalismo delinquen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7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1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2000"/>
                            </p:stCondLst>
                            <p:childTnLst>
                              <p:par>
                                <p:cTn id="33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5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3000"/>
                            </p:stCondLst>
                            <p:childTnLst>
                              <p:par>
                                <p:cTn id="37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9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0"/>
            <a:ext cx="6012000" cy="6858000"/>
          </a:xfrm>
          <a:prstGeom prst="rect">
            <a:avLst/>
          </a:prstGeom>
          <a:solidFill>
            <a:srgbClr val="80008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11280" y="404640"/>
            <a:ext cx="6481800" cy="612000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55640" y="620640"/>
            <a:ext cx="3816360" cy="5689800"/>
          </a:xfrm>
          <a:prstGeom prst="rect">
            <a:avLst/>
          </a:prstGeom>
          <a:blipFill rotWithShape="0">
            <a:blip r:embed="rId2"/>
            <a:srcRect/>
            <a:stretch/>
          </a:blipFill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1640" y="2862000"/>
            <a:ext cx="43210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60033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Logo se instalam no império escuro do “eu”, olvidando as obrigações que nos situam no Reino Divino da Universalidade, transfigura-se-lhes a garganta em verdadeiro túmulo descerrado. Deixam escapar todo o fel envenenado que lhes transborda do íntimo, à maneira dum vaso de lodo, e passam a sintonizar, exclusivamente, com os males que ainda apoquentam vizinhos, amigos e companheir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000"/>
                            </p:stCondLst>
                            <p:childTnLst>
                              <p:par>
                                <p:cTn id="50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2000"/>
                            </p:stCondLst>
                            <p:childTnLst>
                              <p:par>
                                <p:cTn id="5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3000"/>
                            </p:stCondLst>
                            <p:childTnLst>
                              <p:par>
                                <p:cTn id="6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0"/>
            <a:ext cx="6012000" cy="6858000"/>
          </a:xfrm>
          <a:prstGeom prst="rect">
            <a:avLst/>
          </a:prstGeom>
          <a:solidFill>
            <a:srgbClr val="80008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11280" y="404640"/>
            <a:ext cx="6481800" cy="612000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55640" y="620640"/>
            <a:ext cx="3816360" cy="5689800"/>
          </a:xfrm>
          <a:prstGeom prst="rect">
            <a:avLst/>
          </a:prstGeom>
          <a:blipFill rotWithShape="0">
            <a:blip r:embed="rId2"/>
            <a:srcRect/>
            <a:stretch/>
          </a:blipFill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1640" y="2862000"/>
            <a:ext cx="43210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60033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xergam apenas os defeitos, os pontos frágeis e as zonas enfermiças das pessoas de boa vontade que lhes partilham a march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3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2000"/>
                            </p:stCondLst>
                            <p:childTnLst>
                              <p:par>
                                <p:cTn id="7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7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4000"/>
                            </p:stCondLst>
                            <p:childTnLst>
                              <p:par>
                                <p:cTn id="7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1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6000"/>
                            </p:stCondLst>
                            <p:childTnLst>
                              <p:par>
                                <p:cTn id="8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5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0"/>
            <a:ext cx="6012000" cy="6858000"/>
          </a:xfrm>
          <a:prstGeom prst="rect">
            <a:avLst/>
          </a:prstGeom>
          <a:solidFill>
            <a:srgbClr val="80008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411280" y="404640"/>
            <a:ext cx="6481800" cy="612000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55640" y="620640"/>
            <a:ext cx="3816360" cy="5689800"/>
          </a:xfrm>
          <a:prstGeom prst="rect">
            <a:avLst/>
          </a:prstGeom>
          <a:blipFill rotWithShape="0">
            <a:blip r:embed="rId2"/>
            <a:srcRect/>
            <a:stretch/>
          </a:blipFill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1640" y="2862000"/>
            <a:ext cx="43210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60033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Tecem longos comentários no exame de úlceras alheias, ao invés de cura-l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1000"/>
                            </p:stCondLst>
                            <p:childTnLst>
                              <p:par>
                                <p:cTn id="9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2000"/>
                            </p:stCondLst>
                            <p:childTnLst>
                              <p:par>
                                <p:cTn id="10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3000"/>
                            </p:stCondLst>
                            <p:childTnLst>
                              <p:par>
                                <p:cTn id="10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6012000" cy="6858000"/>
          </a:xfrm>
          <a:prstGeom prst="rect">
            <a:avLst/>
          </a:prstGeom>
          <a:solidFill>
            <a:srgbClr val="80008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411280" y="404640"/>
            <a:ext cx="6481800" cy="612000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1640" y="2862000"/>
            <a:ext cx="43210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60033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liminam precioso tempo em palestras compridas e ferinas, enegrecendo as intenções dos outr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5640" y="620640"/>
            <a:ext cx="3816360" cy="5689800"/>
          </a:xfrm>
          <a:prstGeom prst="rect">
            <a:avLst/>
          </a:prstGeom>
          <a:blipFill rotWithShape="0">
            <a:blip r:embed="rId2"/>
            <a:srcRect/>
            <a:stretch/>
          </a:blipFill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1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7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3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3000"/>
                            </p:stCondLst>
                            <p:childTnLst>
                              <p:par>
                                <p:cTn id="13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9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0" y="0"/>
            <a:ext cx="6012000" cy="6858000"/>
          </a:xfrm>
          <a:prstGeom prst="rect">
            <a:avLst/>
          </a:prstGeom>
          <a:solidFill>
            <a:srgbClr val="80008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411280" y="404640"/>
            <a:ext cx="6481800" cy="612000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55640" y="620640"/>
            <a:ext cx="3816360" cy="5689800"/>
          </a:xfrm>
          <a:prstGeom prst="rect">
            <a:avLst/>
          </a:prstGeom>
          <a:blipFill rotWithShape="0">
            <a:blip r:embed="rId2"/>
            <a:srcRect/>
            <a:stretch/>
          </a:blipFill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1640" y="2862000"/>
            <a:ext cx="43210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60033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brecarregam a imaginação de quadros deprimentes, nos domínios da suspeita e da intemperança ment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1000"/>
                            </p:stCondLst>
                            <p:childTnLst>
                              <p:par>
                                <p:cTn id="15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2000"/>
                            </p:stCondLst>
                            <p:childTnLst>
                              <p:par>
                                <p:cTn id="15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3000"/>
                            </p:stCondLst>
                            <p:childTnLst>
                              <p:par>
                                <p:cTn id="165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0" y="0"/>
            <a:ext cx="6012000" cy="6858000"/>
          </a:xfrm>
          <a:prstGeom prst="rect">
            <a:avLst/>
          </a:prstGeom>
          <a:solidFill>
            <a:srgbClr val="80008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11280" y="404640"/>
            <a:ext cx="6481800" cy="612000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55640" y="620640"/>
            <a:ext cx="3816360" cy="5689800"/>
          </a:xfrm>
          <a:prstGeom prst="rect">
            <a:avLst/>
          </a:prstGeom>
          <a:blipFill rotWithShape="0">
            <a:blip r:embed="rId2"/>
            <a:srcRect/>
            <a:stretch/>
          </a:blipFill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1640" y="2862000"/>
            <a:ext cx="43210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60033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bretudo, queixam-se de tudo e de tod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1000"/>
                            </p:stCondLst>
                            <p:childTnLst>
                              <p:par>
                                <p:cTn id="18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2000"/>
                            </p:stCondLst>
                            <p:childTnLst>
                              <p:par>
                                <p:cTn id="18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3000"/>
                            </p:stCondLst>
                            <p:childTnLst>
                              <p:par>
                                <p:cTn id="19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0" y="0"/>
            <a:ext cx="6012000" cy="6858000"/>
          </a:xfrm>
          <a:prstGeom prst="rect">
            <a:avLst/>
          </a:prstGeom>
          <a:solidFill>
            <a:srgbClr val="80008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11280" y="404640"/>
            <a:ext cx="6481800" cy="612000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55640" y="620640"/>
            <a:ext cx="3816360" cy="5689800"/>
          </a:xfrm>
          <a:prstGeom prst="rect">
            <a:avLst/>
          </a:prstGeom>
          <a:blipFill rotWithShape="0">
            <a:blip r:embed="rId2"/>
            <a:srcRect/>
            <a:stretch/>
          </a:blipFill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1640" y="2862000"/>
            <a:ext cx="43210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60033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jetam emanações entorpecentes de má-fé, estendendo o desânimo e a desconfiança contra a prosperidade da santificação, por onde passam, crestando as flores da esperança e aniquilando os frutos imaturos da carida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1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4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4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000"/>
                            </p:stCondLst>
                            <p:childTnLst>
                              <p:par>
                                <p:cTn id="210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1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4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4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2000"/>
                            </p:stCondLst>
                            <p:childTnLst>
                              <p:par>
                                <p:cTn id="218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1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4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4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3000"/>
                            </p:stCondLst>
                            <p:childTnLst>
                              <p:par>
                                <p:cTn id="226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1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4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4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6T16:18:30Z</dcterms:created>
  <dc:creator>Manolo</dc:creator>
  <dc:description/>
  <dc:language>en-US</dc:language>
  <cp:lastModifiedBy>Manolo</cp:lastModifiedBy>
  <dcterms:modified xsi:type="dcterms:W3CDTF">2009-07-07T04:24:04Z</dcterms:modified>
  <cp:revision>5</cp:revision>
  <dc:subject/>
  <dc:title>SEPULCROS ABERTOS</dc:title>
</cp:coreProperties>
</file>