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el%20tamborilero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3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13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9EF-7131-434B-82AB-6053ABA3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7F8-469D-4D17-B617-B18ACB2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277-A7B0-4E6A-A865-0F1CE9D7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03D-899E-464E-9F15-46FFCB0C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808-3605-4CF3-8CF4-4A7D9241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A55-99D1-438B-A8DD-5835F087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14B-9455-4097-87EC-6F211FB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57F-16C6-47F3-BFFD-8C2DCF9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932-1C6B-4C26-942E-090C572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A36-4AA1-45EC-9146-45E3212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133-BF61-434B-BE7F-C91C1AE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138-43AC-4948-81EB-B18BA71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60F-5FBF-46D8-9F36-A8754164E2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23.jpeg"/><Relationship Id="rId60" Type="http://schemas.openxmlformats.org/officeDocument/2006/relationships/image" Target="../media/image12.gif"/><Relationship Id="rId61" Type="http://schemas.openxmlformats.org/officeDocument/2006/relationships/image" Target="../media/image12.gif"/><Relationship Id="rId6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0" y="1082520"/>
            <a:ext cx="8356680" cy="357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¿Vamos fazer um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postal de Natal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Clica aqu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muñeco-por-F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rbol6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christmastreelightshgclbg7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luces1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luces1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luces1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luces1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luces1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luces11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2" descr="luces1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luces11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4" descr="luces1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5"/>
          <p:cNvSpPr/>
          <p:nvPr/>
        </p:nvSpPr>
        <p:spPr>
          <a:xfrm>
            <a:off x="6697800" y="352440"/>
            <a:ext cx="1884240" cy="2184480"/>
          </a:xfrm>
          <a:custGeom>
            <a:avLst/>
            <a:gdLst>
              <a:gd name="textAreaLeft" fmla="*/ 0 w 1884240"/>
              <a:gd name="textAreaRight" fmla="*/ 1884600 w 1884240"/>
              <a:gd name="textAreaTop" fmla="*/ 282960 h 2184480"/>
              <a:gd name="textAreaBottom" fmla="*/ 190152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735600" y="87624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m Natal sem neve não parece Natal! clica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7" descr="humo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8" descr="humo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muñeco-por-F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arbol6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hristmastreelightshgclbg7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luces1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luces1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luces1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luces1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luces1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luces11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luces1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luces11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luces1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13"/>
          <p:cNvSpPr/>
          <p:nvPr/>
        </p:nvSpPr>
        <p:spPr>
          <a:xfrm>
            <a:off x="6307200" y="260280"/>
            <a:ext cx="1400040" cy="1960560"/>
          </a:xfrm>
          <a:custGeom>
            <a:avLst/>
            <a:gdLst>
              <a:gd name="textAreaLeft" fmla="*/ 0 w 1400040"/>
              <a:gd name="textAreaRight" fmla="*/ 1400040 w 1400040"/>
              <a:gd name="textAreaTop" fmla="*/ 254160 h 1960560"/>
              <a:gd name="textAreaBottom" fmla="*/ 170640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4"/>
          <p:cNvSpPr/>
          <p:nvPr/>
        </p:nvSpPr>
        <p:spPr>
          <a:xfrm>
            <a:off x="6288120" y="57780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 nos falta colocar as letras!Clica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15" descr="humo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6" descr="humo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2" descr="angel13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ginarda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ginarda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ginarda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Imagen10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Imagen10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Imagen10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Imagen10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ginarda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muñeco-por-F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arbol6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christmastreelightshgclbg7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luces1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luces1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luces1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luces1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luces1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luces11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luces1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luces11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luces1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0" descr="D"/>
          <p:cNvPicPr/>
          <p:nvPr/>
        </p:nvPicPr>
        <p:blipFill>
          <a:blip r:embed="rId59"/>
          <a:stretch/>
        </p:blipFill>
        <p:spPr>
          <a:xfrm>
            <a:off x="1495440" y="4854600"/>
            <a:ext cx="6373800" cy="1662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3" descr="humo"/>
          <p:cNvPicPr/>
          <p:nvPr/>
        </p:nvPicPr>
        <p:blipFill>
          <a:blip r:embed="rId60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4" descr="humo"/>
          <p:cNvPicPr/>
          <p:nvPr/>
        </p:nvPicPr>
        <p:blipFill>
          <a:blip r:embed="rId61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3" descr="tanbor_1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Imagen10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8"/>
          <p:cNvSpPr/>
          <p:nvPr/>
        </p:nvSpPr>
        <p:spPr>
          <a:xfrm>
            <a:off x="2671920" y="3697200"/>
            <a:ext cx="54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Franklin Gothic Medium"/>
              </a:rPr>
              <a:t>Paz amor e felic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9"/>
          <p:cNvSpPr/>
          <p:nvPr/>
        </p:nvSpPr>
        <p:spPr>
          <a:xfrm>
            <a:off x="2730600" y="2577960"/>
            <a:ext cx="579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Festas Feliz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ginarda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inarda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narda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Imagen10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Imagen10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Imagen10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magen10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ginarda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3"/>
          <p:cNvSpPr/>
          <p:nvPr/>
        </p:nvSpPr>
        <p:spPr>
          <a:xfrm>
            <a:off x="1716120" y="2724120"/>
            <a:ext cx="5503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mos colocar uma imagem no me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lica aq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4" descr="Imagen_de _navidad"/>
          <p:cNvPicPr/>
          <p:nvPr/>
        </p:nvPicPr>
        <p:blipFill>
          <a:blip r:embed="rId1"/>
          <a:stretch/>
        </p:blipFill>
        <p:spPr>
          <a:xfrm>
            <a:off x="1055520" y="7984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5"/>
          <p:cNvSpPr/>
          <p:nvPr/>
        </p:nvSpPr>
        <p:spPr>
          <a:xfrm>
            <a:off x="5538960" y="0"/>
            <a:ext cx="2570040" cy="1708200"/>
          </a:xfrm>
          <a:custGeom>
            <a:avLst/>
            <a:gdLst>
              <a:gd name="textAreaLeft" fmla="*/ 0 w 2570040"/>
              <a:gd name="textAreaRight" fmla="*/ 2570400 w 2570040"/>
              <a:gd name="textAreaTop" fmla="*/ 221400 h 1708200"/>
              <a:gd name="textAreaBottom" fmla="*/ 1486800 h 1708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5499000" y="426960"/>
            <a:ext cx="2787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qua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azem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postal vamos ouvir uma música de Nat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agen_de _navidad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1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na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in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acendê-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TgC_Navidad_83[1]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agen_de _navidad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humo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5392800" y="392040"/>
            <a:ext cx="2611440" cy="1081080"/>
          </a:xfrm>
          <a:custGeom>
            <a:avLst/>
            <a:gdLst>
              <a:gd name="textAreaLeft" fmla="*/ 0 w 2611440"/>
              <a:gd name="textAreaRight" fmla="*/ 2611800 w 261144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450040" y="61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no rio para que a água cor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humo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40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6148440" y="95400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na árvore para acender as luzes de Nat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3" descr="humo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humo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rbol6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christmastreelightshgclbg7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2"/>
          <p:cNvSpPr/>
          <p:nvPr/>
        </p:nvSpPr>
        <p:spPr>
          <a:xfrm>
            <a:off x="5786280" y="650880"/>
            <a:ext cx="1951200" cy="1089000"/>
          </a:xfrm>
          <a:custGeom>
            <a:avLst/>
            <a:gdLst>
              <a:gd name="textAreaLeft" fmla="*/ 0 w 1951200"/>
              <a:gd name="textAreaRight" fmla="*/ 1951560 w 195120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588024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no telhado para iluminar a ca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4" descr="humo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humo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rbol6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hristmastreelightshgclbg7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luces1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luces1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luces1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luces1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luces1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luces11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muñeco-por-Felipe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3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5784840" y="6714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boneco de neve está demasiado quieto! Clica ne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5" descr="humo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humo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Imagen1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ginarda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ginarda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inarda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Imagen10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magen10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Imagen10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Imagen10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ginarda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muñeco-por-F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arbol6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hristmastreelightshgclbg7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luces1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luces1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luces1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luces1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luces1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luces11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5"/>
          <p:cNvSpPr/>
          <p:nvPr/>
        </p:nvSpPr>
        <p:spPr>
          <a:xfrm>
            <a:off x="5916600" y="411120"/>
            <a:ext cx="1828800" cy="1604880"/>
          </a:xfrm>
          <a:custGeom>
            <a:avLst/>
            <a:gdLst>
              <a:gd name="textAreaLeft" fmla="*/ 0 w 1828800"/>
              <a:gd name="textAreaRight" fmla="*/ 1829160 w 1828800"/>
              <a:gd name="textAreaTop" fmla="*/ 208080 h 1604880"/>
              <a:gd name="textAreaBottom" fmla="*/ 1396800 h 1604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5972040" y="7272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a na ponte e ilumina-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7" descr="humo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" descr="humo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43:47Z</dcterms:created>
  <dc:creator>Fejula</dc:creator>
  <dc:description>Navidad_2008</dc:description>
  <dc:language>en-US</dc:language>
  <cp:lastModifiedBy>Sandra Aguiar</cp:lastModifiedBy>
  <dcterms:modified xsi:type="dcterms:W3CDTF">2009-12-07T22:52:18Z</dcterms:modified>
  <cp:revision>39</cp:revision>
  <dc:subject/>
  <dc:title>Hacemos una felicitación</dc:title>
</cp:coreProperties>
</file>