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80F-8335-4CC9-BF5C-B6C8C04E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16E-2ACA-4AEE-A522-28D78E5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800-3572-4AD8-BC34-AB8F0A6C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095-F6A5-4E67-9BA1-04366929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1B5-D83A-4284-8462-7030FAC2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4B81-4FEB-48C8-9D07-5A972135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673-29F0-4F3E-B24E-EE1C2829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CFB2-B039-49B7-9617-3CD11DD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67DF-BA87-439B-A931-84031C6F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5F98-CEA7-45F4-AB7F-B8C99013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940B-BB21-4C29-9FF1-BF4D47CA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58C-EDEE-40BD-86C7-B3DAB5B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3729-A790-4635-8D6E-11018E3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522-9FBE-42AF-8317-B10D0C3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3727-D0FD-446E-866C-C187AC0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97F-F7EA-4BC5-BABC-66C355BD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C1B9-6D76-4FF5-B603-DCFB4CA4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C96-B5D9-4519-B219-D5CE610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20E-478C-4784-9737-C7293B9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0F9-CE38-4433-A338-BBDE5CC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989-C135-4660-9F61-A4791A2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A66-C35B-4D45-A3EB-2F43B73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23C-471B-4333-95EC-DBD0099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937-BF52-463B-A23F-51FFDC5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51C-A53D-4E0D-88B1-6ED5589847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B078-A7F4-4C43-B1C7-95B7C5B7CE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379440"/>
            <a:ext cx="9072720" cy="578628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3" descr="O por do sol e o bolero de ravel.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Imagem 20" descr="O por do sol e o bolero de ravel.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8"/>
          <p:cNvSpPr txBox="1"/>
          <p:nvPr/>
        </p:nvSpPr>
        <p:spPr>
          <a:xfrm>
            <a:off x="1258920" y="1628640"/>
            <a:ext cx="6595920" cy="26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4">
                    <a:alphaModFix amt="94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Foto histórica </a:t>
            </a:r>
            <a:endParaRPr b="1" i="1" lang="en-US" sz="18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5">
                  <a:alphaModFix amt="94000"/>
                </a:blip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6">
                    <a:alphaModFix amt="94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  </a:t>
            </a:r>
            <a:r>
              <a:rPr b="1" i="1" lang="en-US" sz="18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7">
                    <a:alphaModFix amt="94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da MPB</a:t>
            </a:r>
            <a:endParaRPr b="1" i="1" lang="en-US" sz="18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8">
                  <a:alphaModFix amt="94000"/>
                </a:blip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93" name=""/>
          <p:cNvSpPr/>
          <p:nvPr/>
        </p:nvSpPr>
        <p:spPr>
          <a:xfrm>
            <a:off x="5860800" y="6505560"/>
            <a:ext cx="132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Avanço automático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7" presetSubtype="8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7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900000" y="6164280"/>
            <a:ext cx="7489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Primeiro, vamos aos sete super-conhecidos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34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86000" y="55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9440" y="93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8160" y="2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309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1800" y="1744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8520" y="167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42080" y="3406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15360" y="58928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Zé K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4840" y="63752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Vinicius de Mo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62360" y="58928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Paulinho da Vi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22640" y="58928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Caetano Vel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49960" y="63752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. Chico Buar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82640" y="63752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Braguin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680" y="58928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Tom Job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11280" y="6237360"/>
            <a:ext cx="777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Tem três que até dá para reconhecer..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720" y="1384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1800" y="1960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21080" y="1239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27360" y="59500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. Dori Caym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56360" y="6381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. Francis Hy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6000" y="5950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. Edu Lo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6160" y="5937120"/>
            <a:ext cx="476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ste foi meu amigo na adolescência. Filho do Dorival Caymm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rávamos na rua Felipe de Oliveira, em Copacabana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395280" y="6093000"/>
            <a:ext cx="8282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Os "experts" descobriram mais dois e a cantora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73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5520" y="115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3800" y="166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21080" y="1960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80120" y="616572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. Dircinha Bat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68000" y="61578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. Eumir Deoda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2280" y="61578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. Sidney Mi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39640" y="6165720"/>
            <a:ext cx="8064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Tem mais duas mulheres conhecidas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88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385640" y="2535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3960" y="210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52560" y="6230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. Olívia Hy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4200" y="6237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. T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39640" y="6237360"/>
            <a:ext cx="835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Ah, agora só os "fora-de-série" reconheceram !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201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197080" y="3110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9800" y="952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48760" y="60148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. Luis E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25920" y="623088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. Capin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0520" y="6230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19. Luiz Bonf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3800" y="60148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. Torquato N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8720" y="210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720" y="8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360" y="379440"/>
            <a:ext cx="9072720" cy="578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920" y="6238800"/>
            <a:ext cx="856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Você consegue identificar as personalidades presentes 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95280" y="6093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Finalmente, o último só se V. for mágico 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ou tivesse, à época, conhecido o próprio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218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349440" y="2463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enci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18960" y="61578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. Nelson M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08720" y="539280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que para continu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58760" y="6165720"/>
            <a:ext cx="8734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Estão aí, então, as personalidades desvendadas !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229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35120" y="6165720"/>
            <a:ext cx="77976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agora, vamos a todo o conjunto.</a:t>
            </a:r>
            <a:endParaRPr b="0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234" name=""/>
          <p:cNvSpPr/>
          <p:nvPr/>
        </p:nvSpPr>
        <p:spPr>
          <a:xfrm>
            <a:off x="138420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7775280" cy="1698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2560" y="44280"/>
            <a:ext cx="7777080" cy="5004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734440" y="4768920"/>
            <a:ext cx="1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lique para encerrar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7775280" cy="1698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82560" y="44280"/>
            <a:ext cx="7777080" cy="500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340000" y="3213000"/>
            <a:ext cx="4519440" cy="68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m abraço do M@ninho.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66680" y="3895560"/>
            <a:ext cx="71056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Você pode até não ter concordado comigo quanto às dificuldades, mas valeu pelo entretenimento.</a:t>
            </a:r>
            <a:endParaRPr b="1" lang="en-US" sz="12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60" y="379440"/>
            <a:ext cx="9072720" cy="578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0920" y="6238800"/>
            <a:ext cx="856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Olhe bem. Algumas até que são fáceis de reconhecer . . 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60" y="379440"/>
            <a:ext cx="9072720" cy="578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0920" y="6238800"/>
            <a:ext cx="856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São vinte estrelas de primeira grandeza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7280" y="333360"/>
            <a:ext cx="655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Na minha opinião, V. tem que saber,</a:t>
            </a:r>
            <a:endParaRPr b="0" lang="en-US" sz="1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elo menos, de sete deles, super-conhecidos !</a:t>
            </a:r>
            <a:endParaRPr b="0" lang="en-US" sz="1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3280" y="1125360"/>
            <a:ext cx="612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Tem três que até dá para reconhecer, </a:t>
            </a:r>
            <a:endParaRPr b="0" lang="en-US" sz="1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1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se V. tem um bom conhecimento dos</a:t>
            </a:r>
            <a:endParaRPr b="0" lang="en-US" sz="1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en-US" sz="1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grandes autores da época.</a:t>
            </a:r>
            <a:endParaRPr b="0" lang="en-US" sz="1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227664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propósito, um deles foi meu amigo no início dos anos 60 </a:t>
            </a:r>
            <a:endParaRPr b="0" i="1" lang="en-US" sz="1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 morava em Copacabana, na mesma rua que eu.</a:t>
            </a:r>
            <a:endParaRPr b="0" i="1" lang="en-US" sz="1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3141720"/>
            <a:ext cx="882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m dois que V. tem que ser "expert" para reconhecê-los.</a:t>
            </a:r>
            <a:endParaRPr b="0" lang="en-US" sz="1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US" sz="14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 mais uma famosa cantora que é difícil de distinguir.</a:t>
            </a:r>
            <a:endParaRPr b="0" lang="en-US" sz="14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5516640"/>
            <a:ext cx="882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E, finalmente, tem um que só se V. tiver sido </a:t>
            </a:r>
            <a:endParaRPr b="0" lang="en-US" sz="1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amigo dele àquela época. Por coincidência,</a:t>
            </a:r>
            <a:endParaRPr b="0" lang="en-US" sz="1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ele faz dupla com o meu amigo de adolescência.</a:t>
            </a:r>
            <a:endParaRPr b="0" lang="en-US" sz="1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4005360"/>
            <a:ext cx="882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Tem duas mulheres que vai ser muito difícil V. saber quem são.</a:t>
            </a:r>
            <a:endParaRPr b="0" lang="en-US" sz="1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Uma delas, eu reconheci. A outra, eu nem fazia idéia de quem era.</a:t>
            </a:r>
            <a:endParaRPr b="0" lang="en-US" sz="1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08000" y="6165720"/>
            <a:ext cx="889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Repito:  São vinte estrelas de primeira grandeza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8000" y="6165720"/>
            <a:ext cx="889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Bem, olhe com atenção e vá anotando os que V. souber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5786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633840" y="6281640"/>
            <a:ext cx="23241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ffff00"/>
                </a:solidFill>
                <a:latin typeface="Verdana"/>
              </a:rPr>
              <a:t>Clique quando V. tiver terminado.</a:t>
            </a:r>
            <a:endParaRPr b="1" lang="en-US" sz="1000" spc="1" strike="noStrike">
              <a:ln w="0">
                <a:noFill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Imagem 20" descr="O por do sol e o bolero de ravel..jpg"/>
          <p:cNvPicPr/>
          <p:nvPr/>
        </p:nvPicPr>
        <p:blipFill>
          <a:blip r:embed="rId1"/>
          <a:stretch/>
        </p:blipFill>
        <p:spPr>
          <a:xfrm>
            <a:off x="460836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23" descr="O por do sol e o bolero de ravel..jpg"/>
          <p:cNvPicPr/>
          <p:nvPr/>
        </p:nvPicPr>
        <p:blipFill>
          <a:blip r:embed="rId2"/>
          <a:stretch/>
        </p:blipFill>
        <p:spPr>
          <a:xfrm>
            <a:off x="712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82560" y="2925720"/>
            <a:ext cx="76345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Showcard Gothic"/>
              </a:rPr>
              <a:t>Bem, vamos desvendar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latin typeface="Showcard Gothic"/>
              </a:rPr>
              <a:t>as identidades!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latin typeface="Showcard Gothic"/>
              <a:ea typeface="Showcard Gothic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0:54:28Z</dcterms:created>
  <dc:creator>M@ninho</dc:creator>
  <dc:description>- Aproveitando a foto que foi enviada por meu primo Carlos Augusto.</dc:description>
  <dc:language>en-US</dc:language>
  <cp:lastModifiedBy>Maninho</cp:lastModifiedBy>
  <dcterms:modified xsi:type="dcterms:W3CDTF">2010-08-19T18:54:34Z</dcterms:modified>
  <cp:revision>32</cp:revision>
  <dc:subject>Teste de memória</dc:subject>
  <dc:title>Foto histórica da MPB</dc:title>
</cp:coreProperties>
</file>