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(Acama)%20Toscana%20Magic%20%5B01%5D%20Ceramica.wav" ContentType="audio/x-wav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BC33-ADF6-4D05-AB12-F8F157F55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97BF-BB3F-4163-9D65-1D267D5C7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6B1C-E752-43F4-B5D2-BA00E14BC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A7F7-9212-469E-8A92-64A060ACD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8015-94AF-4C67-84DF-F74D00C44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D52D-D526-4BC3-88E0-C6E558128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CA85-089F-4D26-A3ED-5C9866ADF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1A8C-3C94-48B5-BA63-0318EA994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A796-B841-42D5-B7B9-B7B02EED5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2A80-80B1-4C94-B08C-909BA197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AAED-AE78-4CB4-87B4-B1682FDCA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D306-9567-47FE-8334-919EAEB9F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40CBD-CDF4-425A-BC29-77AF20C873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(Acama)%20Toscana%20Magic%20%5B01%5D%20Ceramica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3080" y="1028880"/>
            <a:ext cx="8230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OldEnglishD"/>
              </a:rPr>
              <a:t>O QUE FAZ O MEDO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6093000"/>
            <a:ext cx="54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 Condensed"/>
              </a:rPr>
              <a:t>LIGUE O SOM E CL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75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75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75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75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750"/>
                            </p:stCondLst>
                            <p:childTnLst>
                              <p:par>
                                <p:cTn id="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457200"/>
            <a:ext cx="86104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a terra em guerra, havia um rei que causava espanto.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mpre que fazia prisioneiros, não os matava: levava-os a uma sala  onde havia um grupo de arqueiros de um lado e uma imensa porta de ferro do outro, sobre a qual viam-se gravadas figuras de caveiras cobertas por sang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sta sala ele os fazia enfileirar-se em círculo e dizia-lhes, entã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cês podem escolher entre morrerem  flechados por meus arqueiros ou passarem por aquela porta e por mim serem lá trancados"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dos escolhiam serem mortos pelos arquei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3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1143000"/>
            <a:ext cx="84582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o terminar a guerra, um soldado que por muito tempo servira ao rei dirigiu-se ao soberano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Senhor, posso lhe fazer uma pergunt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Diga, sold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O que havia por detrás da assustadora port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Vá e veja você mesm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soldado, então, abre vagarosamente a porta e, à medida em que o faz, raios de sol vão adentrando e clareando o ambiente... E, finalmente, ele descobre, surpreso, que.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3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4038480"/>
            <a:ext cx="8686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 soldado, admirado, apenas olha seu rei, que diz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Eu dava a eles a escolha, mas preferiram morrer a arriscar-se a abrir esta por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80880"/>
            <a:ext cx="778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..a porta se abria sobre um caminho que conduzia à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IBERDAD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3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900"/>
                            </p:stCondLst>
                            <p:childTnLst>
                              <p:par>
                                <p:cTn id="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3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1295280"/>
            <a:ext cx="78166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antas portas deixamos de abrir pelo medo de arrisc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antas vezes perdemos a liberdade e morremos por dentro, apenas por sentirmos medo de abrir a porta de nossos sonhos?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nse nisso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75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75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75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75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676520"/>
            <a:ext cx="9124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Garamond"/>
              </a:rPr>
              <a:t>Uma ótima semana,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Garamond"/>
              </a:rPr>
              <a:t>sem medo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Garamond"/>
              </a:rPr>
              <a:t>de abrir novas portas !!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621480" y="6400800"/>
            <a:ext cx="28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Symbol"/>
                <a:ea typeface="Symbol"/>
              </a:rPr>
              <a:t></a:t>
            </a:r>
            <a:r>
              <a:rPr b="0" lang="pt-BR" sz="2400" spc="-1" strike="noStrike">
                <a:solidFill>
                  <a:srgbClr val="ffff00"/>
                </a:solidFill>
                <a:latin typeface="Aeolus"/>
              </a:rPr>
              <a:t> </a:t>
            </a:r>
            <a:r>
              <a:rPr b="0" lang="pt-BR" sz="2400" spc="-1" strike="noStrike">
                <a:solidFill>
                  <a:srgbClr val="ffff00"/>
                </a:solidFill>
                <a:latin typeface="Aeolus"/>
              </a:rPr>
              <a:t>Marijot Lasser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75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75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75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75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9750"/>
                            </p:stCondLst>
                            <p:childTnLst>
                              <p:par>
                                <p:cTn id="6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3T22:28:16Z</dcterms:created>
  <dc:creator>Marijot Lasserve</dc:creator>
  <dc:description/>
  <dc:language>en-US</dc:language>
  <cp:lastModifiedBy>MARTA</cp:lastModifiedBy>
  <dcterms:modified xsi:type="dcterms:W3CDTF">2008-03-04T15:07:36Z</dcterms:modified>
  <cp:revision>3</cp:revision>
  <dc:subject/>
  <dc:title>O QUE FAZ O MEDO</dc:title>
</cp:coreProperties>
</file>