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2.gif" ContentType="image/gif"/>
  <Override PartName="/ppt/media/image9.jpeg" ContentType="image/jpeg"/>
  <Override PartName="/ppt/media/image11.jpeg" ContentType="image/jpeg"/>
  <Override PartName="/ppt/media/image4.gif" ContentType="image/gif"/>
  <Override PartName="/ppt/media/image7.png" ContentType="image/png"/>
  <Override PartName="/ppt/media/image5.gif" ContentType="image/gif"/>
  <Override PartName="/ppt/media/image19.jpeg" ContentType="image/jpeg"/>
  <Override PartName="/ppt/media/image1.gif" ContentType="image/gif"/>
  <Override PartName="/ppt/media/image20.png" ContentType="image/png"/>
  <Override PartName="/ppt/media/image18.png" ContentType="image/png"/>
  <Override PartName="/ppt/media/image15.jpeg" ContentType="image/jpeg"/>
  <Override PartName="/ppt/media/image14.gif" ContentType="image/gif"/>
  <Override PartName="/ppt/media/image17.gif" ContentType="image/gif"/>
  <Override PartName="/ppt/media/image21.jpeg" ContentType="image/jpeg"/>
  <Override PartName="/ppt/media/image16.png" ContentType="image/png"/>
  <Override PartName="/ppt/media/image13.png" ContentType="image/png"/>
  <Override PartName="/ppt/media/image6.png" ContentType="image/png"/>
  <Override PartName="/ppt/media/image3.gif" ContentType="image/gif"/>
  <Override PartName="/ppt/media/Ernesto%20Cortazar%20-%20Counting%20the%20stars.wav" ContentType="audio/x-wav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BC22-E2A8-428F-A8C9-7FA1A1A3E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8CBC-0AFD-47F4-B105-ECF14A047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F5D6-B825-4C34-8812-ADD8D1C8D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16EC-97A1-40E9-BFE1-A6F9DEA9D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A127-F8D4-4240-9172-870C8F50D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0B7F-BF69-45A9-A05F-D62669B46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CC1F-F30D-4951-9709-4D5132586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8D05-0828-4FCA-8C82-4863AA51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5A5C-676B-4816-96BB-E7021AFA1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1412-2BAF-4584-9BC7-BD2B1C7D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9FF3-853D-4350-B9AA-44975A3D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7499-D445-44A3-86AD-26487726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DDA2D-DE8D-43AB-A578-72B2EC759C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audio" Target="../media/Ernesto%20Cortazar%20-%20Counting%20the%20stars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2565360"/>
            <a:ext cx="799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40360" y="6381720"/>
            <a:ext cx="320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Comic Sans MS"/>
              </a:rPr>
              <a:t>raquelfogo@hotmai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88840" y="4941720"/>
            <a:ext cx="8255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Vacina contra depressã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68360" y="5661000"/>
            <a:ext cx="8397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99"/>
                </a:solidFill>
                <a:latin typeface="Comic Sans MS"/>
              </a:rPr>
              <a:t>Vacina contra depressã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020000" y="3500280"/>
            <a:ext cx="1439640" cy="1657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95280" y="260280"/>
            <a:ext cx="1512720" cy="1368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443640" y="0"/>
            <a:ext cx="27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Comic Sans MS"/>
              </a:rPr>
              <a:t>raquelfogo@hotmail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4" name="Ernesto%20Cortazar%20-%20Counting%20the%20star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200214162-001" descr=""/>
          <p:cNvPicPr/>
          <p:nvPr/>
        </p:nvPicPr>
        <p:blipFill>
          <a:blip r:embed="rId1"/>
          <a:srcRect l="0" t="8547" r="0" b="0"/>
          <a:stretch/>
        </p:blipFill>
        <p:spPr>
          <a:xfrm>
            <a:off x="0" y="0"/>
            <a:ext cx="565164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003640" y="1170360"/>
            <a:ext cx="4140360" cy="45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Comic Sans MS"/>
              </a:rPr>
              <a:t>PERDÃO 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Comic Sans MS"/>
              </a:rPr>
              <a:t>O ato de perdoar não é apenas uma recomendação religiosa, é mais uma atitude terapêutica e preventiva contra males maiores do que o mal recebido. O esquecimento do mal é atividade de um coração generoso.</a:t>
            </a:r>
            <a:r>
              <a:rPr b="1" lang="en-US" sz="2800" spc="-1" strike="noStrike">
                <a:solidFill>
                  <a:srgbClr val="ff9933"/>
                </a:solidFill>
                <a:latin typeface="Comic Sans MS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f9933"/>
                </a:solidFill>
                <a:latin typeface="Comic Sans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45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900000" y="692280"/>
            <a:ext cx="60850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erdoar a si mesmo é entender que errar faz parte do crescimento, é aceitar a sua condição humana. 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200214242-001" descr=""/>
          <p:cNvPicPr/>
          <p:nvPr/>
        </p:nvPicPr>
        <p:blipFill>
          <a:blip r:embed="rId1"/>
          <a:srcRect l="0" t="9144" r="0" b="0"/>
          <a:stretch/>
        </p:blipFill>
        <p:spPr>
          <a:xfrm>
            <a:off x="0" y="0"/>
            <a:ext cx="521964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148360" y="-7920"/>
            <a:ext cx="3995640" cy="63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CEITAÇÃO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ceitar o que é inevitável na vida, como a morte de um ser querido,perda da juventude; deficiência física ou invalidez. Também mudança de nível social, de ambiente etc. A aceitação é também compreensão que tudo que acontece ao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sso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redor é instrumento para amadurecimento espiritual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.  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79280" y="333360"/>
            <a:ext cx="849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É 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Quem possui muita fé em si mesmo e em Deus possui a maior vacina contra a depressão pois ela é o oposto de todos os sintomas que trazem a doenç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50920" y="2565360"/>
            <a:ext cx="8893080" cy="4751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200245223-001" descr=""/>
          <p:cNvPicPr/>
          <p:nvPr/>
        </p:nvPicPr>
        <p:blipFill>
          <a:blip r:embed="rId1"/>
          <a:srcRect l="0" t="8236" r="0" b="0"/>
          <a:stretch/>
        </p:blipFill>
        <p:spPr>
          <a:xfrm>
            <a:off x="0" y="-135000"/>
            <a:ext cx="5508720" cy="6993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932360" y="1857240"/>
            <a:ext cx="421164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Enfim, todo sofrimento do homem tem origem no afastamento de sua luz interior. Quando Deus fica longe de nossa vida, ficamos afastados da alegria de viver.   </a:t>
            </a:r>
            <a:br>
              <a:rPr sz="2400"/>
            </a:b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200214261-001" descr=""/>
          <p:cNvPicPr/>
          <p:nvPr/>
        </p:nvPicPr>
        <p:blipFill>
          <a:blip r:embed="rId1"/>
          <a:srcRect l="0" t="8236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900000" y="4869000"/>
            <a:ext cx="77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ortanto,busque o auxilio divino, e não se esqueça do  terapeuta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200245221-001" descr=""/>
          <p:cNvPicPr/>
          <p:nvPr/>
        </p:nvPicPr>
        <p:blipFill>
          <a:blip r:embed="rId1"/>
          <a:srcRect l="0" t="8236" r="0" b="0"/>
          <a:stretch/>
        </p:blipFill>
        <p:spPr>
          <a:xfrm>
            <a:off x="0" y="-65160"/>
            <a:ext cx="9144000" cy="69231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68360" y="5516640"/>
            <a:ext cx="8281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usque a felic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cê merec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239840" y="1576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443700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E... Tenha lindos dia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867280" y="5805360"/>
            <a:ext cx="2160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588760" y="3229560"/>
            <a:ext cx="396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ACINA CONTRA A DEPRESSÃO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658440"/>
            <a:ext cx="8820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ff"/>
                </a:solidFill>
                <a:latin typeface="Comic Sans MS"/>
              </a:rPr>
              <a:t>Lendo e estudando sobre a depressão trazemos aqui uma súmula dos meios de prevenir essa patologia, mais mental do que física, que traz sérios prejuízos para a vida social e espiritual do ser humano.</a:t>
            </a:r>
            <a:r>
              <a:rPr b="1" lang="en-US" sz="3200" spc="-1" strike="noStrike">
                <a:solidFill>
                  <a:srgbClr val="cc66ff"/>
                </a:solidFill>
                <a:latin typeface="Comic Sans MS"/>
              </a:rPr>
              <a:t>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2924280"/>
            <a:ext cx="9144000" cy="3933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580000" y="4437000"/>
            <a:ext cx="32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Citamos vários itens que podem evitar a depressão: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427640" y="1109160"/>
            <a:ext cx="4716360" cy="48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cc"/>
                </a:solidFill>
                <a:latin typeface="Comic Sans MS"/>
              </a:rPr>
              <a:t>RELIGIOSIDADE 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cc"/>
                </a:solidFill>
                <a:latin typeface="Comic Sans MS"/>
              </a:rPr>
              <a:t>O estudo de uma religião esclarecida traz a conformação, o sentimento de fraternidade e perdão. Ajuda a aceitação de doenças, deficiências e morte de entes queridos. Sabendo que tudo é temporário e que nenhuma dor, carência, deficiência ou doença é eterna, torna-se mais fácil a vivência na terra.  </a:t>
            </a:r>
            <a:br>
              <a:rPr sz="2400"/>
            </a:b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200214031-001" descr=""/>
          <p:cNvPicPr/>
          <p:nvPr/>
        </p:nvPicPr>
        <p:blipFill>
          <a:blip r:embed="rId1"/>
          <a:srcRect l="0" t="8483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4199400"/>
            <a:ext cx="9144000" cy="29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ERDA DO ORGULHO 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 criatura com orgulho acentuado possui muita abertura para a depressão. Ofende-se facilmente, isola-se das pessoas com quem não se afina e sente-se vítima do mundo sem nunca praticar a auto análise necessária para um maior entendimento das situações. A humildade não nos dá brechas para ofensas ou mágoas inúteis.</a:t>
            </a:r>
            <a:r>
              <a:rPr b="1" lang="en-US" sz="2400" spc="-1" strike="noStrike">
                <a:solidFill>
                  <a:srgbClr val="ff7c80"/>
                </a:solidFill>
                <a:latin typeface="Comic Sans MS"/>
              </a:rPr>
              <a:t>  </a:t>
            </a:r>
            <a:br>
              <a:rPr sz="2400"/>
            </a:br>
            <a:r>
              <a:rPr b="1" lang="en-US" sz="2400" spc="-1" strike="noStrike">
                <a:solidFill>
                  <a:srgbClr val="ff9900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435640" y="0"/>
            <a:ext cx="352908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3716280"/>
            <a:ext cx="7777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ERDA DO EGOCENTRIS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essoas muito centradas em si mesma, sofrem demasiadamente quando não recebe atenção que acha que merece. Criança ou jovem muito mimados não conseguem aceitar a indiferença do mundo aos seus desejos. Esta é uma das grande causadora dos estados depress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89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68360" y="26028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cc"/>
                </a:solidFill>
                <a:latin typeface="Comic Sans MS"/>
              </a:rPr>
              <a:t>Quando direcionamos nossas atenções aos outros sentimo-nos felizes ao sermos úteis e esquecemos das próprias 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140360" y="620640"/>
            <a:ext cx="500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RABALHO 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 mente ocupada num trabalho que traz prazer e recompensa (mais emocional do que financeira) não dá abertura para se deprimir. 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692360" y="4292640"/>
            <a:ext cx="561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ff"/>
                </a:solidFill>
                <a:latin typeface="Comic Sans MS"/>
              </a:rPr>
              <a:t>TRABALHO 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ff"/>
                </a:solidFill>
                <a:latin typeface="Comic Sans MS"/>
              </a:rPr>
              <a:t>A mente ocupada num trabalho que traz prazer e recompensa (mais emocional do que financeira) não dá abertura para se deprim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932360" y="1294560"/>
            <a:ext cx="421164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OTIMISMO 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Um dos melhores fatores antidepressivo é o otimismo, porque a criatura observa o mundo que a rodeia de forma sempre positiva o que impede que nasçam, em si, focos de baixo estima, que gera a depressão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 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2800"/>
            </a:b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59280" cy="7316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3T20:02:03Z</dcterms:created>
  <dc:creator>rkberger</dc:creator>
  <dc:description/>
  <dc:language>en-US</dc:language>
  <cp:lastModifiedBy>rkberger</cp:lastModifiedBy>
  <dcterms:modified xsi:type="dcterms:W3CDTF">2009-04-13T20:19:45Z</dcterms:modified>
  <cp:revision>2</cp:revision>
  <dc:subject/>
  <dc:title>Slide 1</dc:title>
</cp:coreProperties>
</file>