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8.gif" ContentType="image/gif"/>
  <Override PartName="/ppt/media/image4.jpeg" ContentType="image/jpeg"/>
  <Override PartName="/ppt/media/image21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png" ContentType="image/png"/>
  <Override PartName="/ppt/media/10%20CONQUEST%20OF%20PARADISE.wav" ContentType="audio/x-wav"/>
  <Override PartName="/ppt/media/image2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A1E-0A08-48C2-BC77-9D9B6D18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AF2-DFDF-46F4-BD53-84CA7FC1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11F-80E3-4F3B-84AC-BD31EA8F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143-4121-4C62-A9C7-D185D811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AE2-CD77-45FE-AF41-C18E84FC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938-2942-4E0D-96F3-2C3F7CD5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264-51B3-4E4D-BE39-5DBE0620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289-C077-40AF-92EA-3BB9647E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A4C-C0F3-4827-B549-9B2FEAC9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A75-5149-499E-BE9F-576D31ED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61A-308F-4986-9972-C2163DB6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DBD-D194-4669-AF9A-B23EEF9C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F683-D2DD-46F0-BA63-6CA038997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0%20CONQUEST%20OF%20PARADI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4920" y="549360"/>
            <a:ext cx="51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Elephant"/>
              </a:rPr>
              <a:t>O PODER DO SILÊNCIO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4360" y="4005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diamond/>
    <p:sndAc>
      <p:stSnd>
        <p:snd r:embed="rId2" name="10%20CONQUEST%20OF%20PARADI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530064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O Sol nasce e se põe em profunda quietude; move gigantescos sistemas planetários, mas penetra suavemente pela vidraça de uma janela sem a queb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260280"/>
            <a:ext cx="777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credita-se que o silêncio não combina com o poder, pois este tem se confundido com prepotência e violênci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4920" y="5416560"/>
            <a:ext cx="84265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Acaricia as pétalas de uma rosa sem a ferir, e beija as faces de uma criança adormecida sem a acordar; aí uma vez vamos encontrar na natureza lições preciosas a nos dizer que o verdadeiro poder anda de mãos dadas com a quietude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7777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5084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s estrelas e galáxias descrevem as suas órbitas com estupenda velocidade pelas vias inexploradas do cosmos, mas nunca deram sinal da sua presença pelo mais leve ruíd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2808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굴림"/>
              </a:rPr>
              <a:t>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O oxigênio, poderoso mantenedor da vida, penetra em nossos pulmões, circula discreto pelo nosso corpo, e nem lhe notamos a presenç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148360" y="2637000"/>
            <a:ext cx="367344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굴림"/>
              </a:rPr>
              <a:t>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A luz, a vida e o espírito, os maiores poderes do universo, atuam com a suavidade de uma aparente aus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162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81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Como nos domínios da natureza, o verdadeiro poder do homem não consiste em atos de violência física, quando um homem conquista o verdadeiro poder, toda a antiga violência acaba em benevol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5805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 violência é sinal de fraqueza, a benevolência é indício de pod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AT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2735280" cy="33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Os grandes mestres sabem ser severos e rigorosos sem renegarem a mais perfeita quietude e benevolência.</a:t>
            </a:r>
            <a:br>
              <a:rPr sz="2000"/>
            </a:b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216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굴림"/>
              </a:rPr>
              <a:t>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Deus, que é o supremo poder, age com tamanha quietude que a maioria dos homens nem percebem a Sua 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15772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Essa poderosa força, na qual todos estamos mergulhados, mantém o Universo em movimento, faz pulsar o coração dos pássaros, dos bandidos e dos homens de b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na mais perfeita leveza</a:t>
            </a:r>
            <a:r>
              <a:rPr b="1" lang="pt-BR" sz="1800" spc="-1" strike="noStrike">
                <a:solidFill>
                  <a:srgbClr val="66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5832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Até mesmo a morte, chega de mansinho e, como hábil cirurgiã, rompe os laços que prendem a alma ao corpo, libertando-a do cativeiro físic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276640"/>
            <a:ext cx="449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O verdadeiro poder chega: sem          ruído, sem alarde e sem viol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ATT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7561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Sempre que a palavra poder lhe vier à mente, lembre-se do Sol: nasce e se põe em profunda quietude; move gigantescos sistemas planetários, mas penetra suavemente pela vidraça de uma janela e você só sabe pelo calorzinho que ele proporcio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064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Aprende com o silêncio a ouvir os sons interiores da sua alma, a calar-se nas discussões e assim evitar tragédias e desafet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300640"/>
            <a:ext cx="802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prende com o silêncio a aceitar alguns fatos que você provocou, a ser humilde deixando o orgulho gritar lá fora, evitar reclamações vazias e sem sentido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620640"/>
            <a:ext cx="456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carinha as pétalas de uma flor sem a ferir, beija as faces de uma criança adormecida sem a acorda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6760" y="110016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"Bem aventurados os mansos, porque eles possuirão a Terra".</a:t>
            </a:r>
            <a:r>
              <a:rPr b="0" lang="pt-BR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95640" y="5373360"/>
            <a:ext cx="6696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1" lang="pt-BR" sz="2400" spc="-1" strike="noStrike">
                <a:solidFill>
                  <a:srgbClr val="66ffff"/>
                </a:solidFill>
                <a:latin typeface="Arial"/>
                <a:ea typeface="굴림"/>
              </a:rPr>
              <a:t>"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O êxito ou o fracasso de sua vida não depende de quanta força você põe em uma tentativa, mas da persistência no que fizer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60280"/>
            <a:ext cx="7705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"Boa Terra em teus pés, Água o bastante em tua semente, bom Vento para o teu sopro, Fogo em teu cor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e muito Amor em teu se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pt-BR" sz="1400" spc="-1" strike="noStrike">
                <a:solidFill>
                  <a:srgbClr val="66ffff"/>
                </a:solidFill>
                <a:latin typeface="Arial"/>
              </a:rPr>
              <a:t>(J.Y.Leloup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4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AT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DESEJO UMA SEMANA DE PAZ E SILÊNCIO PARA VOCÊ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5445000"/>
            <a:ext cx="2735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ff"/>
                </a:solidFill>
                <a:latin typeface="Arial"/>
              </a:rPr>
              <a:t>IMG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ff"/>
                </a:solidFill>
                <a:latin typeface="Arial"/>
              </a:rPr>
              <a:t>Música:Conquest of parad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549360"/>
            <a:ext cx="6335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66ffff"/>
                </a:solidFill>
                <a:latin typeface="Arial"/>
              </a:rPr>
              <a:t>E em respeito a você, eu me calo, me silencio, para que você possa ouvir o seu interior que quer lhe falar, desejar-lhe uma vida vitoriosa .</a:t>
            </a:r>
            <a:r>
              <a:rPr b="0" lang="pt-BR" sz="2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300"/>
                            </p:stCondLst>
                            <p:childTnLst>
                              <p:par>
                                <p:cTn id="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430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549360"/>
            <a:ext cx="63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ffff"/>
                </a:solidFill>
                <a:latin typeface="Arial"/>
              </a:rPr>
              <a:t>Aprende com o silêncio a reparar nas coisas mais simples, valorizar o que é belo, ouvir o que faz algum sentid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12840" y="5589720"/>
            <a:ext cx="70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T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333360"/>
            <a:ext cx="712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prende com o silêncio que a solidão não é o pior castigo, existem companhias bem piores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300640"/>
            <a:ext cx="8208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prende com o silêncio que a vida é boa, que nós só precisamos olhar para o lado certo, ouvir a música certa, ler o livro cert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91280" cy="4608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Aprende com o silêncio que tudo tem um ciclo, como as marés que insistem em ir e voltar, os pássaros que migram e voltam ao mesmo lugar, como a Terra que faz a volta completa sobre o seu próprio eixo, complete a sua tarefa.</a:t>
            </a:r>
            <a:r>
              <a:rPr b="0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4941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T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71640" y="620640"/>
            <a:ext cx="64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prende com o silêncio a respeitar a sua vida, valorizar o seu dia, enxergar em você as qualidades que você possui, equilibrar os defeitos que você tem e sabe que precisa corrigir e enxergar aqueles que você ainda não descobriu .</a:t>
            </a:r>
            <a:r>
              <a:rPr b="0" lang="pt-BR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76327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Aprende com o silêncio a relaxar, mesmo no pior trânsito, na maior das cobranças, na briga mais acalorada, na discussão entre familiar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2943360" cy="148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551664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prende com o silêncio a respeitar o seu "eu",</a:t>
            </a:r>
            <a:r>
              <a:rPr b="0" lang="pt-BR" sz="2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 valorizar o ser humano que você é, a respeitar o Templo que é o seu corpo, e o Santuário que é a sua vida.</a:t>
            </a:r>
            <a:r>
              <a:rPr b="0" lang="pt-BR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0920" y="1700280"/>
            <a:ext cx="5185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Aprende hoje com o silêncio, que gritar não traz respeito, que ouvir ainda é melhor que muito fala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ATT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424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굴림"/>
              </a:rPr>
              <a:t>   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Na natureza tudo acontece com poder e silêncio, com um silêncio poderoso; por vezes, o silêncio é confundido com fraqueza, apatia ou indiferenç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    </a:t>
            </a:r>
            <a:r>
              <a:rPr b="0" lang="pt-BR" sz="2000" spc="-1" strike="noStrike">
                <a:solidFill>
                  <a:srgbClr val="66ffff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708280"/>
            <a:ext cx="460836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66ffff"/>
                </a:solidFill>
                <a:latin typeface="Arial"/>
              </a:rPr>
              <a:t>Pensa-se que a pessoa portadora dessa virtude está impedida de reclamar seus direitos e deve tolerar com passividade todos os abu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21:11:26Z</dcterms:created>
  <dc:creator>Irene</dc:creator>
  <dc:description/>
  <dc:language>en-US</dc:language>
  <cp:lastModifiedBy>Irene</cp:lastModifiedBy>
  <dcterms:modified xsi:type="dcterms:W3CDTF">2007-06-09T01:11:51Z</dcterms:modified>
  <cp:revision>7</cp:revision>
  <dc:subject/>
  <dc:title>O silêncio</dc:title>
</cp:coreProperties>
</file>