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eorge%20Winston%20-%20Pachelbel%20Canon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4B7-25C4-44C9-BE0B-E340AB7E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531-EF0A-4A0C-A304-6CDDB96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A3C-0BE5-4F52-9969-C0807E55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23E-9CE4-4763-8061-7408844B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8A0-85E3-4A26-BA8B-F1701F0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FE0-8D27-4B68-978A-260F7615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EDA-FDFF-4E57-9A0F-C1DFDB7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445-49EB-4FCE-BFC1-1FDB95E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A1B-6515-4300-8341-D7D0394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B7A-535F-4FD7-968B-3DC2E98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0EC-7985-4A3D-81ED-8C901BC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8A2-3A18-4D94-82A2-410CF084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63C-2810-4390-A012-B320CABC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George%20Winston%20-%20Pachelbel%20Canon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27280" y="1197000"/>
            <a:ext cx="431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u Carma</a:t>
            </a:r>
            <a:endParaRPr b="0" lang="en-US" sz="5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205000"/>
            <a:ext cx="489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ncisco do Espírito Santo Neto,                                 pelo Espíri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05360"/>
            <a:ext cx="914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600696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ação: Simone Pereira Rodrigues                                Música: George Winston - Pachelbel Ca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George%20Winston%20-%20Pachelbel%20Can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333360"/>
            <a:ext cx="73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as ações, atos e atitudes                                          geram ações, atos e atitu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421000"/>
            <a:ext cx="6912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u carma é o efeito daquilo que causas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78560" y="476280"/>
            <a:ext cx="36018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 teu carma, mudando tuas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4365720"/>
            <a:ext cx="3311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transformares teu modo de Ser,                           transformarás as reações na tua existênci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65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24000" y="404640"/>
            <a:ext cx="5132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m joga rosas é a primeira pessoa a se perfu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6012000"/>
            <a:ext cx="7200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m atira lama, é o que mais se enlam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15920"/>
            <a:ext cx="8372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s modificar o teu carma, aceitando o teu hoje e reprogramando tuas atitudes desagradá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7340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uém te machuca, tu é que te machucas,                                     mas não percebes; por isso acusas os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5920"/>
            <a:ext cx="4174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uém te faz infeliz,                  tu é que esperas que os outros te façam fel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2781360"/>
            <a:ext cx="532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i do Retorno faz com que tudo sempre volte ao ponto de par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8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68360" y="476280"/>
            <a:ext cx="5183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, é importante lembrare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280" y="2492280"/>
            <a:ext cx="826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se mudares tuas ações, estarás mudando o teu ca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3068640"/>
            <a:ext cx="619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erros acontecem para ensin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645000"/>
            <a:ext cx="7200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edificação íntima requer esforço pesso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437000"/>
            <a:ext cx="642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daquilo que deste, receberás multipl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65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260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U CARMA É O RESULTADO DE  TUAS 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da um de acordo com o seu comportamen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44280"/>
            <a:ext cx="79930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 atentamente a ligação                                                                       entre situações, idéias e acontec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 a veracidade de tudo o que acontece em tua existência e verás que não são por si só os fatos de vidas passadas que te complicam a existência na atualidade, e sim a perpetuação dos velhos modos                de pensar e de agir, das crenças incoerentes                         e dos pontos de vista contradi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59400" y="558648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us te ilu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0:51:44Z</dcterms:created>
  <dc:creator>Simone Pereira Rodrigues</dc:creator>
  <dc:description/>
  <dc:language>en-US</dc:language>
  <cp:lastModifiedBy>Simone</cp:lastModifiedBy>
  <dcterms:modified xsi:type="dcterms:W3CDTF">2008-06-30T01:20:42Z</dcterms:modified>
  <cp:revision>14</cp:revision>
  <dc:subject/>
  <dc:title>Teu Carma - Hammed</dc:title>
</cp:coreProperties>
</file>