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lanj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3B8-10EF-42F8-8219-E6BCB221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F40-9665-4633-8F9F-9C8B71C7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805-0BA6-453D-966D-4CA41768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AB8-4330-4C12-B3E5-E234AB51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41F-C894-4F52-BA0F-E628EE82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2F0-392A-4535-9E4A-B315252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9E3-4C2E-43D3-87F0-2B19C388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AF4-6370-4C28-84D5-D5F98324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F5D-8CB5-4694-B3C0-A56BB4EE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FF1-7D6C-4153-8385-B4203903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D0D-56E9-4CE5-BC56-29B786D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06B-A655-4496-8389-712C0AB2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6EE4-E052-4DFE-8ACB-07A9611E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lanj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828800"/>
            <a:ext cx="716292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Niagara Solid"/>
              </a:rPr>
              <a:t>O  MEL E A CANE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Niagara Solid"/>
              <a:ea typeface="Niagara Solid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spital Espiritual Dr. Adolfo Bezerra de Mene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37044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Qual é o único alimento que não estrag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1360" y="699480"/>
            <a:ext cx="515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O mel de abelh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401560"/>
            <a:ext cx="861048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mistura de mel e canela cura a maioria das doenças.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el é produzido em quase todos os países do mundo.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pesar de ser doce, a ciência demonstrou que, tomado em doses normais como medicamento, o mel não faz mal nem aos diabético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revista canadens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Weekly World New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na sua edição de 17/01/1995, publicou uma lista das doenças que são curadas pelo mel, quando misturado com cane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80880"/>
            <a:ext cx="6248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585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NÇAS DO C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ça uma pasta de mel com canela. Coloque no pão e coma-o regularmente no café da manhã, no lugar da manteiga e geléia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 reduzirá o colesterol das artérias e prevenirá problemas no coração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mbém previne novos infartos nas pessoas que já tiveram um ant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so regular deste processo diminui a falta de ar e fortalece as batidas do coração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 Estados Unidos e Canadá, se utiliza esta pasta continuamente nos asilos. Descobriu-se que o mel com canela revitaliza e limpa as artérias e veias dos pacientes id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45936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RITE E INFECÇÕES DE RI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turar uma xícara de água morna com 02 colheradas de mel e 01 colherinha de canela em pó. Beber uma xícara de manhã e uma de noit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omar com freqüência pode até curar a artrite crônica, além de eliminar os germes que produzem infecção nos ri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a pesquisa feita na Universidade de Kopenhagen,  os médicos deram aos seus pacientes diariamente, antes do café da manhã, 01 colherada de mel e meia colherada de canela em pó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 uma semana, de 200 pacientes que seguiram o tratamento, 75 deixaram de ter dor inteirament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mês depois, todos os pacientes estavam livres da dor, mesmo aqueles que quase já não conseguiam camin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26028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ESTEROL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colheradas de mel com 03 colherinhas de canela misturados em meio litro de água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ar 03 vezes ao di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to reduz o colesterol em 10%, em duas hora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ado diariamente, elimina o colesterol rui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349360"/>
            <a:ext cx="859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FRIADO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curar completamente sinusite, tosse crônica e resfriado comum ou severo, misturar 01 colherada de mel com 01 colherinha de canela em pó e tomar com freqü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0200" y="3933360"/>
            <a:ext cx="840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R DE GARG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olherada de mel, misturada com meia colher de vinagre de sidr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ar de 4 em 4 h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07852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DA DE PES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riamente, meia hora antes de deitar e meia hora antes de tomar o café da manhã, beba mel com canela numa xícara de águ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beber todos os dias, reduz  o peso até de pessoas muito ob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HICE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bém evita os estragos da idade quando se toma regularmen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ture 01 colherada de canela e 03 xícaras de águ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va para fazer um chá. Quando amornar, coloque 04 colheradas de mel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ber um quarto (1/4) de xícara, 03 ou 04 vezes ao di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ém a pele fresca e suave, e, diminui os sintomas da idade avançad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ber este chá alonga a vida e até uma pessoa de 100 anos pode melhorar muito e se sentir como alguém muito mais jov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81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DA DE CABEL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que sofrem de calvície ou estão perdendo o cabelo, podem aplicar uma pasta de azeite de oliva (aqueça o óleo até uma temperatura suportável à pele), 01 colherada de mel e 01 colherinha de canela em pó, no couro cabeludo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ixar por 15 minutos antes de lava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i comprovado que é eficiente mesmo quem deixar a pasta na cabeça somente 05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928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R DE DENT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zer uma pasta com 01 colherinha de canela e 05 colherinhas de mel e aplicar no dente que está doendo. Repita pelo menos 03 vezes ao di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ADAS DE INSET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ture 01 colherinha de mel, 02 colherinhas de água morna e 01 colherinha de canela em pó. Faça uma pasta com os ingredientes e esfregue-a suavemente sobre a picad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or e a coceira irão desaparecer em um ou dois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istura de mel com canela alivia os gases no estômago, fortalece o sistema imunológico e alivia a indiges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440" y="37155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SERVAÇ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5400" y="364428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EL NÃO DEVE SER FERV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5280" y="4561200"/>
            <a:ext cx="584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aços frater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po Alternativo Amor e Luz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 Espiritual Dr. Adolfo Bezerra de Mene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Brigadeiro Galvão, 684 - Barra Fund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Paulo -  Capital - Bras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1) 3822.56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08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2:26:46Z</dcterms:created>
  <dc:creator>GILBERTO.</dc:creator>
  <dc:description/>
  <dc:language>en-US</dc:language>
  <cp:lastModifiedBy>Itaipu Binacional</cp:lastModifiedBy>
  <dcterms:modified xsi:type="dcterms:W3CDTF">2008-11-25T15:55:25Z</dcterms:modified>
  <cp:revision>3</cp:revision>
  <dc:subject/>
  <dc:title>Slide 1</dc:title>
</cp:coreProperties>
</file>