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.jpeg" ContentType="image/jpeg"/>
  <Override PartName="/ppt/media/.Ave%20Maria.wav" ContentType="audio/x-wav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AD1-AFE8-48AE-9C97-233BE1D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F36-0459-4AE5-8E2E-0095E6A2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EBB-7B13-4AF6-9280-2F532C42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5F1-01B4-400F-BF7B-113CCEE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B65-EF87-4F99-8395-879C150B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F75-BA53-4004-B456-17D55AE9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B2A-8D0F-40BA-A558-5B5E364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371-A78A-4D15-8038-D1FCA63E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DD-CFC5-414A-B60B-AC003CA4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8FC-672C-4D72-A5D9-05FD1F8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EE9-4A20-476F-B4F4-95DE46F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BE0-97D4-48F6-96B6-F42D9B8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9D0D-A946-49FD-B3D8-CC9DC4BB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Ave%20Mari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.Ave%20Maria.wav" TargetMode="External"/><Relationship Id="rId3" Type="http://schemas.microsoft.com/office/2007/relationships/media" Target="file:///tmp/home/.config/libreoffice/4/user/gallery/.Ave%20Maria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PLICA À 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5616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ão belas as estrelas lá n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do estão à bril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ém, não são tão luz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o os olhos de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do estão à rez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edge/>
    <p:sndAc>
      <p:stSnd>
        <p:snd r:embed="rId2" name=".Ave%20Mari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natureza sufoc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rre um pouco a cada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do solve esse veneno le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gresso com alta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5075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ém, ainda vejo uma luz no fim do tú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rada nos seus olhos complac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 apesar dos pesares nos abenç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o se fossemos crianças inoc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69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primavera quando ch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Faz sorrir a nat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Mas nada se compara à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Quando na hora do Ângelo nos vis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Repleta de amor, carinho, ternura e suti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54100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nte dessa dádiva de D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ó nos resta di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os felizes e agradecemos,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que podemos contar sempre com voc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LICA À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O E FORMAT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ideval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ÚS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 M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PR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ie W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A-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clubedoscompositores.com.br/novideval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yspace.com/novid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7632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O murmúrio das ondas do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Produz um som que enaltece a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Porém, não há sinfonia mais perf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Que a voz de Maria quando silenciosamente nos f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suavidade do orvalho ao amanh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slizando sobre a pétala de um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pressa momentos de po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rem, não há nada mais subl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e ser tocado pelas mãos da Virgem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5338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s olhos meigos de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ntrei a Luz que ilumina meu cam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s suas mãos que abenç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erteza de que nunca estou soz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353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ssa Senhora de Fátima, Nossa Senhora de Lou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ssa Senhora Aparecida, Nossa Senhora da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ssas e outras se resumem numa s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ia de Nazaré, a Mãe de J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3970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uta Mãe Santíss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preces dos filhos s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 tempo que lhe suplica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doa nossas ofe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 nome de D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789000"/>
            <a:ext cx="56167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Pois 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Num caos se transfor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E a humanidade ingere di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Um coquetel de violê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Com falta de am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É por isso Mãe querida, Mãe de J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Que suplico, por mim e meus ir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Que navegam nesse barco sem dir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680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foi por falta de av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caos que hoje estamos viv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is os profetas já dizi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m viver ver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rdade estamos v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5915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 como con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ciamos constant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 contraste que se ex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chente que mata veloz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quanto a seca mata sem 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2:28:43Z</dcterms:created>
  <dc:creator>Diolino</dc:creator>
  <dc:description/>
  <dc:language>en-US</dc:language>
  <cp:lastModifiedBy>Diolino</cp:lastModifiedBy>
  <dcterms:modified xsi:type="dcterms:W3CDTF">2010-05-26T17:57:29Z</dcterms:modified>
  <cp:revision>2</cp:revision>
  <dc:subject/>
  <dc:title> SUPLICA À MARIA</dc:title>
</cp:coreProperties>
</file>