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James%20Taylor%20-%20At%20Christmas%20-%2012%20-%20Auld%20Lang%20Syne2.wav" ContentType="audio/x-wav"/>
  <Override PartName="/ppt/media/image24.gif" ContentType="image/gif"/>
  <Override PartName="/ppt/media/image32.jpeg" ContentType="image/jpeg"/>
  <Override PartName="/ppt/media/image2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Enya%20-%20Gladiator%20Soundtrack2-%20Now%20We%20Are%20Free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71D-87DE-4FE9-8A33-4BB709DD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E77-03E6-41EA-82EC-BA8A278D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728-056E-4CF6-B858-3FEC60A2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74F-0146-469F-B2AC-B5E6E3D4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830-E296-48F4-B5B0-0A98D3E9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FA6-7E9C-4A7F-8676-7226F83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C81-6E9C-491F-98B8-5ADEC50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136-1A51-497F-837D-F8C2F98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B50-EE20-4F86-9CEB-59D3CE3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293-2342-4A01-B687-D4292AC3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C5B-451E-4C3B-BEC1-A108195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518-3D76-4093-8542-DDF9179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776-697E-4C38-AD05-156F0CA0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%20-%20Gladiator%20Soundtrack2-%20Now%20We%20Are%20Fre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James%20Taylor%20-%20At%20Christmas%20-%2012%20-%20Auld%20Lang%20Syne2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8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A cerca de 4 500 000 anos a.C. , o Arcanjo Miguel, com a sua equipe de anjos da Chama Azul e muitos seres do Reino de Luz, com a bênção do Pai-Mãe-Deus, escoltaram para este planeta as primeiras Almas que se tornariam a semente da raça lemuriana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667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Atlântida e a Lemúria tornaram-se vítimas da sua própria agressão e as terras-mãe de cada continente enfureceram-se por aquelas guer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667480"/>
            <a:ext cx="917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pessoas foram então informadas, através dos sacerdotes de que, em menos de 15 000 anos, os seus continentes seriam destru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m, com o objetivo de obterem permissão para construir 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dade e tornar-se parte da rede subterrânea de Agartha, os Lemur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veram de provar a muitos organismos, como a Confederação Gal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 Planetas, que haviam aprendido a sua lição a partir dos anos de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agress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 a permissão concedida, 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murianos construíram a sua cidade, denominada Telos,com o propósito de albergar aproxima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 000 pessoas. De fato, quando o continente foi destruído, 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onteceu um pouco antes do previsto, muitas pessoas não consegui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gar à cidade de Telos a tempo e, quando o cataclismo ocorre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enas 25 000 pessoas chegaram ao interior da montanha e foram salv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sabido que a amada mãe-pátria desapareceu numa noite. Disse o Mestre Himalaya, através de Geraldine Innocenti (a Chama Gêmea de El Morya), a maioria dos sacerdotes permaneceram fiéis à Luz e ao seu sagrado chamado; como capitães de um navio a afundar, permaneceram nos seus postos. Destemidos até ao fim, cantavam e oravam enquanto se afundavam sob as va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8480" y="5392800"/>
            <a:ext cx="818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inda antes de a Lemúria submergir, alguns destes sacerdote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cerdotisas regressaram a casa nesse continente e ofereceram-se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oluntários para desaparecerem com a terra e o seu povo, pres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oio com a sua irradiação, espalhando conforto e co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 verdade, essa ajuda foi oferecida para contrapor o medo que acompanha sempre as atividades cataclísmicas. Estes afetuosos benfeitores, pela irradiação do seu sacrifício, rodearam, literalmente, as auras das pessoas num manto de paz, permitindo assim a criação de um veículo de libertação do medo, de modo a que os corpos etéreos daqueles fluxos de vida não fossem tão severamente mar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254560"/>
            <a:ext cx="81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itos membros da classe sacerdotal colocaram-se em pequenos grupos estratégicos, em vários locais, e rezaram e cantaram à medida que  afundavam sob as águas. A melodia que cantavam era a mesma que atualmente é conhe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ld Lang Sy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25456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ravés da ação e sacrifício destes sacerdotes, escolhendo ficar juntos em grupos e cantando até ao final, muito medo foi mitigado, mantendo-se um certo nível de harmonia e, deste modo, o dano e o trauma para as Almas que pereceram foram enormemente diminu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5667480"/>
            <a:ext cx="91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idéia de suporte desta ação era a de que todas as experiências horríveis dei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a cicatriz e um trauma profundo no corpo etéreo e na memória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s pessoas, que leva várias vidas a cu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8800" y="0"/>
            <a:ext cx="78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s Almas novas encarnadas neste planeta vieram originalment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rra de MU, no Universo de Dahl. Nessa altura, a Terra expressava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odo o lado uma perfeição, uma abundância e uma beleza difícei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maginar hoje em 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1520" y="5942160"/>
            <a:ext cx="75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inalmente, outras raças de Sírius, Alfa Centauro e Plêiades, e 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lguns planetas, vieram e juntaram-se a estas Almas-“semente”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mbém elas evoluí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 sacerdotes e os músicos que os acompanhavam cantaram e rezaram até à chegada das ondas e da água ao nível das suas bocas até ao momento em que desaparece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920" y="5392800"/>
            <a:ext cx="915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ante a noite, enquanto as massas dormiam, sob um céu estrelado, tudo terminou, a amada Mãe-Pátria foi submersa sob o Oceano Pacífico. Nenhum dos sacerdotes abandonou o seu posto e nenhum evidenciou qualquer medo. A Lemúria desapareceu com dignid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ld Lang Syn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i a última canção para sempre ouvida na Lemú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 noite pedir-vos-ei para cantarem esta canção de novo como parte da nossa apresentação. As pessoas da Terra trouxeram novamente esta canção através do povo irlandê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mos esses antigos conhecidos reunindo-se de novo. Aqueles de nós pertencentes ao Reino tridimensional estão reunidos agora, em consciência, com os seus antigos amigos e membros da família da Lemúr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çam bem dentro dos vossos corações, meus amigos, esta próxima afirmaçã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tes do afundamento completo da Lemúria, foi profetizado que, um dia, num futuro algo distante, muitos de nós se reuniriam em grupos e cantaríamos esta canção de novo, sabendo, com toda a certeza, que a “Vitória da Terra” estava garan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1181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É quase com lágrimas nos olhos que eu vos faço saber de Adama, que m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 vós nesta sala, esta noite, estavam entre aquelas valentes Almas que sacrificaram a vida para benefício coletivo. Aplaudamos a vossa coragem de então e rejubilemos agora pelo nosso reencontro, para continuar a grande missão lemuriana, de assistência da Humanidade e do planeta, na senda da sua gloriosa ascens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 Novo Dia, o Novo Mundo, está mesmo a nascer. Aprendemos as nossas lições de Amor e a Nova Lemúria, o paraíso reencontrado, está quase a manifestar-se de no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97988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mos aqui esta noite para co-criar em conjunto uma muito importante limpeza e cura para o nosso planeta e para todos vós também. Vamos chamar a isto a primeira limpeza dos antigos registros lemurianos dolorosos, ainda remanescentes nos corações e Almas da maioria das pesso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667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 tempo da nossa separação está quase a acabar e estamos agora a religar coração a coração com o maior número de vós,dia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52924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quemos agora em silêncio durante uns breves momentos e peço-vos para estabelecerem as vossas intenções de terem os vossos próprios registros limpos e sanados. Mergulhem profundamente no vosso co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66760" y="1906560"/>
            <a:ext cx="42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pois de pedirem a limpeza para vós próprios, peçam silenciosamente, no vosso coração, com a permissão dos Eus Superiores deles, limpeza e cura para toda a humanidade que pode, nesta altura, ter os seus próprios registros lim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20" y="6491160"/>
            <a:ext cx="94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múria, a Mãe-Pátria, tornou-se o berço de uma civilização iluminada neste plan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948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66760" y="1906560"/>
            <a:ext cx="42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riamos a Nova Lemúria na 5.ª dimensão, um paraíso de maravilhas e magia. Tudo quanto sonharam está aqui e muito mais. Quando chegar o momento, em conjunto com todos vós, estenderemos a Lemúria à dimensão da superfície deste planeta. Ensinar-vos-emos tudo quanto sabemos e tudo o que aprendemos nestes últimos 12 00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o nosso isolamento das pessoas da superfí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66760" y="1906560"/>
            <a:ext cx="42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u Sou Adama e comigo os companheiros Lemurianos, em conjunto, aplaudimos a vossa vit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66760" y="1906560"/>
            <a:ext cx="42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66748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Bodoni MT Black"/>
              </a:rPr>
              <a:t>Criação: H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Bodoni MT Black"/>
              </a:rPr>
              <a:t>Músicas: Ennya -The Gladiator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Bodoni MT Black"/>
              </a:rPr>
              <a:t>James Taylor </a:t>
            </a:r>
            <a:r>
              <a:rPr b="1" i="1" lang="pt-BR" sz="1800" spc="-1" strike="noStrike">
                <a:solidFill>
                  <a:srgbClr val="ffff00"/>
                </a:solidFill>
                <a:latin typeface="Bodoni MT Black"/>
              </a:rPr>
              <a:t>Auld Lang Syne</a:t>
            </a:r>
            <a:r>
              <a:rPr b="0" lang="pt-BR" sz="18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Bodoni MT Black"/>
              </a:rPr>
              <a:t>Em unidade eu sou Esh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843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sse tempo,a Terra existia numa expressão de 5.ª dimensão e eles viviam principalmente nos seus corpos vibracionais de Luz de 5.ª dimensão, com a capacidade de diminuírem a sua vibração para experimentarem, nos seus corpos, níveis vibracionais mais densos, voltando para os corpos de Luz quando quises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ra Lemuriana estendeu-se de aproximadamente 4 500 000 a.C. até cerca 12 000 anos atr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881600"/>
            <a:ext cx="9144000" cy="2014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O território pertencente ao gigantesco continent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Lemúria incluía as terras atualmente sob o Oceano Pacífico, 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como o Havaí, as Ilhas de Páscoa, Fidji, a Austrália e a Nova Zelân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O continente incluía também terras no Oceano Índico e Madagas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A costa este da Lemúria prolongava-se até à Califórnia e parte da Colú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pyrus"/>
              </a:rPr>
              <a:t>Britânica no Cana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 25 000 anos atrás, a Atlântida e a Lemúria,duas das mais desenvolvidas civilizações daquele tempo, batiam-se uma contra a outra por causa das “ideologi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94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nham duas idéias diferentes acerca de qual seria a direção indicada para a continuidade de outras civilizações neste planeta. Os Lemurianos acreditavam que as outras civilizações menos evoluídas deveriam ser deixadas sozinhas para continuar a sua própria evolução, ao seu próprio ritmo, de acordo com os seus próprios entendimentos e cami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sua vez, os Atlantes pensavam que as culturas menos evoluídas deveriam ser controladas pelas duas civilizações mais evoluí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discórdia causou uma série de guerras termonucleares entre a Atlân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a Lemúria. Quando as guerras acabaram e a poeira assentou não sobravam venc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nosso povo, como muitas outras civilizações, caiu definitivamente para o nível da 4.ª dimensão e, mais tarde, por completo para o da 3.ª dimens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22:26:17Z</dcterms:created>
  <dc:creator>Hedi</dc:creator>
  <dc:description/>
  <dc:language>en-US</dc:language>
  <cp:lastModifiedBy>Hedi</cp:lastModifiedBy>
  <dcterms:modified xsi:type="dcterms:W3CDTF">2007-08-01T17:39:31Z</dcterms:modified>
  <cp:revision>13</cp:revision>
  <dc:subject/>
  <dc:title>Slide 1</dc:title>
</cp:coreProperties>
</file>